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3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3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3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3BCF-3DB0-49CC-8D53-D0D9EE97E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B615-4E60-409A-ACA2-D172E657B0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4BD-A35F-4926-BA5E-ABE8216A32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DF8-539F-4A85-837F-ECE43DE3FD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BC0F-3F0C-4D8B-9635-8B9C427416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02B-69EF-4833-A766-52C94178D7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445-9776-48F0-8937-8931D984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95C-FE43-46BB-851B-FC357645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240A-74D8-49E6-A2E0-4A78BA3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F94D1-6E92-451D-8D05-890ABF0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DA282-E879-4CEF-83B0-D7D100F7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A27D4-8C98-4FEA-AEA8-30672B82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F8EC1-F6C4-4309-B55D-404891C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8D8D-DC20-4A9A-95E8-9E4B7D3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9915A-A2D9-49C0-AABF-9DD4A9AB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4D801-DB59-4F92-A76A-29AD88EC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9937B-1616-4329-9A91-526F241B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B7BBE-275D-45F4-83F7-4E4881E4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245-40F4-48E6-AAEB-80E22A97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35B21-2569-4EF3-8950-CCE1EC5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4532-9113-49BE-AFFD-15FB26FD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1EB0F-73C0-4848-AA9E-BDEE51FF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5F06-93AE-4A7C-9308-7321F8C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AB2CB-1092-4282-8BD0-F9318106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8EA2F-96DF-4026-810A-956D5A1E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E9558-48F9-4E5C-BF7C-7C9ED40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A69E-7EA6-4562-873C-A0ADAED6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38C81-114E-4070-8D6D-1CDD1D7B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3A7F1-A1FB-41FC-AF11-90A5CEC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B7C-60B9-409C-8A7B-55A85628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42878-6DAA-4775-BAD1-A9ABCE1A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06513-716D-4EAD-B2CF-C1255D45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FCA7F-8671-434F-B0DB-5F834896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D2C88-7B10-4423-83A4-DE5C720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753F-AB21-4D04-BF6D-9CA292E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D651D-EBCE-4C51-850A-4CC03E82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E5DA-5AF2-4CA7-BDEB-86CBE8F2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0AA21-DFBF-4383-8BB4-DFADE92B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780BE-2C18-41A0-8FEE-7C57EC7C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54370-3491-455D-A6B1-208FB65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62CC-465C-4B48-9CA4-47470E8F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5139C-2FCA-455C-9610-002F656B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46834-6502-4932-B9D6-353FC51B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75E3-63B8-4ABB-B2B2-65DB9779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2F504-C7B3-4EDF-921F-2D60C30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16E11-F470-40B3-923C-3302594C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BA612-3737-499E-86C8-75C61B25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1EFD7-0960-44C4-9BC9-578EC2E2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D0D52-4D81-40E5-BD2D-BABBF6DB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F6B0D-D62E-4E2D-8AF9-71B6C029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FA51B-C581-466F-96C3-5001468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D5A3-BDEA-4D5F-851C-E5CBC55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65C02-69D0-4850-A82E-6CE60294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437DA-6A56-4018-971F-ADA574D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D847D-047C-4A83-BDE7-52A26F9A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A5AFB-7F2B-4448-9466-B2560EE1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CC403-A50D-4E2E-9933-F24AD223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2B17-5862-4E6B-9E25-317E8811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FF61-EF96-4DAC-8B47-E3E0459E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4436-635D-4A28-B603-10234A3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5695-D2C4-4C40-AF9F-EDD3C4E1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162-E956-4E6A-B3E6-6622E243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8CF-25E9-4443-9381-982A9F30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87F-10BD-40E2-8901-B4D4D1E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2F5C-1CF3-465F-BDF7-339C805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AE6-1E1F-4B72-B3A8-6FF0034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CDE0-3787-413F-996A-520FE4DC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E4A-1B7F-4557-BE34-847805F3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5D11-92A1-4DDB-9C83-30562177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534E-EC53-45F7-BECC-28B003F3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CD3E-DC4F-476C-896C-96A318B5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5BE15-4FAD-401C-8D10-10A55398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DC22-D51B-4508-AAA9-E7DF6AA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B34-6EE4-4EE7-9C12-98190AB5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28CD-B142-4AB0-A76F-812A4CC1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E783-6FEA-4584-B116-14553772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B3E0-5C37-47B2-A1EF-2048A572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17CA-EB8C-49E1-B26D-D7752596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A8C1D-88D6-4F4E-BDBD-22BE3F43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6F6A-56D2-482A-9101-7EA8CB17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F857-E9B4-4DBE-A8CA-71585A2E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15AF-3F1F-4316-8604-603368FF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9851-A848-4A14-ACCA-7BC07379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15B9-25E4-423F-B745-56DCCAF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6D24-27EE-4FD7-87EF-90F9457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B22E-C855-4B7D-9017-5EEE0E82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9340-07A5-4779-B505-8E0B4C1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CAAFB-C81B-4515-9357-413FC4D9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A03DC-010C-4935-B34E-83BAA9C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AA836-075F-40BF-BFF2-42FEFDC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863E7-911D-4CC4-8E00-8787723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B094-0B6E-4F86-B1DD-25CBA9B6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4C9F-6C67-4EB9-8AF1-3A451168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F92F-07BF-4DAD-9D0E-2BC5C57A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3B70-1905-485F-9B25-CF24BE6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D2A-5ABF-4813-9163-87BC166A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063BA-B9BB-4E03-AA33-0E4B5702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6E5C2-6C55-473E-9D4C-93ED8EB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ED51-2B26-4E8E-951A-4C88E7A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C378-EA2A-4F9C-9F6E-B62B12B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9C5E-9353-46A7-A4BF-04B172C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A122B-90CD-4A68-A4D2-ACED6EA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1C9F-E38C-4AEE-B74C-33A5A37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96A1-3A9D-4EEF-BB56-BF12285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8225F-8684-448E-B6F9-1BADB9EC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3011D-492D-4439-9039-2217CEBD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912-3B55-442E-8B65-1CFD5FBC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3319-B0D3-44E1-B1FB-17A6C89F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2F77A-0CD8-462F-8194-1391348D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C8D42-8B4B-425A-9B2B-3ACA7857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51A48-1D65-4DC0-991D-3CADAEB3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880B7-4AC6-4998-A4A8-D6AC39A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15524-3DE2-4849-9DD8-81796F4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60762-3197-407B-9D3C-1FFBD1D1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4E1E2-B7CB-450F-8BCB-5FDF631B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9D825-9E47-4F9B-84EE-C2A1BF8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27B7D-ABE5-4D94-A640-BB8C31A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DF1-3A2B-4777-8A2C-16EB8370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D9504-A621-4B6A-B91B-3371B16B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A3D1F-0D6C-4069-A113-29ACEC61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0102C-D616-4B54-8A3B-66675D95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D2BE2-981E-4956-8B5A-63864249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3BDFA-C86D-4050-AB02-DCED541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3A59F-61B8-46C6-B6F6-AE99178F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7D81-D59C-409A-9D13-868B3F23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0CD5-0071-46D1-979C-5DF29047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78646-2915-47D2-8C24-9936ADE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535F2-FDF1-47CB-BF0D-2294D32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0E3-EE15-4AFC-9E4A-0D95D12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731D2-7B6E-40B7-B8A7-CF6A6F59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89DB1-7DA8-4E6E-B6BB-198A1EA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6FD0-E935-4E48-A9C4-1122FB8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E53C-620C-4352-8BED-5396182C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C0AC3-4B13-4303-98C1-0C6F720A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27CB9-FDF7-4925-817B-EB1E2ABA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AF441-D100-4FC4-8D8C-6CBADEE1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1211-44D9-43A5-8302-7C3FBCEE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3FA64-DC40-4737-9669-E932EBE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D1321-A887-414E-B28F-609198A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76A-760B-4DF8-AC21-7D05FE69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3F17-E95F-4798-BFED-FC6479F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4EFB-AB78-4FBA-8793-31113BC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C1B88-96A4-42E1-9FA9-AB82C8C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A4DF4-96B8-4913-BDA0-FAC2E69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C8B1F-FC67-46DD-A200-6F8C8898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3AE99-08D8-45BF-8916-447FD47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F5D7A-4776-47F2-B030-616DA030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5D127-F085-4C75-A421-4F047C66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37570-0B13-4A37-A4B4-2B150309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224DA-6C1A-44CF-ADC1-14574ABC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BD84-601A-4F75-8201-A1598CE5C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23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7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B3D-757A-4EB7-AAA5-0E6AE26227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5015-4794-4F4B-9219-0004145D3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9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F213-DCE7-4D00-A6E6-D160340CC4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4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Скругленный прямоугольник 4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Скругленный прямоугольник 4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Прямоугольник 47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48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49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50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54AE-E72A-488E-BE5E-7CEC677307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ACCF-1207-4E0C-89EE-91BBA1C9AD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97A-78AA-4263-94FB-FAEA7AED79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7B0-4E2C-41E1-AF6F-8B8812CEE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3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5A07-9D1E-48C6-8CB1-627A0DC1D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4447-2B8F-49B3-9BED-66B9477645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5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CC9-3B63-4443-BAB9-9AE220C304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6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6D5-AFC7-4CC4-AEB0-5C6DB22096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1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16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6.png"/><Relationship Id="rId2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233280" y="596880"/>
            <a:ext cx="87598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5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эквивалентности технических реглам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Прямоугольник 4"/>
          <p:cNvSpPr/>
          <p:nvPr/>
        </p:nvSpPr>
        <p:spPr>
          <a:xfrm>
            <a:off x="92160" y="1854360"/>
            <a:ext cx="875988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национальных технических регламентов (ТР) страны экспортера продукции, ТР интеграционных формирований, созданных государствами-участниками СНГ, эквивалентными национальным ТР страны назначения продук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по признанию технических регламентов эквивалентными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государств-участников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F83-166F-4782-B47B-1EF14346046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Rectangle 4"/>
          <p:cNvSpPr/>
          <p:nvPr/>
        </p:nvSpPr>
        <p:spPr>
          <a:xfrm>
            <a:off x="233280" y="3017880"/>
            <a:ext cx="8618760" cy="1281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ТР страны назначения продукци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е должны противоречить требованиям национального законодатель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ивать выполнение целей, предусмотренных действующим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ми техническими регламентам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Номер слайда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413-401F-44DA-96E6-69088597505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Прямоугольник 4"/>
          <p:cNvSpPr/>
          <p:nvPr/>
        </p:nvSpPr>
        <p:spPr>
          <a:xfrm>
            <a:off x="130320" y="977760"/>
            <a:ext cx="901368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оглашение об устранении технических барьеров во взаимной торговле государств – участников СНГ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олжно основываться н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оговоре о зоне свободной торговли от 11 октября 2011 года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и о проведении согласованной политики в области стандартизации, метрологии и сертификации от 13 марта 1992 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авилах и принципах Соглашения по техническим барьерам в торговле Всемирной торговой организации от 15 апреля 1994 го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Прямоугольник 4"/>
          <p:cNvSpPr/>
          <p:nvPr/>
        </p:nvSpPr>
        <p:spPr>
          <a:xfrm>
            <a:off x="88920" y="4024440"/>
            <a:ext cx="9013680" cy="2075040"/>
          </a:xfrm>
          <a:prstGeom prst="rect">
            <a:avLst/>
          </a:prstGeom>
          <a:solidFill>
            <a:srgbClr val="db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 принятием Соглашен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будут отменены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инципах проведения и взаимном признании работ по сертификации (г. Краснодар, 4 июня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26676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взаимном признании результатов работ по аккредитации в области оценки соответствия (г. Ереван, 22 мая 2003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Oval 7"/>
          <p:cNvSpPr/>
          <p:nvPr/>
        </p:nvSpPr>
        <p:spPr>
          <a:xfrm>
            <a:off x="2900520" y="3328920"/>
            <a:ext cx="3246120" cy="142236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Услови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озданны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в рамках МГ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2805120" y="2023920"/>
            <a:ext cx="35496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надзора за безопасностью взаимопоставляемой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5446800" y="5295960"/>
            <a:ext cx="335736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или гармонизированных процедур оценки (подтверждения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Rectangle 25"/>
          <p:cNvSpPr/>
          <p:nvPr/>
        </p:nvSpPr>
        <p:spPr>
          <a:xfrm>
            <a:off x="117360" y="3435480"/>
            <a:ext cx="255276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межгосударственных стандартов (ГОСТ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6330960" y="3454560"/>
            <a:ext cx="2662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обеспечения единства измерений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AutoShape 21"/>
          <p:cNvSpPr/>
          <p:nvPr/>
        </p:nvSpPr>
        <p:spPr>
          <a:xfrm rot="6275400">
            <a:off x="2805120" y="3313440"/>
            <a:ext cx="212760" cy="443160"/>
          </a:xfrm>
          <a:prstGeom prst="downArrow">
            <a:avLst>
              <a:gd name="adj1" fmla="val 56361"/>
              <a:gd name="adj2" fmla="val 72169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CEB1-1C6C-4380-94A7-F9FB42A3B8B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Text Box 40"/>
          <p:cNvSpPr/>
          <p:nvPr/>
        </p:nvSpPr>
        <p:spPr>
          <a:xfrm>
            <a:off x="-388800" y="67464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ТРАН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166680" y="5353200"/>
            <a:ext cx="3805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38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езультатов работ по аккредитации органов по оценке (подтверждению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AutoShape 21"/>
          <p:cNvSpPr/>
          <p:nvPr/>
        </p:nvSpPr>
        <p:spPr>
          <a:xfrm rot="15148200">
            <a:off x="5987880" y="3330000"/>
            <a:ext cx="212760" cy="403200"/>
          </a:xfrm>
          <a:prstGeom prst="downArrow">
            <a:avLst>
              <a:gd name="adj1" fmla="val 56361"/>
              <a:gd name="adj2" fmla="val 72347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AutoShape 21"/>
          <p:cNvSpPr/>
          <p:nvPr/>
        </p:nvSpPr>
        <p:spPr>
          <a:xfrm rot="18025800">
            <a:off x="5763240" y="4528080"/>
            <a:ext cx="212760" cy="398160"/>
          </a:xfrm>
          <a:prstGeom prst="downArrow">
            <a:avLst>
              <a:gd name="adj1" fmla="val 56361"/>
              <a:gd name="adj2" fmla="val 721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AutoShape 21"/>
          <p:cNvSpPr/>
          <p:nvPr/>
        </p:nvSpPr>
        <p:spPr>
          <a:xfrm rot="10800000">
            <a:off x="4366800" y="2905200"/>
            <a:ext cx="212760" cy="37440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AutoShape 21"/>
          <p:cNvSpPr/>
          <p:nvPr/>
        </p:nvSpPr>
        <p:spPr>
          <a:xfrm rot="2996400">
            <a:off x="3269160" y="4642560"/>
            <a:ext cx="212760" cy="401760"/>
          </a:xfrm>
          <a:prstGeom prst="downArrow">
            <a:avLst>
              <a:gd name="adj1" fmla="val 56361"/>
              <a:gd name="adj2" fmla="val 7208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Прямоугольник с двумя скругленными соседними углами 1"/>
          <p:cNvSpPr/>
          <p:nvPr/>
        </p:nvSpPr>
        <p:spPr>
          <a:xfrm>
            <a:off x="2805120" y="1698480"/>
            <a:ext cx="3549600" cy="32544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Прямоугольник с двумя скругленными соседними углами 16"/>
          <p:cNvSpPr/>
          <p:nvPr/>
        </p:nvSpPr>
        <p:spPr>
          <a:xfrm>
            <a:off x="117360" y="3105000"/>
            <a:ext cx="255276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ТАНДАРТИЗ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8" name="Прямоугольник с двумя скругленными соседними углами 17"/>
          <p:cNvSpPr/>
          <p:nvPr/>
        </p:nvSpPr>
        <p:spPr>
          <a:xfrm>
            <a:off x="6330960" y="3130560"/>
            <a:ext cx="266220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РОЛОГ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Прямоугольник с двумя скругленными соседними углами 20"/>
          <p:cNvSpPr/>
          <p:nvPr/>
        </p:nvSpPr>
        <p:spPr>
          <a:xfrm>
            <a:off x="5446800" y="4971960"/>
            <a:ext cx="335736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ЦЕНКА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Прямоугольник с двумя скругленными соседними углами 21"/>
          <p:cNvSpPr/>
          <p:nvPr/>
        </p:nvSpPr>
        <p:spPr>
          <a:xfrm>
            <a:off x="166680" y="5029200"/>
            <a:ext cx="3805200" cy="32400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ККРЕДИТАЦ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4"/>
          <p:cNvSpPr/>
          <p:nvPr/>
        </p:nvSpPr>
        <p:spPr>
          <a:xfrm>
            <a:off x="506520" y="498600"/>
            <a:ext cx="8461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 БАРЬЕРЫ  В 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 СОДРУЖЕСТВЕ  НЕЗАВИСИМЫХ 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Прямоугольник 7"/>
          <p:cNvSpPr/>
          <p:nvPr/>
        </p:nvSpPr>
        <p:spPr>
          <a:xfrm>
            <a:off x="444600" y="4768920"/>
            <a:ext cx="78357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личный научно-технический уровень национальных экономи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зация национальных экономик в определенных отраслях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народного хозяй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мер по ограничению допуска на рынки продукци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зарубежны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Прямоугольник 4"/>
          <p:cNvSpPr/>
          <p:nvPr/>
        </p:nvSpPr>
        <p:spPr>
          <a:xfrm>
            <a:off x="2508120" y="4265640"/>
            <a:ext cx="41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Создание  дополнительных  технических барьеров в торговл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Правая фигурная скобка 6"/>
          <p:cNvSpPr/>
          <p:nvPr/>
        </p:nvSpPr>
        <p:spPr>
          <a:xfrm rot="5400000">
            <a:off x="4371480" y="1293480"/>
            <a:ext cx="333360" cy="5651640"/>
          </a:xfrm>
          <a:custGeom>
            <a:avLst/>
            <a:gdLst>
              <a:gd name="textAreaLeft" fmla="*/ 0 w 333360"/>
              <a:gd name="textAreaRight" fmla="*/ 120240 w 333360"/>
              <a:gd name="textAreaTop" fmla="*/ 43920 h 5651640"/>
              <a:gd name="textAreaBottom" fmla="*/ 560772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415800" y="2816280"/>
            <a:ext cx="25196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объекты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ого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егулирования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6319800" y="2816280"/>
            <a:ext cx="229860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формы оценки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соответствия объект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TextBox 9"/>
          <p:cNvSpPr/>
          <p:nvPr/>
        </p:nvSpPr>
        <p:spPr>
          <a:xfrm>
            <a:off x="3511440" y="2816280"/>
            <a:ext cx="23018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требования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к объекта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Стрелка вниз 10"/>
          <p:cNvSpPr/>
          <p:nvPr/>
        </p:nvSpPr>
        <p:spPr>
          <a:xfrm flipH="1" rot="2925600">
            <a:off x="2035800" y="2217960"/>
            <a:ext cx="466920" cy="43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Стрелка вниз 11"/>
          <p:cNvSpPr/>
          <p:nvPr/>
        </p:nvSpPr>
        <p:spPr>
          <a:xfrm flipH="1">
            <a:off x="4448160" y="2262240"/>
            <a:ext cx="455760" cy="419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Стрелка вниз 12"/>
          <p:cNvSpPr/>
          <p:nvPr/>
        </p:nvSpPr>
        <p:spPr>
          <a:xfrm flipH="1" rot="19104600">
            <a:off x="7074000" y="2231640"/>
            <a:ext cx="444240" cy="45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1" name="TextBox 13"/>
          <p:cNvGrpSpPr/>
          <p:nvPr/>
        </p:nvGrpSpPr>
        <p:grpSpPr>
          <a:xfrm>
            <a:off x="2152800" y="1511280"/>
            <a:ext cx="5083200" cy="793800"/>
            <a:chOff x="2152800" y="1511280"/>
            <a:chExt cx="5083200" cy="793800"/>
          </a:xfrm>
        </p:grpSpPr>
        <p:pic>
          <p:nvPicPr>
            <p:cNvPr id="762" name="TextBox 13" descr=""/>
            <p:cNvPicPr/>
            <p:nvPr/>
          </p:nvPicPr>
          <p:blipFill>
            <a:blip r:embed="rId1"/>
            <a:stretch/>
          </p:blipFill>
          <p:spPr>
            <a:xfrm>
              <a:off x="2152800" y="1511280"/>
              <a:ext cx="50832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212920" y="1563840"/>
              <a:ext cx="49611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  <a:ea typeface="Arial"/>
                </a:rPr>
                <a:t>Формирование национальных систем технического регулирован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6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4C0C-C3B8-46FB-BAE0-31416E34224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4"/>
          <p:cNvSpPr/>
          <p:nvPr/>
        </p:nvSpPr>
        <p:spPr>
          <a:xfrm>
            <a:off x="5096160" y="3095640"/>
            <a:ext cx="3087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национальных стандарт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6" name="Группа 9"/>
          <p:cNvGrpSpPr/>
          <p:nvPr/>
        </p:nvGrpSpPr>
        <p:grpSpPr>
          <a:xfrm>
            <a:off x="4494240" y="3822840"/>
            <a:ext cx="4516560" cy="2607480"/>
            <a:chOff x="4494240" y="3822840"/>
            <a:chExt cx="4516560" cy="2607480"/>
          </a:xfrm>
        </p:grpSpPr>
        <p:sp>
          <p:nvSpPr>
            <p:cNvPr id="767" name="Овал 10"/>
            <p:cNvSpPr/>
            <p:nvPr/>
          </p:nvSpPr>
          <p:spPr>
            <a:xfrm>
              <a:off x="4917960" y="4067280"/>
              <a:ext cx="3583080" cy="2175120"/>
            </a:xfrm>
            <a:prstGeom prst="ellipse">
              <a:avLst/>
            </a:prstGeom>
            <a:noFill/>
            <a:ln w="12600">
              <a:solidFill>
                <a:srgbClr val="3b3b6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8" name="TextBox 5"/>
            <p:cNvSpPr/>
            <p:nvPr/>
          </p:nvSpPr>
          <p:spPr>
            <a:xfrm>
              <a:off x="6208920" y="3822840"/>
              <a:ext cx="84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9916 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69" name="TextBox 6"/>
            <p:cNvSpPr/>
            <p:nvPr/>
          </p:nvSpPr>
          <p:spPr>
            <a:xfrm>
              <a:off x="4494240" y="483696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963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Б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0" name="TextBox 7"/>
            <p:cNvSpPr/>
            <p:nvPr/>
          </p:nvSpPr>
          <p:spPr>
            <a:xfrm>
              <a:off x="5505480" y="584964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4896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ДСТУ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1" name="TextBox 8"/>
            <p:cNvSpPr/>
            <p:nvPr/>
          </p:nvSpPr>
          <p:spPr>
            <a:xfrm>
              <a:off x="6794640" y="5849640"/>
              <a:ext cx="84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787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 РК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2" name="TextBox 9"/>
            <p:cNvSpPr/>
            <p:nvPr/>
          </p:nvSpPr>
          <p:spPr>
            <a:xfrm>
              <a:off x="7993440" y="4836960"/>
              <a:ext cx="10173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7934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 Р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73" name="Rectangle 4"/>
          <p:cNvSpPr/>
          <p:nvPr/>
        </p:nvSpPr>
        <p:spPr>
          <a:xfrm>
            <a:off x="-6480" y="2558880"/>
            <a:ext cx="3818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национальных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х регламентов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34800" y="3114720"/>
          <a:ext cx="3316320" cy="3378240"/>
        </p:xfrm>
        <a:graphic>
          <a:graphicData uri="http://schemas.openxmlformats.org/drawingml/2006/table">
            <a:tbl>
              <a:tblPr/>
              <a:tblGrid>
                <a:gridCol w="1665360"/>
                <a:gridCol w="1650960"/>
              </a:tblGrid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 СН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4320">
                      <a:solidFill>
                        <a:srgbClr val="438086"/>
                      </a:solidFill>
                    </a:lnL>
                    <a:lnR>
                      <a:noFill/>
                    </a:lnR>
                    <a:lnT w="4320">
                      <a:solidFill>
                        <a:srgbClr val="43808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-во национальных технических регламен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438086"/>
                      </a:solidFill>
                    </a:lnR>
                    <a:lnT w="4320">
                      <a:solidFill>
                        <a:srgbClr val="43808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800-592D-4415-9835-FE3114A2688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181080" y="560520"/>
            <a:ext cx="88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БАРЬЕРЫ В ТОРГОВЛЕ 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Rectangle 52"/>
          <p:cNvSpPr/>
          <p:nvPr/>
        </p:nvSpPr>
        <p:spPr>
          <a:xfrm>
            <a:off x="3875400" y="2444760"/>
            <a:ext cx="172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Arial"/>
                <a:ea typeface="Arial"/>
              </a:rPr>
              <a:t>В ТО ЖЕ ВРЕМ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88920" y="969840"/>
            <a:ext cx="881208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Действую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оведении согласованной политики в области стандартизации, метрологии и сертификации (г. Москва, 13 марта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глашение о принципах проведения и взаимном признании работ по сертификации (г. Краснодар, 4 июня 1992 года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54A8-130C-4C12-9BB7-A4977316AF0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209520" y="595440"/>
            <a:ext cx="89344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СУЖДАЕМЫЕ МЕХАНИЗМЫ УСТРАНЕНИЯ ТБТ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81" name="AutoShape 7"/>
          <p:cNvGrpSpPr/>
          <p:nvPr/>
        </p:nvGrpSpPr>
        <p:grpSpPr>
          <a:xfrm>
            <a:off x="317520" y="4505400"/>
            <a:ext cx="3511440" cy="426960"/>
            <a:chOff x="317520" y="4505400"/>
            <a:chExt cx="3511440" cy="426960"/>
          </a:xfrm>
        </p:grpSpPr>
        <p:pic>
          <p:nvPicPr>
            <p:cNvPr id="782" name="AutoShape 7" descr=""/>
            <p:cNvPicPr/>
            <p:nvPr/>
          </p:nvPicPr>
          <p:blipFill>
            <a:blip r:embed="rId1"/>
            <a:stretch/>
          </p:blipFill>
          <p:spPr>
            <a:xfrm>
              <a:off x="317520" y="4505400"/>
              <a:ext cx="35114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80880" y="4540320"/>
              <a:ext cx="3381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нятие межгосударственных ТР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4" name="AutoShape 7"/>
          <p:cNvGrpSpPr/>
          <p:nvPr/>
        </p:nvGrpSpPr>
        <p:grpSpPr>
          <a:xfrm>
            <a:off x="5327640" y="1414440"/>
            <a:ext cx="3560760" cy="822240"/>
            <a:chOff x="5327640" y="1414440"/>
            <a:chExt cx="3560760" cy="822240"/>
          </a:xfrm>
        </p:grpSpPr>
        <p:pic>
          <p:nvPicPr>
            <p:cNvPr id="785" name="AutoShape 7" descr=""/>
            <p:cNvPicPr/>
            <p:nvPr/>
          </p:nvPicPr>
          <p:blipFill>
            <a:blip r:embed="rId2"/>
            <a:stretch/>
          </p:blipFill>
          <p:spPr>
            <a:xfrm>
              <a:off x="5327640" y="1414440"/>
              <a:ext cx="3560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5419800" y="1476360"/>
              <a:ext cx="337176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Взаимное признание национальных сертификатов соответствия на продукцию, производимую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7" name="Нашивка 26"/>
          <p:cNvGrpSpPr/>
          <p:nvPr/>
        </p:nvGrpSpPr>
        <p:grpSpPr>
          <a:xfrm>
            <a:off x="4218120" y="1652760"/>
            <a:ext cx="403200" cy="414000"/>
            <a:chOff x="4218120" y="1652760"/>
            <a:chExt cx="403200" cy="414000"/>
          </a:xfrm>
        </p:grpSpPr>
        <p:pic>
          <p:nvPicPr>
            <p:cNvPr id="788" name="Нашивка 26" descr=""/>
            <p:cNvPicPr/>
            <p:nvPr/>
          </p:nvPicPr>
          <p:blipFill>
            <a:blip r:embed="rId3"/>
            <a:stretch/>
          </p:blipFill>
          <p:spPr>
            <a:xfrm>
              <a:off x="4218120" y="1652760"/>
              <a:ext cx="40320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428796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90" name="Прямая соединительная линия 34"/>
          <p:cNvSpPr/>
          <p:nvPr/>
        </p:nvSpPr>
        <p:spPr>
          <a:xfrm>
            <a:off x="4610160" y="1106640"/>
            <a:ext cx="0" cy="5389560"/>
          </a:xfrm>
          <a:prstGeom prst="line">
            <a:avLst/>
          </a:prstGeom>
          <a:ln w="19080">
            <a:solidFill>
              <a:srgbClr val="43808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91" name="Штриховая стрелка вправо 27"/>
          <p:cNvGrpSpPr/>
          <p:nvPr/>
        </p:nvGrpSpPr>
        <p:grpSpPr>
          <a:xfrm>
            <a:off x="4290840" y="4522680"/>
            <a:ext cx="793800" cy="366840"/>
            <a:chOff x="4290840" y="4522680"/>
            <a:chExt cx="793800" cy="366840"/>
          </a:xfrm>
        </p:grpSpPr>
        <p:pic>
          <p:nvPicPr>
            <p:cNvPr id="792" name="Штриховая стрелка вправо 27" descr=""/>
            <p:cNvPicPr/>
            <p:nvPr/>
          </p:nvPicPr>
          <p:blipFill>
            <a:blip r:embed="rId4"/>
            <a:stretch/>
          </p:blipFill>
          <p:spPr>
            <a:xfrm>
              <a:off x="4290840" y="4522680"/>
              <a:ext cx="79380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389480" y="4613400"/>
              <a:ext cx="52704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94" name="Прямая соединительная линия 31"/>
          <p:cNvSpPr/>
          <p:nvPr/>
        </p:nvSpPr>
        <p:spPr>
          <a:xfrm>
            <a:off x="4351320" y="442440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Прямая соединительная линия 32"/>
          <p:cNvSpPr/>
          <p:nvPr/>
        </p:nvSpPr>
        <p:spPr>
          <a:xfrm flipV="1">
            <a:off x="4351320" y="442404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96" name="Прямоугольник с двумя скругленными противолежащими углами 33"/>
          <p:cNvGrpSpPr/>
          <p:nvPr/>
        </p:nvGrpSpPr>
        <p:grpSpPr>
          <a:xfrm>
            <a:off x="23760" y="963720"/>
            <a:ext cx="3309840" cy="536400"/>
            <a:chOff x="23760" y="963720"/>
            <a:chExt cx="3309840" cy="536400"/>
          </a:xfrm>
        </p:grpSpPr>
        <p:pic>
          <p:nvPicPr>
            <p:cNvPr id="797" name="Прямоугольник с двумя скругленными противолежащими углами 33" descr=""/>
            <p:cNvPicPr/>
            <p:nvPr/>
          </p:nvPicPr>
          <p:blipFill>
            <a:blip r:embed="rId5"/>
            <a:stretch/>
          </p:blipFill>
          <p:spPr>
            <a:xfrm>
              <a:off x="23760" y="963720"/>
              <a:ext cx="3309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08000" y="1069920"/>
              <a:ext cx="31449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едложено к рассмотрению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99" name="Прямоугольник с двумя скругленными противолежащими углами 36"/>
          <p:cNvGrpSpPr/>
          <p:nvPr/>
        </p:nvGrpSpPr>
        <p:grpSpPr>
          <a:xfrm>
            <a:off x="6138720" y="969840"/>
            <a:ext cx="2998800" cy="534960"/>
            <a:chOff x="6138720" y="969840"/>
            <a:chExt cx="2998800" cy="534960"/>
          </a:xfrm>
        </p:grpSpPr>
        <p:pic>
          <p:nvPicPr>
            <p:cNvPr id="800" name="Прямоугольник с двумя скругленными противолежащими углами 36" descr=""/>
            <p:cNvPicPr/>
            <p:nvPr/>
          </p:nvPicPr>
          <p:blipFill>
            <a:blip r:embed="rId6"/>
            <a:stretch/>
          </p:blipFill>
          <p:spPr>
            <a:xfrm>
              <a:off x="6138720" y="969840"/>
              <a:ext cx="29988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6224760" y="1079640"/>
              <a:ext cx="2828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тоги работы РГ ЗСТ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2" name="AutoShape 7"/>
          <p:cNvGrpSpPr/>
          <p:nvPr/>
        </p:nvGrpSpPr>
        <p:grpSpPr>
          <a:xfrm>
            <a:off x="317520" y="4870440"/>
            <a:ext cx="3511440" cy="976320"/>
            <a:chOff x="317520" y="4870440"/>
            <a:chExt cx="3511440" cy="976320"/>
          </a:xfrm>
        </p:grpSpPr>
        <p:pic>
          <p:nvPicPr>
            <p:cNvPr id="803" name="AutoShape 7" descr=""/>
            <p:cNvPicPr/>
            <p:nvPr/>
          </p:nvPicPr>
          <p:blipFill>
            <a:blip r:embed="rId7"/>
            <a:stretch/>
          </p:blipFill>
          <p:spPr>
            <a:xfrm>
              <a:off x="317520" y="4870440"/>
              <a:ext cx="351144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80880" y="4906800"/>
              <a:ext cx="3381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Формирование Единого перечня продукции, подлежащей  обязательной ОС </a:t>
              </a:r>
              <a:r>
                <a:rPr b="0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(при применении ГОСТ на требования и методы испытаний)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5" name="AutoShape 7"/>
          <p:cNvGrpSpPr/>
          <p:nvPr/>
        </p:nvGrpSpPr>
        <p:grpSpPr>
          <a:xfrm>
            <a:off x="317520" y="1414440"/>
            <a:ext cx="3511440" cy="811080"/>
            <a:chOff x="317520" y="1414440"/>
            <a:chExt cx="3511440" cy="811080"/>
          </a:xfrm>
        </p:grpSpPr>
        <p:pic>
          <p:nvPicPr>
            <p:cNvPr id="806" name="AutoShape 7" descr=""/>
            <p:cNvPicPr/>
            <p:nvPr/>
          </p:nvPicPr>
          <p:blipFill>
            <a:blip r:embed="rId8"/>
            <a:stretch/>
          </p:blipFill>
          <p:spPr>
            <a:xfrm>
              <a:off x="317520" y="1414440"/>
              <a:ext cx="3511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80880" y="1447920"/>
              <a:ext cx="338148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Взаимное признание национальных сертификатов соответствия на продукцию, производимую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08" name="AutoShape 7"/>
          <p:cNvGrpSpPr/>
          <p:nvPr/>
        </p:nvGrpSpPr>
        <p:grpSpPr>
          <a:xfrm>
            <a:off x="317520" y="5772240"/>
            <a:ext cx="3511440" cy="799920"/>
            <a:chOff x="317520" y="5772240"/>
            <a:chExt cx="3511440" cy="799920"/>
          </a:xfrm>
        </p:grpSpPr>
        <p:pic>
          <p:nvPicPr>
            <p:cNvPr id="809" name="AutoShape 7" descr=""/>
            <p:cNvPicPr/>
            <p:nvPr/>
          </p:nvPicPr>
          <p:blipFill>
            <a:blip r:embed="rId9"/>
            <a:stretch/>
          </p:blipFill>
          <p:spPr>
            <a:xfrm>
              <a:off x="317520" y="5772240"/>
              <a:ext cx="351144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380880" y="5810400"/>
              <a:ext cx="3381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Формирование Единого перечня продукции, подлежащей  обязательной ОС </a:t>
              </a:r>
              <a:r>
                <a:rPr b="0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(при применении ГОСТ на требования)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1" name="AutoShape 7"/>
          <p:cNvGrpSpPr/>
          <p:nvPr/>
        </p:nvGrpSpPr>
        <p:grpSpPr>
          <a:xfrm>
            <a:off x="317520" y="2206800"/>
            <a:ext cx="3511440" cy="633240"/>
            <a:chOff x="317520" y="2206800"/>
            <a:chExt cx="3511440" cy="633240"/>
          </a:xfrm>
        </p:grpSpPr>
        <p:pic>
          <p:nvPicPr>
            <p:cNvPr id="812" name="AutoShape 7" descr=""/>
            <p:cNvPicPr/>
            <p:nvPr/>
          </p:nvPicPr>
          <p:blipFill>
            <a:blip r:embed="rId10"/>
            <a:stretch/>
          </p:blipFill>
          <p:spPr>
            <a:xfrm>
              <a:off x="317520" y="2206800"/>
              <a:ext cx="35114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380880" y="2244600"/>
              <a:ext cx="3381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знание протоколов испытаний продукции, производимой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4" name="AutoShape 7"/>
          <p:cNvGrpSpPr/>
          <p:nvPr/>
        </p:nvGrpSpPr>
        <p:grpSpPr>
          <a:xfrm>
            <a:off x="324000" y="2816280"/>
            <a:ext cx="3504960" cy="628560"/>
            <a:chOff x="324000" y="2816280"/>
            <a:chExt cx="3504960" cy="628560"/>
          </a:xfrm>
        </p:grpSpPr>
        <p:pic>
          <p:nvPicPr>
            <p:cNvPr id="815" name="AutoShape 7" descr=""/>
            <p:cNvPicPr/>
            <p:nvPr/>
          </p:nvPicPr>
          <p:blipFill>
            <a:blip r:embed="rId11"/>
            <a:stretch/>
          </p:blipFill>
          <p:spPr>
            <a:xfrm>
              <a:off x="324000" y="2816280"/>
              <a:ext cx="35049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382680" y="2849400"/>
              <a:ext cx="3379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a20000"/>
                  </a:solidFill>
                  <a:latin typeface="Arial"/>
                  <a:ea typeface="Arial"/>
                </a:rPr>
                <a:t>Признание работ по ОС, основанное на заключении двусторонних соглашений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7" name="AutoShape 7"/>
          <p:cNvGrpSpPr/>
          <p:nvPr/>
        </p:nvGrpSpPr>
        <p:grpSpPr>
          <a:xfrm>
            <a:off x="5327640" y="2206800"/>
            <a:ext cx="3560760" cy="633240"/>
            <a:chOff x="5327640" y="2206800"/>
            <a:chExt cx="3560760" cy="633240"/>
          </a:xfrm>
        </p:grpSpPr>
        <p:pic>
          <p:nvPicPr>
            <p:cNvPr id="818" name="AutoShape 7" descr=""/>
            <p:cNvPicPr/>
            <p:nvPr/>
          </p:nvPicPr>
          <p:blipFill>
            <a:blip r:embed="rId12"/>
            <a:stretch/>
          </p:blipFill>
          <p:spPr>
            <a:xfrm>
              <a:off x="5327640" y="2206800"/>
              <a:ext cx="35607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"/>
            <p:cNvSpPr/>
            <p:nvPr/>
          </p:nvSpPr>
          <p:spPr>
            <a:xfrm>
              <a:off x="5411880" y="2265480"/>
              <a:ext cx="33876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протоколов испытаний продукции, производимой в СНГ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0" name="AutoShape 7"/>
          <p:cNvGrpSpPr/>
          <p:nvPr/>
        </p:nvGrpSpPr>
        <p:grpSpPr>
          <a:xfrm>
            <a:off x="5327640" y="2816280"/>
            <a:ext cx="3560760" cy="633240"/>
            <a:chOff x="5327640" y="2816280"/>
            <a:chExt cx="3560760" cy="633240"/>
          </a:xfrm>
        </p:grpSpPr>
        <p:pic>
          <p:nvPicPr>
            <p:cNvPr id="821" name="AutoShape 7" descr=""/>
            <p:cNvPicPr/>
            <p:nvPr/>
          </p:nvPicPr>
          <p:blipFill>
            <a:blip r:embed="rId13"/>
            <a:stretch/>
          </p:blipFill>
          <p:spPr>
            <a:xfrm>
              <a:off x="5327640" y="2816280"/>
              <a:ext cx="35607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"/>
            <p:cNvSpPr/>
            <p:nvPr/>
          </p:nvSpPr>
          <p:spPr>
            <a:xfrm>
              <a:off x="5411880" y="2871720"/>
              <a:ext cx="33876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работ по ОС, основанное на заключении </a:t>
              </a:r>
              <a:r>
                <a:rPr b="1" lang="ru-RU" sz="1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двусторонних</a:t>
              </a:r>
              <a:r>
                <a:rPr b="1" lang="ru-RU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 соглашений</a:t>
              </a:r>
              <a:endParaRPr b="0" lang="en-US" sz="1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23" name="AutoShape 7"/>
          <p:cNvSpPr/>
          <p:nvPr/>
        </p:nvSpPr>
        <p:spPr>
          <a:xfrm>
            <a:off x="5391000" y="3459240"/>
            <a:ext cx="3429000" cy="501480"/>
          </a:xfrm>
          <a:prstGeom prst="roundRect">
            <a:avLst>
              <a:gd name="adj" fmla="val 14241"/>
            </a:avLst>
          </a:prstGeom>
          <a:gradFill rotWithShape="0">
            <a:gsLst>
              <a:gs pos="0">
                <a:srgbClr val="cdf2ff"/>
              </a:gs>
              <a:gs pos="100000">
                <a:srgbClr val="3fccff"/>
              </a:gs>
            </a:gsLst>
            <a:lin ang="0"/>
          </a:gradFill>
          <a:ln w="1584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абот по ОС, основанное на заключении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Arial"/>
              </a:rPr>
              <a:t>многосторонних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 соглашений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4" name="AutoShape 7"/>
          <p:cNvSpPr/>
          <p:nvPr/>
        </p:nvSpPr>
        <p:spPr>
          <a:xfrm>
            <a:off x="5391000" y="4056120"/>
            <a:ext cx="3429000" cy="501480"/>
          </a:xfrm>
          <a:prstGeom prst="roundRect">
            <a:avLst>
              <a:gd name="adj" fmla="val 14241"/>
            </a:avLst>
          </a:prstGeom>
          <a:gradFill rotWithShape="0">
            <a:gsLst>
              <a:gs pos="0">
                <a:srgbClr val="cdf2ff"/>
              </a:gs>
              <a:gs pos="100000">
                <a:srgbClr val="3fccff"/>
              </a:gs>
            </a:gsLst>
            <a:lin ang="0"/>
          </a:gradFill>
          <a:ln w="15840">
            <a:solidFill>
              <a:srgbClr val="5c92b5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Признание работ по ОС, основанное на эквивалентности ТР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25" name="Нашивка 49"/>
          <p:cNvGrpSpPr/>
          <p:nvPr/>
        </p:nvGrpSpPr>
        <p:grpSpPr>
          <a:xfrm>
            <a:off x="4419720" y="1652760"/>
            <a:ext cx="401400" cy="414000"/>
            <a:chOff x="4419720" y="1652760"/>
            <a:chExt cx="401400" cy="414000"/>
          </a:xfrm>
        </p:grpSpPr>
        <p:pic>
          <p:nvPicPr>
            <p:cNvPr id="826" name="Нашивка 49" descr=""/>
            <p:cNvPicPr/>
            <p:nvPr/>
          </p:nvPicPr>
          <p:blipFill>
            <a:blip r:embed="rId14"/>
            <a:stretch/>
          </p:blipFill>
          <p:spPr>
            <a:xfrm>
              <a:off x="4419720" y="1652760"/>
              <a:ext cx="40140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448632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8" name="Нашивка 50"/>
          <p:cNvGrpSpPr/>
          <p:nvPr/>
        </p:nvGrpSpPr>
        <p:grpSpPr>
          <a:xfrm>
            <a:off x="4621320" y="1652760"/>
            <a:ext cx="395280" cy="414000"/>
            <a:chOff x="4621320" y="1652760"/>
            <a:chExt cx="395280" cy="414000"/>
          </a:xfrm>
        </p:grpSpPr>
        <p:pic>
          <p:nvPicPr>
            <p:cNvPr id="829" name="Нашивка 50" descr=""/>
            <p:cNvPicPr/>
            <p:nvPr/>
          </p:nvPicPr>
          <p:blipFill>
            <a:blip r:embed="rId15"/>
            <a:stretch/>
          </p:blipFill>
          <p:spPr>
            <a:xfrm>
              <a:off x="4621320" y="1652760"/>
              <a:ext cx="39528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684680" y="16891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1" name="Нашивка 51"/>
          <p:cNvGrpSpPr/>
          <p:nvPr/>
        </p:nvGrpSpPr>
        <p:grpSpPr>
          <a:xfrm>
            <a:off x="4218120" y="2346480"/>
            <a:ext cx="403200" cy="415800"/>
            <a:chOff x="4218120" y="2346480"/>
            <a:chExt cx="403200" cy="415800"/>
          </a:xfrm>
        </p:grpSpPr>
        <p:pic>
          <p:nvPicPr>
            <p:cNvPr id="832" name="Нашивка 51" descr=""/>
            <p:cNvPicPr/>
            <p:nvPr/>
          </p:nvPicPr>
          <p:blipFill>
            <a:blip r:embed="rId16"/>
            <a:stretch/>
          </p:blipFill>
          <p:spPr>
            <a:xfrm>
              <a:off x="4218120" y="2346480"/>
              <a:ext cx="4032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428796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4" name="Нашивка 52"/>
          <p:cNvGrpSpPr/>
          <p:nvPr/>
        </p:nvGrpSpPr>
        <p:grpSpPr>
          <a:xfrm>
            <a:off x="4419720" y="2346480"/>
            <a:ext cx="401400" cy="415800"/>
            <a:chOff x="4419720" y="2346480"/>
            <a:chExt cx="401400" cy="415800"/>
          </a:xfrm>
        </p:grpSpPr>
        <p:pic>
          <p:nvPicPr>
            <p:cNvPr id="835" name="Нашивка 52" descr=""/>
            <p:cNvPicPr/>
            <p:nvPr/>
          </p:nvPicPr>
          <p:blipFill>
            <a:blip r:embed="rId17"/>
            <a:stretch/>
          </p:blipFill>
          <p:spPr>
            <a:xfrm>
              <a:off x="4419720" y="2346480"/>
              <a:ext cx="401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448632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7" name="Нашивка 53"/>
          <p:cNvGrpSpPr/>
          <p:nvPr/>
        </p:nvGrpSpPr>
        <p:grpSpPr>
          <a:xfrm>
            <a:off x="4621320" y="2346480"/>
            <a:ext cx="395280" cy="415800"/>
            <a:chOff x="4621320" y="2346480"/>
            <a:chExt cx="395280" cy="415800"/>
          </a:xfrm>
        </p:grpSpPr>
        <p:pic>
          <p:nvPicPr>
            <p:cNvPr id="838" name="Нашивка 53" descr=""/>
            <p:cNvPicPr/>
            <p:nvPr/>
          </p:nvPicPr>
          <p:blipFill>
            <a:blip r:embed="rId18"/>
            <a:stretch/>
          </p:blipFill>
          <p:spPr>
            <a:xfrm>
              <a:off x="4621320" y="2346480"/>
              <a:ext cx="39528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4684680" y="238608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0" name="Нашивка 54"/>
          <p:cNvGrpSpPr/>
          <p:nvPr/>
        </p:nvGrpSpPr>
        <p:grpSpPr>
          <a:xfrm>
            <a:off x="4218120" y="2925720"/>
            <a:ext cx="403200" cy="414360"/>
            <a:chOff x="4218120" y="2925720"/>
            <a:chExt cx="403200" cy="414360"/>
          </a:xfrm>
        </p:grpSpPr>
        <p:pic>
          <p:nvPicPr>
            <p:cNvPr id="841" name="Нашивка 54" descr=""/>
            <p:cNvPicPr/>
            <p:nvPr/>
          </p:nvPicPr>
          <p:blipFill>
            <a:blip r:embed="rId19"/>
            <a:stretch/>
          </p:blipFill>
          <p:spPr>
            <a:xfrm>
              <a:off x="4218120" y="2925720"/>
              <a:ext cx="4032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428796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3" name="Нашивка 55"/>
          <p:cNvGrpSpPr/>
          <p:nvPr/>
        </p:nvGrpSpPr>
        <p:grpSpPr>
          <a:xfrm>
            <a:off x="4419720" y="2925720"/>
            <a:ext cx="401400" cy="414360"/>
            <a:chOff x="4419720" y="2925720"/>
            <a:chExt cx="401400" cy="414360"/>
          </a:xfrm>
        </p:grpSpPr>
        <p:pic>
          <p:nvPicPr>
            <p:cNvPr id="844" name="Нашивка 55" descr=""/>
            <p:cNvPicPr/>
            <p:nvPr/>
          </p:nvPicPr>
          <p:blipFill>
            <a:blip r:embed="rId20"/>
            <a:stretch/>
          </p:blipFill>
          <p:spPr>
            <a:xfrm>
              <a:off x="4419720" y="2925720"/>
              <a:ext cx="4014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448632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6" name="Нашивка 56"/>
          <p:cNvGrpSpPr/>
          <p:nvPr/>
        </p:nvGrpSpPr>
        <p:grpSpPr>
          <a:xfrm>
            <a:off x="4621320" y="2925720"/>
            <a:ext cx="395280" cy="414360"/>
            <a:chOff x="4621320" y="2925720"/>
            <a:chExt cx="395280" cy="414360"/>
          </a:xfrm>
        </p:grpSpPr>
        <p:pic>
          <p:nvPicPr>
            <p:cNvPr id="847" name="Нашивка 56" descr=""/>
            <p:cNvPicPr/>
            <p:nvPr/>
          </p:nvPicPr>
          <p:blipFill>
            <a:blip r:embed="rId21"/>
            <a:stretch/>
          </p:blipFill>
          <p:spPr>
            <a:xfrm>
              <a:off x="4621320" y="2925720"/>
              <a:ext cx="395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4684680" y="2965320"/>
              <a:ext cx="27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49" name="Штриховая стрелка вправо 72"/>
          <p:cNvGrpSpPr/>
          <p:nvPr/>
        </p:nvGrpSpPr>
        <p:grpSpPr>
          <a:xfrm>
            <a:off x="4290840" y="5121360"/>
            <a:ext cx="793800" cy="371520"/>
            <a:chOff x="4290840" y="5121360"/>
            <a:chExt cx="793800" cy="371520"/>
          </a:xfrm>
        </p:grpSpPr>
        <p:pic>
          <p:nvPicPr>
            <p:cNvPr id="850" name="Штриховая стрелка вправо 72" descr=""/>
            <p:cNvPicPr/>
            <p:nvPr/>
          </p:nvPicPr>
          <p:blipFill>
            <a:blip r:embed="rId22"/>
            <a:stretch/>
          </p:blipFill>
          <p:spPr>
            <a:xfrm>
              <a:off x="4290840" y="5121360"/>
              <a:ext cx="7938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4389480" y="5214960"/>
              <a:ext cx="527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52" name="Прямая соединительная линия 73"/>
          <p:cNvSpPr/>
          <p:nvPr/>
        </p:nvSpPr>
        <p:spPr>
          <a:xfrm>
            <a:off x="4351320" y="502596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Прямая соединительная линия 74"/>
          <p:cNvSpPr/>
          <p:nvPr/>
        </p:nvSpPr>
        <p:spPr>
          <a:xfrm flipV="1">
            <a:off x="4351320" y="502560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54" name="Штриховая стрелка вправо 75"/>
          <p:cNvGrpSpPr/>
          <p:nvPr/>
        </p:nvGrpSpPr>
        <p:grpSpPr>
          <a:xfrm>
            <a:off x="4290840" y="6035760"/>
            <a:ext cx="793800" cy="365040"/>
            <a:chOff x="4290840" y="6035760"/>
            <a:chExt cx="793800" cy="365040"/>
          </a:xfrm>
        </p:grpSpPr>
        <p:pic>
          <p:nvPicPr>
            <p:cNvPr id="855" name="Штриховая стрелка вправо 75" descr=""/>
            <p:cNvPicPr/>
            <p:nvPr/>
          </p:nvPicPr>
          <p:blipFill>
            <a:blip r:embed="rId23"/>
            <a:stretch/>
          </p:blipFill>
          <p:spPr>
            <a:xfrm>
              <a:off x="4290840" y="6035760"/>
              <a:ext cx="79380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4389480" y="6124680"/>
              <a:ext cx="52704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57" name="Прямая соединительная линия 76"/>
          <p:cNvSpPr/>
          <p:nvPr/>
        </p:nvSpPr>
        <p:spPr>
          <a:xfrm>
            <a:off x="4351320" y="5935680"/>
            <a:ext cx="5763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Прямая соединительная линия 77"/>
          <p:cNvSpPr/>
          <p:nvPr/>
        </p:nvSpPr>
        <p:spPr>
          <a:xfrm flipV="1">
            <a:off x="4351320" y="5935320"/>
            <a:ext cx="480960" cy="531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233280" y="70344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1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Взаимное признание национальных сертифика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ответствия на продукцию, производимую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на основе действующего Соглаше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Прямоугольник 4"/>
          <p:cNvSpPr/>
          <p:nvPr/>
        </p:nvSpPr>
        <p:spPr>
          <a:xfrm>
            <a:off x="106200" y="2814480"/>
            <a:ext cx="901404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озможность установления требований к продукции и методов испытаний в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национальных технических регламентах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и стандартах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процедуры признания путем сравнительного анализа требований в национальных документах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по признанию сертификатов соответствия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,  аккредитованными на данный вид деятель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информационного перечня уполномоченных орган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сертификата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C8CD-4A0C-4EAB-A810-B0A149BD1A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233280" y="2084400"/>
            <a:ext cx="8759880" cy="7016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сертификаты соответствия на продукцию из третьих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тран </a:t>
            </a:r>
            <a:r>
              <a:rPr b="1" lang="ru-RU" sz="18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не признаютс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233280" y="90324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протоколов испытаний продукц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оизводимой в государствах - участни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на основе действующего Соглаше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Прямоугольник 4"/>
          <p:cNvSpPr/>
          <p:nvPr/>
        </p:nvSpPr>
        <p:spPr>
          <a:xfrm>
            <a:off x="130320" y="3673440"/>
            <a:ext cx="9013680" cy="26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сертификации и испытательных лабораторий 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303D-511E-4AA4-AF51-62A049D873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233280" y="2162160"/>
            <a:ext cx="8359920" cy="15019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должны соблюдаться услов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етоды испытаний должны быть валидирован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е лаборатории должны быть аккредитованы в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ой системе аккредита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действия протоколов испытаний должен быть не более 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833400" y="5056200"/>
            <a:ext cx="7759800" cy="6033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 indent="-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национальные документы вписываются протоколы испытани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х лабораторий государств – участник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233280" y="569880"/>
            <a:ext cx="87598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3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двусторонних соглашений между 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Прямоугольник 4"/>
          <p:cNvSpPr/>
          <p:nvPr/>
        </p:nvSpPr>
        <p:spPr>
          <a:xfrm>
            <a:off x="106200" y="1974960"/>
            <a:ext cx="90140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органами по оценке (подтверждению) соответствия дву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сертификации и испытательных лабораторий  в национальных системах аккредит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взаимных оценок и сличительных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документов по оценке соответствия, в том числе протоколов испытаний, органами по оценке (подтверждению) соответствия, подписавшими двустороннее Согл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EAEF-77F2-4357-AFE2-5C9A33DA0B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493560" y="2666880"/>
            <a:ext cx="8239320" cy="5907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-1746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органа по оценке (подтверждению) соответствия должна входи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испытательная лаборатор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233280" y="493560"/>
            <a:ext cx="87598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4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многосторонних соглашений о взаимном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и результатов работ по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Прямоугольник 4"/>
          <p:cNvSpPr/>
          <p:nvPr/>
        </p:nvSpPr>
        <p:spPr>
          <a:xfrm>
            <a:off x="106200" y="2136600"/>
            <a:ext cx="90140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уполномоченными органами стран СНГ  много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работ, проводимых органами по оценке (подтверждению) соответствия, подписавшими многостороннее Согл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вободное обращение продукции  на территории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8D8-E9D2-4A24-9D9B-137EB22917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233280" y="2828880"/>
            <a:ext cx="8506080" cy="166860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многостороннее Соглашение включает в себ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видов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документов, устанавливающих требования к продукции 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оцедурам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чень органов по оценке (подтверждению) соответствия, результат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бот которых признаютс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client406_1</cp:lastModifiedBy>
  <cp:lastPrinted>2014-09-24T11:03:08Z</cp:lastPrinted>
  <dcterms:modified xsi:type="dcterms:W3CDTF">2014-12-03T14:32:23Z</dcterms:modified>
  <cp:revision>774</cp:revision>
  <dc:subject/>
  <dc:title>Таможенный союз</dc:title>
</cp:coreProperties>
</file>