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56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29.png" ContentType="image/png"/>
  <Override PartName="/ppt/media/image50.png" ContentType="image/png"/>
  <Override PartName="/ppt/media/image5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16.png" ContentType="image/png"/>
  <Override PartName="/ppt/media/image25.png" ContentType="image/png"/>
  <Override PartName="/ppt/media/image26.png" ContentType="image/png"/>
  <Override PartName="/ppt/media/image23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5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15.png" ContentType="image/png"/>
  <Override PartName="/ppt/media/image27.png" ContentType="image/png"/>
  <Override PartName="/ppt/media/image10.jpeg" ContentType="image/jpeg"/>
  <Override PartName="/ppt/media/image28.png" ContentType="image/png"/>
  <Override PartName="/ppt/media/image3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move the slide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E775-B8C1-44EE-89DB-667CE22A0F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639A-51F7-4C77-AA00-AF118D588C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65F3-6F34-462E-BB0E-205E7E06BC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9255-3952-4C73-B4DB-F3E7E78B6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9E4A-3E26-4A4C-AD11-3DB0D57816E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8C46-C15A-4331-B978-24608A8CD90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5E8E-E352-4AE6-A2EE-B32E6B07417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4DC5-2760-4964-A482-519A1C190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ACF2-05CE-44A2-9215-B00E9E4053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F4FC-1D89-472E-BCED-A94286E8E2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C4E7-9B0A-4442-A480-C815798E07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80D9-101E-4196-B0FD-29C439D7D4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027E-B3AA-4DC0-8497-64407AB80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C220-BDA5-465E-A330-5A4A7905E0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0F18-22A7-4B1E-ACC0-EDBACDCE34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5E68-ED64-44EC-AD88-D95304A2CF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6561-7B54-488B-9BD2-2F4E38CA83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31C8-366C-4EB9-8961-91D2E6B0DB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FAE5-5054-47EE-B036-FB3C9B1219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7446-1D2F-44E5-8FF3-6FB1059D4D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F169-1BD3-4809-BB84-3310BAB94C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32B-D32E-473D-98DB-0CA0B84A20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70E-C851-4ADB-A454-4AC2DE7AD7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F21-2241-4AEE-BDD6-2CAF8E195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29C3-8A8F-4209-90A5-56F8C2A674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6A8-D62D-44F7-9B9C-B5BDA11E84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154-47E6-408B-864B-360360755F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4E6-5777-4469-80BB-CF5D2AC202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2DB-769F-4BD9-A7D4-A717C79C3E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E3D-F311-4A45-BC1F-54DF71B32A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2CE-204A-4997-B3B3-C399DF3C32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58E-1463-4B0F-BD9A-E402E2B341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42E-680A-4854-9F8E-7E6F131A2F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55A-05DC-4BD6-9302-20A91A245B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2EE7B-75DD-4FF3-A48C-9BFA11B58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7593-CC95-41E3-B239-5D8A9AD65D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F0A71-D706-4672-8457-0823707E34F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67802-AD1A-476A-9D65-EE437D989F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A89B3-5304-478D-8893-A87A2D97CF9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AB9D0-5918-41E6-B6F4-D4C927536E4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ED0F9-2E81-416B-A6C1-AD61FEB1BB2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DFCE0-886F-49F7-B658-B6799E83E08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C013E-6E25-418B-A3FD-D7487D270F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8B276-44F4-499C-B894-C1CD706F100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468B7-BD7A-422A-AFFA-71EF86221B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F0BEC-BB4F-416F-B26D-8CEBF3888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0D94-9606-41BB-9E79-6C86201E8E4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D6139-DB49-42EC-BC3E-0FEBEB07A38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86C28-2520-4E37-9422-6147F377337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26ECA-81B6-4D6B-8FFD-1F97A6B249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32171-DFDF-4A1A-B3CA-99233CC3BA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15B06-E8EE-45C5-A0E6-CAB79CD1BC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8D4D0-A0E9-4991-AF94-16F50DE42D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6BAC3-5345-4495-A980-029741B1AF7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78C7C-8C68-42AE-908A-C0088EB6DF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77617-619D-4959-8BE0-C828459CB3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0680E-102B-42B0-8757-B1BD293B4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C3D3-DF42-4FB8-B16D-34AC37F20A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0F959-E713-4E11-874A-56172C515D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C800B-7A9D-494E-85E4-69F7E1085E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7610C-27FB-4A80-945C-E5098CF51D2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A572-5497-4C72-B46D-F48C9921A37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C063-3369-44A9-A6A9-1932C7D4A5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0614-0E97-4864-8DBF-31EA5A6F244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CD1-0574-4993-BB28-EDF09FFA38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A88C-52F8-457E-B72E-C8A007659B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E0EF-244F-4A90-A10E-218A5A51448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21BB-E415-4465-9AEF-96AFC11CD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F730-D95C-45B7-BCC1-D0D6EEADAA8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A66A-DCAD-4D0D-BFB2-8DF42FEAA64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ACE5-50F6-464A-8DB9-C7455DC3167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586F-6694-4076-8E9D-AC27D5D571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9C42-B50A-484C-B38B-42F50132CF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F67D-3192-44DD-9F8A-D31E5824C8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2DA33F-C3D3-4366-8A43-B2C7A57D22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6C77E-BA9E-4CF1-B102-8CA26AA5938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007DD-A691-43A1-AE44-CB1EECE0CA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E04B9-3A6E-4D6D-8B8E-6828FD998D0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B66E0-1C82-423C-81F8-1F6FEC836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F9F2-E4E2-4E3F-B0A0-CFF1902BC8F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AF6C2A-DA12-40B9-933E-BEAFA5AC90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87BB2-71BE-47CD-B450-0D315F02C3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AF38C-7AB6-4BA5-ABD7-16325594D3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74A59-47E1-4BDA-85B0-8D777B245F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434BD-6A25-4ED4-9209-B11F529E1E7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06143-43E6-41DA-9113-279FA251603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792A0-0243-47C7-8C2F-9A4764D947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memst.kz/" TargetMode="Externa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memst.kz/blog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www.memst.kz/blog/" TargetMode="External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0159-8983-4256-914B-2568E463A4CA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2"/>
          <p:cNvSpPr/>
          <p:nvPr/>
        </p:nvSpPr>
        <p:spPr>
          <a:xfrm>
            <a:off x="155520" y="-136440"/>
            <a:ext cx="298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4"/>
          <p:cNvSpPr/>
          <p:nvPr/>
        </p:nvSpPr>
        <p:spPr>
          <a:xfrm>
            <a:off x="155520" y="-136440"/>
            <a:ext cx="298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7" descr="http://www.memst.kz/bitrix/templates/memst/images/skt.jpg"/>
          <p:cNvPicPr/>
          <p:nvPr/>
        </p:nvPicPr>
        <p:blipFill>
          <a:blip r:embed="rId2"/>
          <a:stretch/>
        </p:blipFill>
        <p:spPr>
          <a:xfrm>
            <a:off x="5746680" y="882720"/>
            <a:ext cx="3341880" cy="33415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8"/>
          <p:cNvSpPr/>
          <p:nvPr/>
        </p:nvSpPr>
        <p:spPr>
          <a:xfrm>
            <a:off x="219240" y="47149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memst.k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814320" y="195120"/>
            <a:ext cx="742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 Narrow"/>
              </a:rPr>
              <a:t>КОМИТЕТ ТЕХНИЧЕСКОГО РЕГУЛИРОВАНИЯ И МЕТРОЛОГ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 Narrow"/>
              </a:rPr>
              <a:t>МИНИСТЕРСТВА ПО ИНВЕСТИЦИЯМ И РАЗВИТИЮ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4"/>
          <p:cNvSpPr/>
          <p:nvPr/>
        </p:nvSpPr>
        <p:spPr>
          <a:xfrm>
            <a:off x="0" y="714240"/>
            <a:ext cx="9144000" cy="0"/>
          </a:xfrm>
          <a:prstGeom prst="line">
            <a:avLst/>
          </a:prstGeom>
          <a:ln w="28440">
            <a:solidFill>
              <a:srgbClr val="193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38A-AD8D-40E0-8DDE-5EA7EB193B42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ая соединительная линия 4"/>
          <p:cNvSpPr/>
          <p:nvPr/>
        </p:nvSpPr>
        <p:spPr>
          <a:xfrm>
            <a:off x="0" y="714240"/>
            <a:ext cx="9144000" cy="0"/>
          </a:xfrm>
          <a:prstGeom prst="line">
            <a:avLst/>
          </a:prstGeom>
          <a:ln w="28440">
            <a:solidFill>
              <a:srgbClr val="193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219240" y="47149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emst.k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322B-D74B-4BD5-9076-CD345EF2DD07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ая соединительная линия 4"/>
          <p:cNvSpPr/>
          <p:nvPr/>
        </p:nvSpPr>
        <p:spPr>
          <a:xfrm>
            <a:off x="0" y="714240"/>
            <a:ext cx="9144000" cy="0"/>
          </a:xfrm>
          <a:prstGeom prst="line">
            <a:avLst/>
          </a:prstGeom>
          <a:ln w="28440">
            <a:solidFill>
              <a:srgbClr val="193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B463-4262-47CE-A7A5-0C2DF02FEAA2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ая соединительная линия 4"/>
          <p:cNvSpPr/>
          <p:nvPr/>
        </p:nvSpPr>
        <p:spPr>
          <a:xfrm>
            <a:off x="0" y="714240"/>
            <a:ext cx="9144000" cy="0"/>
          </a:xfrm>
          <a:prstGeom prst="line">
            <a:avLst/>
          </a:prstGeom>
          <a:ln w="28440">
            <a:solidFill>
              <a:srgbClr val="193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CDB4-3498-4FFE-A255-10599452B179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ая соединительная линия 4"/>
          <p:cNvSpPr/>
          <p:nvPr/>
        </p:nvSpPr>
        <p:spPr>
          <a:xfrm>
            <a:off x="0" y="714240"/>
            <a:ext cx="9144000" cy="0"/>
          </a:xfrm>
          <a:prstGeom prst="line">
            <a:avLst/>
          </a:prstGeom>
          <a:ln w="28440">
            <a:solidFill>
              <a:srgbClr val="193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4F03-B96F-48A1-9F95-4E390DC7B1C7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ая соединительная линия 4"/>
          <p:cNvSpPr/>
          <p:nvPr/>
        </p:nvSpPr>
        <p:spPr>
          <a:xfrm>
            <a:off x="0" y="714240"/>
            <a:ext cx="9144000" cy="0"/>
          </a:xfrm>
          <a:prstGeom prst="line">
            <a:avLst/>
          </a:prstGeom>
          <a:ln w="28440">
            <a:solidFill>
              <a:srgbClr val="193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D32-77CE-427F-9759-DA8C54FB63AF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2"/>
          <p:cNvSpPr/>
          <p:nvPr/>
        </p:nvSpPr>
        <p:spPr>
          <a:xfrm>
            <a:off x="155520" y="-136440"/>
            <a:ext cx="298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155520" y="-136440"/>
            <a:ext cx="298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6"/>
          <p:cNvSpPr/>
          <p:nvPr/>
        </p:nvSpPr>
        <p:spPr>
          <a:xfrm>
            <a:off x="219240" y="47149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emst.k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b7f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45.png"/><Relationship Id="rId22" Type="http://schemas.openxmlformats.org/officeDocument/2006/relationships/image" Target="../media/image54.pn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png"/><Relationship Id="rId26" Type="http://schemas.openxmlformats.org/officeDocument/2006/relationships/image" Target="../media/image45.png"/><Relationship Id="rId27" Type="http://schemas.openxmlformats.org/officeDocument/2006/relationships/image" Target="../media/image58.png"/><Relationship Id="rId28" Type="http://schemas.openxmlformats.org/officeDocument/2006/relationships/image" Target="../media/image59.png"/><Relationship Id="rId29" Type="http://schemas.openxmlformats.org/officeDocument/2006/relationships/image" Target="../media/image60.png"/><Relationship Id="rId3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400" y="1901880"/>
            <a:ext cx="543852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РОГРАММА ТРАНСФОРМАЦИИ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ИСТЕМЫ ТЕХНИЧЕСКОГО РЕГУЛИРОВАНИЯ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И ИНФРАСТРУКТУРЫ КАЧЕСТВА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3786120" y="4643280"/>
            <a:ext cx="1500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СТ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май 2015 г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b7f"/>
                </a:solidFill>
                <a:latin typeface="Calibri"/>
              </a:rPr>
              <a:t>НАПРАВЛЕНИЕ ТРАНСФОРМАЦИИ: ГОСУДАРСТВЕННЫЙ КОНТРОЛЬ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6553080" y="481824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87F6-0D1F-4978-9E25-92FA0DCD9298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Схема 6" descr=""/>
          <p:cNvPicPr/>
          <p:nvPr/>
        </p:nvPicPr>
        <p:blipFill>
          <a:blip r:embed="rId1"/>
          <a:stretch/>
        </p:blipFill>
        <p:spPr>
          <a:xfrm>
            <a:off x="865080" y="768240"/>
            <a:ext cx="5346720" cy="12128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9"/>
          <p:cNvSpPr/>
          <p:nvPr/>
        </p:nvSpPr>
        <p:spPr>
          <a:xfrm>
            <a:off x="714240" y="766800"/>
            <a:ext cx="44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ФФЕКТИВ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436680" y="2305080"/>
            <a:ext cx="3727440" cy="1585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есовершенство действующий нормативной правовой баз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эффективной модели государственного контро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едостаточное техническое оснащение оборудованием территориальных подразделений для проведения экспресс-анализа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квалифицированных специалистов в определенных отрасля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9"/>
          <p:cNvSpPr/>
          <p:nvPr/>
        </p:nvSpPr>
        <p:spPr>
          <a:xfrm>
            <a:off x="316800" y="19890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"/>
          <p:cNvSpPr/>
          <p:nvPr/>
        </p:nvSpPr>
        <p:spPr>
          <a:xfrm>
            <a:off x="4500720" y="2308680"/>
            <a:ext cx="4143240" cy="23058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Внесение изменений в действующее законодательство и разработка нормативной документации для проведения государственного контроля в области метрологи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Совершенствование системы государственного контроля путем внедрения зарубежного опы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Усилить работы по проведению профилактическо-разъяснительных рабо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Рассмотрение возможности выделения денежных средств на современное техническое оснащ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бучение госинспекторов новым методам осуществления контроля с привлечением зарубежных специалистов в области метрологического контро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1"/>
          <p:cNvSpPr/>
          <p:nvPr/>
        </p:nvSpPr>
        <p:spPr>
          <a:xfrm>
            <a:off x="4385880" y="20098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Группа 15"/>
          <p:cNvGrpSpPr/>
          <p:nvPr/>
        </p:nvGrpSpPr>
        <p:grpSpPr>
          <a:xfrm>
            <a:off x="71280" y="928800"/>
            <a:ext cx="817560" cy="817560"/>
            <a:chOff x="71280" y="928800"/>
            <a:chExt cx="817560" cy="817560"/>
          </a:xfrm>
        </p:grpSpPr>
        <p:sp>
          <p:nvSpPr>
            <p:cNvPr id="545" name="椭圆 146"/>
            <p:cNvSpPr/>
            <p:nvPr/>
          </p:nvSpPr>
          <p:spPr>
            <a:xfrm>
              <a:off x="71280" y="928800"/>
              <a:ext cx="817560" cy="817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Group 66" descr=""/>
            <p:cNvPicPr/>
            <p:nvPr/>
          </p:nvPicPr>
          <p:blipFill>
            <a:blip r:embed="rId2"/>
            <a:stretch/>
          </p:blipFill>
          <p:spPr>
            <a:xfrm>
              <a:off x="200880" y="1127880"/>
              <a:ext cx="548640" cy="44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7" name="Прямоугольник 26" descr=""/>
          <p:cNvPicPr/>
          <p:nvPr/>
        </p:nvPicPr>
        <p:blipFill>
          <a:blip r:embed="rId3"/>
          <a:stretch/>
        </p:blipFill>
        <p:spPr>
          <a:xfrm>
            <a:off x="6192720" y="920880"/>
            <a:ext cx="140832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b7f"/>
                </a:solidFill>
                <a:latin typeface="Calibri"/>
              </a:rPr>
              <a:t>СТРУКТУРНАЯ РЕФОРМА  ОБЕСПЕЧЕНИЯ ПЕРСОНАЛОМ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6553080" y="481824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B119-4AB9-448A-A418-57710248F1C0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Схема 6" descr=""/>
          <p:cNvPicPr/>
          <p:nvPr/>
        </p:nvPicPr>
        <p:blipFill>
          <a:blip r:embed="rId1"/>
          <a:stretch/>
        </p:blipFill>
        <p:spPr>
          <a:xfrm>
            <a:off x="865080" y="768240"/>
            <a:ext cx="6443640" cy="1212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9"/>
          <p:cNvSpPr/>
          <p:nvPr/>
        </p:nvSpPr>
        <p:spPr>
          <a:xfrm>
            <a:off x="1419120" y="766800"/>
            <a:ext cx="44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ЕТЕНТНЫЙ ПЕРСО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371520" y="2179800"/>
            <a:ext cx="4343400" cy="1971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Вопросы работы с персоналом не рассматривались как стратегические, требующие пристального вним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Кадровая политика пассивна, находится на уровне контроля над симптомами, реагирования на инциденты и выполнения оперативной рабо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изкий уровень квалифицированных сотрудников в  Департаментах Комит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Слабый уровень подготовки  (ВУЗ) молодых специалис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е дифференцированный подход в вопросах  вознаграждения и премир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9"/>
          <p:cNvSpPr/>
          <p:nvPr/>
        </p:nvSpPr>
        <p:spPr>
          <a:xfrm>
            <a:off x="272520" y="1876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"/>
          <p:cNvSpPr/>
          <p:nvPr/>
        </p:nvSpPr>
        <p:spPr>
          <a:xfrm>
            <a:off x="4800600" y="2183040"/>
            <a:ext cx="4064040" cy="26406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Утверждение Кадровой полити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Усиление работы по обеспечению полноценного охвата сотрудников, подлежащих дальнейшему обучению, семинарами повышения квалификации и курсами переподготов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ересмотр квалификационных требований и должностных инструкций на предмет усиления требов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роведение работ по включению специальностей: «Стандартизация», «Метрология» и «Аккредитация» в перечень образовательной программы международной стипендии «Болашак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Работа Комиссии по вознаграждениям и поощрениям, позволяющая устанавливать прямую зависимость между результатами служебной деятельности и размерами вознаграждения и поощр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789080" y="186696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Группа 23"/>
          <p:cNvGrpSpPr/>
          <p:nvPr/>
        </p:nvGrpSpPr>
        <p:grpSpPr>
          <a:xfrm>
            <a:off x="136440" y="1000080"/>
            <a:ext cx="720720" cy="720720"/>
            <a:chOff x="136440" y="1000080"/>
            <a:chExt cx="720720" cy="720720"/>
          </a:xfrm>
        </p:grpSpPr>
        <p:sp>
          <p:nvSpPr>
            <p:cNvPr id="557" name="椭圆 148"/>
            <p:cNvSpPr/>
            <p:nvPr/>
          </p:nvSpPr>
          <p:spPr>
            <a:xfrm>
              <a:off x="136440" y="1000080"/>
              <a:ext cx="720720" cy="720720"/>
            </a:xfrm>
            <a:prstGeom prst="ellips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12"/>
            <p:cNvSpPr/>
            <p:nvPr/>
          </p:nvSpPr>
          <p:spPr>
            <a:xfrm>
              <a:off x="310680" y="1175760"/>
              <a:ext cx="380880" cy="383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7" y="5419"/>
                  </a:moveTo>
                  <a:cubicBezTo>
                    <a:pt x="4051" y="5419"/>
                    <a:pt x="4271" y="5505"/>
                    <a:pt x="4427" y="5687"/>
                  </a:cubicBezTo>
                  <a:cubicBezTo>
                    <a:pt x="4586" y="5865"/>
                    <a:pt x="4701" y="6078"/>
                    <a:pt x="4766" y="6326"/>
                  </a:cubicBezTo>
                  <a:cubicBezTo>
                    <a:pt x="4835" y="6574"/>
                    <a:pt x="4879" y="6836"/>
                    <a:pt x="4893" y="7106"/>
                  </a:cubicBezTo>
                  <a:cubicBezTo>
                    <a:pt x="4910" y="7377"/>
                    <a:pt x="4917" y="7596"/>
                    <a:pt x="4917" y="7760"/>
                  </a:cubicBezTo>
                  <a:lnTo>
                    <a:pt x="4917" y="9856"/>
                  </a:lnTo>
                  <a:cubicBezTo>
                    <a:pt x="4809" y="9928"/>
                    <a:pt x="4720" y="10015"/>
                    <a:pt x="4646" y="10110"/>
                  </a:cubicBezTo>
                  <a:cubicBezTo>
                    <a:pt x="4574" y="10208"/>
                    <a:pt x="4468" y="10257"/>
                    <a:pt x="4329" y="10257"/>
                  </a:cubicBezTo>
                  <a:lnTo>
                    <a:pt x="561" y="10257"/>
                  </a:lnTo>
                  <a:cubicBezTo>
                    <a:pt x="439" y="10257"/>
                    <a:pt x="338" y="10208"/>
                    <a:pt x="256" y="10110"/>
                  </a:cubicBezTo>
                  <a:cubicBezTo>
                    <a:pt x="177" y="10015"/>
                    <a:pt x="93" y="9928"/>
                    <a:pt x="0" y="9856"/>
                  </a:cubicBezTo>
                  <a:lnTo>
                    <a:pt x="0" y="7760"/>
                  </a:lnTo>
                  <a:cubicBezTo>
                    <a:pt x="0" y="7596"/>
                    <a:pt x="4" y="7377"/>
                    <a:pt x="12" y="7106"/>
                  </a:cubicBezTo>
                  <a:cubicBezTo>
                    <a:pt x="19" y="6836"/>
                    <a:pt x="57" y="6574"/>
                    <a:pt x="124" y="6326"/>
                  </a:cubicBezTo>
                  <a:cubicBezTo>
                    <a:pt x="196" y="6078"/>
                    <a:pt x="309" y="5865"/>
                    <a:pt x="465" y="5687"/>
                  </a:cubicBezTo>
                  <a:cubicBezTo>
                    <a:pt x="624" y="5508"/>
                    <a:pt x="842" y="5419"/>
                    <a:pt x="1123" y="5419"/>
                  </a:cubicBezTo>
                  <a:cubicBezTo>
                    <a:pt x="782" y="5151"/>
                    <a:pt x="508" y="4803"/>
                    <a:pt x="304" y="4377"/>
                  </a:cubicBezTo>
                  <a:cubicBezTo>
                    <a:pt x="103" y="3950"/>
                    <a:pt x="0" y="3469"/>
                    <a:pt x="0" y="2937"/>
                  </a:cubicBezTo>
                  <a:cubicBezTo>
                    <a:pt x="0" y="2539"/>
                    <a:pt x="64" y="2162"/>
                    <a:pt x="189" y="1805"/>
                  </a:cubicBezTo>
                  <a:cubicBezTo>
                    <a:pt x="316" y="1448"/>
                    <a:pt x="491" y="1134"/>
                    <a:pt x="717" y="861"/>
                  </a:cubicBezTo>
                  <a:cubicBezTo>
                    <a:pt x="943" y="590"/>
                    <a:pt x="1207" y="380"/>
                    <a:pt x="1504" y="227"/>
                  </a:cubicBezTo>
                  <a:cubicBezTo>
                    <a:pt x="1804" y="77"/>
                    <a:pt x="2119" y="0"/>
                    <a:pt x="2445" y="0"/>
                  </a:cubicBezTo>
                  <a:cubicBezTo>
                    <a:pt x="2793" y="0"/>
                    <a:pt x="3115" y="77"/>
                    <a:pt x="3412" y="227"/>
                  </a:cubicBezTo>
                  <a:cubicBezTo>
                    <a:pt x="3712" y="380"/>
                    <a:pt x="3969" y="590"/>
                    <a:pt x="4188" y="861"/>
                  </a:cubicBezTo>
                  <a:cubicBezTo>
                    <a:pt x="4406" y="1134"/>
                    <a:pt x="4584" y="1448"/>
                    <a:pt x="4716" y="1805"/>
                  </a:cubicBezTo>
                  <a:cubicBezTo>
                    <a:pt x="4850" y="2162"/>
                    <a:pt x="4917" y="2539"/>
                    <a:pt x="4917" y="2937"/>
                  </a:cubicBezTo>
                  <a:cubicBezTo>
                    <a:pt x="4917" y="3458"/>
                    <a:pt x="4814" y="3939"/>
                    <a:pt x="4603" y="4371"/>
                  </a:cubicBezTo>
                  <a:cubicBezTo>
                    <a:pt x="4391" y="4800"/>
                    <a:pt x="4115" y="5151"/>
                    <a:pt x="3767" y="5419"/>
                  </a:cubicBezTo>
                  <a:moveTo>
                    <a:pt x="18165" y="12062"/>
                  </a:moveTo>
                  <a:cubicBezTo>
                    <a:pt x="18672" y="12604"/>
                    <a:pt x="19070" y="13142"/>
                    <a:pt x="19356" y="13669"/>
                  </a:cubicBezTo>
                  <a:cubicBezTo>
                    <a:pt x="19641" y="14196"/>
                    <a:pt x="19788" y="14801"/>
                    <a:pt x="19788" y="15480"/>
                  </a:cubicBezTo>
                  <a:lnTo>
                    <a:pt x="19788" y="20816"/>
                  </a:lnTo>
                  <a:cubicBezTo>
                    <a:pt x="19694" y="20868"/>
                    <a:pt x="19620" y="20931"/>
                    <a:pt x="19557" y="20995"/>
                  </a:cubicBezTo>
                  <a:cubicBezTo>
                    <a:pt x="19497" y="21061"/>
                    <a:pt x="19425" y="21122"/>
                    <a:pt x="19344" y="21191"/>
                  </a:cubicBezTo>
                  <a:cubicBezTo>
                    <a:pt x="19262" y="21251"/>
                    <a:pt x="19173" y="21317"/>
                    <a:pt x="19075" y="21386"/>
                  </a:cubicBezTo>
                  <a:cubicBezTo>
                    <a:pt x="18976" y="21455"/>
                    <a:pt x="18835" y="21528"/>
                    <a:pt x="18662" y="21600"/>
                  </a:cubicBezTo>
                  <a:lnTo>
                    <a:pt x="2942" y="21600"/>
                  </a:lnTo>
                  <a:cubicBezTo>
                    <a:pt x="2675" y="21600"/>
                    <a:pt x="2467" y="21499"/>
                    <a:pt x="2318" y="21291"/>
                  </a:cubicBezTo>
                  <a:cubicBezTo>
                    <a:pt x="2167" y="21081"/>
                    <a:pt x="2003" y="20926"/>
                    <a:pt x="1819" y="20816"/>
                  </a:cubicBezTo>
                  <a:lnTo>
                    <a:pt x="1819" y="15480"/>
                  </a:lnTo>
                  <a:cubicBezTo>
                    <a:pt x="1819" y="14763"/>
                    <a:pt x="1989" y="14127"/>
                    <a:pt x="2335" y="13571"/>
                  </a:cubicBezTo>
                  <a:cubicBezTo>
                    <a:pt x="2678" y="13018"/>
                    <a:pt x="3052" y="12511"/>
                    <a:pt x="3460" y="12062"/>
                  </a:cubicBezTo>
                  <a:cubicBezTo>
                    <a:pt x="3535" y="11970"/>
                    <a:pt x="3633" y="11869"/>
                    <a:pt x="3753" y="11766"/>
                  </a:cubicBezTo>
                  <a:cubicBezTo>
                    <a:pt x="3873" y="11659"/>
                    <a:pt x="4000" y="11590"/>
                    <a:pt x="4137" y="11553"/>
                  </a:cubicBezTo>
                  <a:cubicBezTo>
                    <a:pt x="4276" y="11495"/>
                    <a:pt x="4432" y="11466"/>
                    <a:pt x="4610" y="11455"/>
                  </a:cubicBezTo>
                  <a:cubicBezTo>
                    <a:pt x="4785" y="11446"/>
                    <a:pt x="4956" y="11423"/>
                    <a:pt x="5126" y="11388"/>
                  </a:cubicBezTo>
                  <a:cubicBezTo>
                    <a:pt x="5594" y="11299"/>
                    <a:pt x="6091" y="11210"/>
                    <a:pt x="6621" y="11121"/>
                  </a:cubicBezTo>
                  <a:cubicBezTo>
                    <a:pt x="7149" y="11034"/>
                    <a:pt x="7665" y="10945"/>
                    <a:pt x="8172" y="10853"/>
                  </a:cubicBezTo>
                  <a:cubicBezTo>
                    <a:pt x="7483" y="10326"/>
                    <a:pt x="6928" y="9632"/>
                    <a:pt x="6513" y="8762"/>
                  </a:cubicBezTo>
                  <a:cubicBezTo>
                    <a:pt x="6093" y="7896"/>
                    <a:pt x="5884" y="6940"/>
                    <a:pt x="5884" y="5903"/>
                  </a:cubicBezTo>
                  <a:cubicBezTo>
                    <a:pt x="5884" y="5097"/>
                    <a:pt x="6016" y="4331"/>
                    <a:pt x="6275" y="3608"/>
                  </a:cubicBezTo>
                  <a:cubicBezTo>
                    <a:pt x="6535" y="2885"/>
                    <a:pt x="6887" y="2260"/>
                    <a:pt x="7331" y="1733"/>
                  </a:cubicBezTo>
                  <a:cubicBezTo>
                    <a:pt x="7778" y="1203"/>
                    <a:pt x="8299" y="786"/>
                    <a:pt x="8894" y="472"/>
                  </a:cubicBezTo>
                  <a:cubicBezTo>
                    <a:pt x="9494" y="158"/>
                    <a:pt x="10125" y="3"/>
                    <a:pt x="10802" y="3"/>
                  </a:cubicBezTo>
                  <a:cubicBezTo>
                    <a:pt x="11476" y="3"/>
                    <a:pt x="12112" y="158"/>
                    <a:pt x="12710" y="472"/>
                  </a:cubicBezTo>
                  <a:cubicBezTo>
                    <a:pt x="13307" y="786"/>
                    <a:pt x="13826" y="1203"/>
                    <a:pt x="14272" y="1733"/>
                  </a:cubicBezTo>
                  <a:cubicBezTo>
                    <a:pt x="14716" y="2260"/>
                    <a:pt x="15067" y="2885"/>
                    <a:pt x="15328" y="3608"/>
                  </a:cubicBezTo>
                  <a:cubicBezTo>
                    <a:pt x="15590" y="4331"/>
                    <a:pt x="15719" y="5097"/>
                    <a:pt x="15719" y="5903"/>
                  </a:cubicBezTo>
                  <a:cubicBezTo>
                    <a:pt x="15719" y="6939"/>
                    <a:pt x="15513" y="7890"/>
                    <a:pt x="15100" y="8756"/>
                  </a:cubicBezTo>
                  <a:cubicBezTo>
                    <a:pt x="14685" y="9620"/>
                    <a:pt x="14128" y="10320"/>
                    <a:pt x="13432" y="10853"/>
                  </a:cubicBezTo>
                  <a:cubicBezTo>
                    <a:pt x="13936" y="10945"/>
                    <a:pt x="14452" y="11031"/>
                    <a:pt x="14978" y="11115"/>
                  </a:cubicBezTo>
                  <a:cubicBezTo>
                    <a:pt x="15503" y="11198"/>
                    <a:pt x="16005" y="11288"/>
                    <a:pt x="16478" y="11388"/>
                  </a:cubicBezTo>
                  <a:cubicBezTo>
                    <a:pt x="16653" y="11426"/>
                    <a:pt x="16826" y="11449"/>
                    <a:pt x="16994" y="11455"/>
                  </a:cubicBezTo>
                  <a:cubicBezTo>
                    <a:pt x="17162" y="11466"/>
                    <a:pt x="17323" y="11495"/>
                    <a:pt x="17467" y="11553"/>
                  </a:cubicBezTo>
                  <a:cubicBezTo>
                    <a:pt x="17603" y="11590"/>
                    <a:pt x="17731" y="11659"/>
                    <a:pt x="17851" y="11766"/>
                  </a:cubicBezTo>
                  <a:cubicBezTo>
                    <a:pt x="17966" y="11869"/>
                    <a:pt x="18074" y="11970"/>
                    <a:pt x="18165" y="12062"/>
                  </a:cubicBezTo>
                  <a:moveTo>
                    <a:pt x="20474" y="5419"/>
                  </a:moveTo>
                  <a:cubicBezTo>
                    <a:pt x="20757" y="5419"/>
                    <a:pt x="20973" y="5505"/>
                    <a:pt x="21124" y="5687"/>
                  </a:cubicBezTo>
                  <a:cubicBezTo>
                    <a:pt x="21271" y="5865"/>
                    <a:pt x="21381" y="6078"/>
                    <a:pt x="21448" y="6326"/>
                  </a:cubicBezTo>
                  <a:cubicBezTo>
                    <a:pt x="21520" y="6574"/>
                    <a:pt x="21561" y="6836"/>
                    <a:pt x="21576" y="7106"/>
                  </a:cubicBezTo>
                  <a:cubicBezTo>
                    <a:pt x="21592" y="7377"/>
                    <a:pt x="21600" y="7596"/>
                    <a:pt x="21600" y="7760"/>
                  </a:cubicBezTo>
                  <a:lnTo>
                    <a:pt x="21600" y="9856"/>
                  </a:lnTo>
                  <a:cubicBezTo>
                    <a:pt x="21508" y="9928"/>
                    <a:pt x="21422" y="10015"/>
                    <a:pt x="21340" y="10110"/>
                  </a:cubicBezTo>
                  <a:cubicBezTo>
                    <a:pt x="21261" y="10208"/>
                    <a:pt x="21158" y="10257"/>
                    <a:pt x="21035" y="10257"/>
                  </a:cubicBezTo>
                  <a:lnTo>
                    <a:pt x="17267" y="10257"/>
                  </a:lnTo>
                  <a:cubicBezTo>
                    <a:pt x="17131" y="10257"/>
                    <a:pt x="17023" y="10208"/>
                    <a:pt x="16953" y="10110"/>
                  </a:cubicBezTo>
                  <a:cubicBezTo>
                    <a:pt x="16879" y="10015"/>
                    <a:pt x="16790" y="9928"/>
                    <a:pt x="16682" y="9856"/>
                  </a:cubicBezTo>
                  <a:lnTo>
                    <a:pt x="16682" y="7760"/>
                  </a:lnTo>
                  <a:cubicBezTo>
                    <a:pt x="16682" y="7596"/>
                    <a:pt x="16692" y="7377"/>
                    <a:pt x="16706" y="7106"/>
                  </a:cubicBezTo>
                  <a:cubicBezTo>
                    <a:pt x="16720" y="6836"/>
                    <a:pt x="16766" y="6574"/>
                    <a:pt x="16835" y="6326"/>
                  </a:cubicBezTo>
                  <a:cubicBezTo>
                    <a:pt x="16912" y="6078"/>
                    <a:pt x="17023" y="5865"/>
                    <a:pt x="17183" y="5687"/>
                  </a:cubicBezTo>
                  <a:cubicBezTo>
                    <a:pt x="17337" y="5508"/>
                    <a:pt x="17555" y="5419"/>
                    <a:pt x="17829" y="5419"/>
                  </a:cubicBezTo>
                  <a:cubicBezTo>
                    <a:pt x="17488" y="5151"/>
                    <a:pt x="17210" y="4803"/>
                    <a:pt x="16999" y="4377"/>
                  </a:cubicBezTo>
                  <a:cubicBezTo>
                    <a:pt x="16787" y="3950"/>
                    <a:pt x="16682" y="3469"/>
                    <a:pt x="16682" y="2937"/>
                  </a:cubicBezTo>
                  <a:cubicBezTo>
                    <a:pt x="16682" y="2539"/>
                    <a:pt x="16744" y="2162"/>
                    <a:pt x="16871" y="1805"/>
                  </a:cubicBezTo>
                  <a:cubicBezTo>
                    <a:pt x="16999" y="1448"/>
                    <a:pt x="17174" y="1134"/>
                    <a:pt x="17399" y="861"/>
                  </a:cubicBezTo>
                  <a:cubicBezTo>
                    <a:pt x="17625" y="590"/>
                    <a:pt x="17889" y="380"/>
                    <a:pt x="18187" y="227"/>
                  </a:cubicBezTo>
                  <a:cubicBezTo>
                    <a:pt x="18487" y="77"/>
                    <a:pt x="18808" y="0"/>
                    <a:pt x="19151" y="0"/>
                  </a:cubicBezTo>
                  <a:cubicBezTo>
                    <a:pt x="19480" y="0"/>
                    <a:pt x="19795" y="77"/>
                    <a:pt x="20095" y="227"/>
                  </a:cubicBezTo>
                  <a:cubicBezTo>
                    <a:pt x="20395" y="380"/>
                    <a:pt x="20656" y="590"/>
                    <a:pt x="20882" y="861"/>
                  </a:cubicBezTo>
                  <a:cubicBezTo>
                    <a:pt x="21108" y="1134"/>
                    <a:pt x="21285" y="1448"/>
                    <a:pt x="21412" y="1805"/>
                  </a:cubicBezTo>
                  <a:cubicBezTo>
                    <a:pt x="21537" y="2162"/>
                    <a:pt x="21600" y="2539"/>
                    <a:pt x="21600" y="2937"/>
                  </a:cubicBezTo>
                  <a:cubicBezTo>
                    <a:pt x="21600" y="3458"/>
                    <a:pt x="21499" y="3939"/>
                    <a:pt x="21295" y="4371"/>
                  </a:cubicBezTo>
                  <a:cubicBezTo>
                    <a:pt x="21093" y="4800"/>
                    <a:pt x="20820" y="5151"/>
                    <a:pt x="20474" y="5419"/>
                  </a:cubicBezTo>
                </a:path>
              </a:pathLst>
            </a:custGeom>
            <a:solidFill>
              <a:srgbClr val="ee7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Прямоугольник 13" descr=""/>
          <p:cNvPicPr/>
          <p:nvPr/>
        </p:nvPicPr>
        <p:blipFill>
          <a:blip r:embed="rId2"/>
          <a:stretch/>
        </p:blipFill>
        <p:spPr>
          <a:xfrm>
            <a:off x="7236000" y="993600"/>
            <a:ext cx="136512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-1440" y="696960"/>
            <a:ext cx="9145440" cy="695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5"/>
          <p:cNvGrpSpPr/>
          <p:nvPr/>
        </p:nvGrpSpPr>
        <p:grpSpPr>
          <a:xfrm>
            <a:off x="96480" y="115920"/>
            <a:ext cx="367200" cy="366840"/>
            <a:chOff x="96480" y="115920"/>
            <a:chExt cx="367200" cy="366840"/>
          </a:xfrm>
        </p:grpSpPr>
        <p:grpSp>
          <p:nvGrpSpPr>
            <p:cNvPr id="562" name="Группа 8"/>
            <p:cNvGrpSpPr/>
            <p:nvPr/>
          </p:nvGrpSpPr>
          <p:grpSpPr>
            <a:xfrm>
              <a:off x="96480" y="115920"/>
              <a:ext cx="367200" cy="366840"/>
              <a:chOff x="96480" y="115920"/>
              <a:chExt cx="367200" cy="366840"/>
            </a:xfrm>
          </p:grpSpPr>
          <p:sp>
            <p:nvSpPr>
              <p:cNvPr id="563" name="Teardrop 7"/>
              <p:cNvSpPr/>
              <p:nvPr/>
            </p:nvSpPr>
            <p:spPr>
              <a:xfrm>
                <a:off x="258840" y="115920"/>
                <a:ext cx="204840" cy="208080"/>
              </a:xfrm>
              <a:custGeom>
                <a:avLst/>
                <a:gdLst/>
                <a:ahLst/>
                <a:rect l="l" t="t" r="r" b="b"/>
                <a:pathLst>
                  <a:path w="605969" h="606857">
                    <a:moveTo>
                      <a:pt x="0" y="303429"/>
                    </a:moveTo>
                    <a:cubicBezTo>
                      <a:pt x="0" y="135850"/>
                      <a:pt x="135651" y="0"/>
                      <a:pt x="302985" y="0"/>
                    </a:cubicBezTo>
                    <a:cubicBezTo>
                      <a:pt x="448692" y="0"/>
                      <a:pt x="594399" y="-44778"/>
                      <a:pt x="740106" y="-134334"/>
                    </a:cubicBezTo>
                    <a:cubicBezTo>
                      <a:pt x="650681" y="11587"/>
                      <a:pt x="605969" y="157508"/>
                      <a:pt x="605969" y="303429"/>
                    </a:cubicBezTo>
                    <a:cubicBezTo>
                      <a:pt x="605969" y="471008"/>
                      <a:pt x="470318" y="606858"/>
                      <a:pt x="302984" y="606858"/>
                    </a:cubicBezTo>
                    <a:cubicBezTo>
                      <a:pt x="135650" y="606858"/>
                      <a:pt x="-1" y="471008"/>
                      <a:pt x="-1" y="303429"/>
                    </a:cubicBezTo>
                    <a:lnTo>
                      <a:pt x="0" y="303429"/>
                    </a:lnTo>
                    <a:close/>
                  </a:path>
                </a:pathLst>
              </a:custGeom>
              <a:solidFill>
                <a:srgbClr val="94ba41">
                  <a:alpha val="9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ardrop 8"/>
              <p:cNvSpPr/>
              <p:nvPr/>
            </p:nvSpPr>
            <p:spPr>
              <a:xfrm rot="16200000">
                <a:off x="95040" y="117360"/>
                <a:ext cx="208080" cy="204840"/>
              </a:xfrm>
              <a:custGeom>
                <a:avLst/>
                <a:gdLst/>
                <a:ahLst/>
                <a:rect l="l" t="t" r="r" b="b"/>
                <a:pathLst>
                  <a:path w="606857" h="605969">
                    <a:moveTo>
                      <a:pt x="0" y="302985"/>
                    </a:moveTo>
                    <a:cubicBezTo>
                      <a:pt x="0" y="135651"/>
                      <a:pt x="135850" y="0"/>
                      <a:pt x="303429" y="0"/>
                    </a:cubicBezTo>
                    <a:cubicBezTo>
                      <a:pt x="449350" y="0"/>
                      <a:pt x="595270" y="-44712"/>
                      <a:pt x="741191" y="-134137"/>
                    </a:cubicBezTo>
                    <a:cubicBezTo>
                      <a:pt x="651635" y="11570"/>
                      <a:pt x="606857" y="157278"/>
                      <a:pt x="606857" y="302985"/>
                    </a:cubicBezTo>
                    <a:cubicBezTo>
                      <a:pt x="606857" y="470319"/>
                      <a:pt x="471007" y="605970"/>
                      <a:pt x="303428" y="605970"/>
                    </a:cubicBezTo>
                    <a:cubicBezTo>
                      <a:pt x="135849" y="605970"/>
                      <a:pt x="-1" y="470319"/>
                      <a:pt x="-1" y="302985"/>
                    </a:cubicBezTo>
                    <a:lnTo>
                      <a:pt x="0" y="302985"/>
                    </a:lnTo>
                    <a:close/>
                  </a:path>
                </a:pathLst>
              </a:custGeom>
              <a:solidFill>
                <a:srgbClr val="c1392b">
                  <a:alpha val="9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ardrop 9"/>
              <p:cNvSpPr/>
              <p:nvPr/>
            </p:nvSpPr>
            <p:spPr>
              <a:xfrm rot="5400000">
                <a:off x="256680" y="276120"/>
                <a:ext cx="208080" cy="204840"/>
              </a:xfrm>
              <a:custGeom>
                <a:avLst/>
                <a:gdLst/>
                <a:ahLst/>
                <a:rect l="l" t="t" r="r" b="b"/>
                <a:pathLst>
                  <a:path w="606857" h="605969">
                    <a:moveTo>
                      <a:pt x="0" y="302985"/>
                    </a:moveTo>
                    <a:cubicBezTo>
                      <a:pt x="0" y="135651"/>
                      <a:pt x="135850" y="0"/>
                      <a:pt x="303429" y="0"/>
                    </a:cubicBezTo>
                    <a:cubicBezTo>
                      <a:pt x="449350" y="0"/>
                      <a:pt x="595270" y="-44712"/>
                      <a:pt x="741191" y="-134137"/>
                    </a:cubicBezTo>
                    <a:cubicBezTo>
                      <a:pt x="651635" y="11570"/>
                      <a:pt x="606857" y="157278"/>
                      <a:pt x="606857" y="302985"/>
                    </a:cubicBezTo>
                    <a:cubicBezTo>
                      <a:pt x="606857" y="470319"/>
                      <a:pt x="471007" y="605970"/>
                      <a:pt x="303428" y="605970"/>
                    </a:cubicBezTo>
                    <a:cubicBezTo>
                      <a:pt x="135849" y="605970"/>
                      <a:pt x="-1" y="470319"/>
                      <a:pt x="-1" y="302985"/>
                    </a:cubicBezTo>
                    <a:lnTo>
                      <a:pt x="0" y="302985"/>
                    </a:lnTo>
                    <a:close/>
                  </a:path>
                </a:pathLst>
              </a:custGeom>
              <a:solidFill>
                <a:srgbClr val="e39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ardrop 10"/>
              <p:cNvSpPr/>
              <p:nvPr/>
            </p:nvSpPr>
            <p:spPr>
              <a:xfrm rot="10800000">
                <a:off x="96480" y="274680"/>
                <a:ext cx="204840" cy="208080"/>
              </a:xfrm>
              <a:custGeom>
                <a:avLst/>
                <a:gdLst/>
                <a:ahLst/>
                <a:rect l="l" t="t" r="r" b="b"/>
                <a:pathLst>
                  <a:path w="605969" h="606857">
                    <a:moveTo>
                      <a:pt x="0" y="303429"/>
                    </a:moveTo>
                    <a:cubicBezTo>
                      <a:pt x="0" y="135850"/>
                      <a:pt x="135651" y="0"/>
                      <a:pt x="302985" y="0"/>
                    </a:cubicBezTo>
                    <a:cubicBezTo>
                      <a:pt x="448692" y="0"/>
                      <a:pt x="594399" y="-44778"/>
                      <a:pt x="740106" y="-134334"/>
                    </a:cubicBezTo>
                    <a:cubicBezTo>
                      <a:pt x="650681" y="11587"/>
                      <a:pt x="605969" y="157508"/>
                      <a:pt x="605969" y="303429"/>
                    </a:cubicBezTo>
                    <a:cubicBezTo>
                      <a:pt x="605969" y="471008"/>
                      <a:pt x="470318" y="606858"/>
                      <a:pt x="302984" y="606858"/>
                    </a:cubicBezTo>
                    <a:cubicBezTo>
                      <a:pt x="135650" y="606858"/>
                      <a:pt x="-1" y="471008"/>
                      <a:pt x="-1" y="303429"/>
                    </a:cubicBezTo>
                    <a:lnTo>
                      <a:pt x="0" y="303429"/>
                    </a:lnTo>
                    <a:close/>
                  </a:path>
                </a:pathLst>
              </a:custGeom>
              <a:solidFill>
                <a:srgbClr val="2a80b9">
                  <a:alpha val="9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Овал 5"/>
            <p:cNvSpPr/>
            <p:nvPr/>
          </p:nvSpPr>
          <p:spPr>
            <a:xfrm>
              <a:off x="195120" y="209880"/>
              <a:ext cx="180000" cy="179640"/>
            </a:xfrm>
            <a:prstGeom prst="ellipse">
              <a:avLst/>
            </a:prstGeom>
            <a:solidFill>
              <a:srgbClr val="938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Прямоугольник 6"/>
            <p:cNvSpPr/>
            <p:nvPr/>
          </p:nvSpPr>
          <p:spPr>
            <a:xfrm>
              <a:off x="173880" y="253800"/>
              <a:ext cx="23616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AutoShape 9"/>
          <p:cNvSpPr/>
          <p:nvPr/>
        </p:nvSpPr>
        <p:spPr>
          <a:xfrm>
            <a:off x="2184480" y="476280"/>
            <a:ext cx="6780240" cy="1119240"/>
          </a:xfrm>
          <a:prstGeom prst="pie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Open Sans"/>
              </a:rPr>
              <a:t>Устранение фрагментации, гармонизация и обеспечение необходимого уровня аналитической поддержки процессов по стандартизации, метрологии, аккредитации, оценке соответствия и надзору за рынком в масштабе Республики Казахстан, ЕЭК и ВТ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1440" y="871560"/>
            <a:ext cx="246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ourier New"/>
              </a:rPr>
              <a:t>Цел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31"/>
          <p:cNvSpPr/>
          <p:nvPr/>
        </p:nvSpPr>
        <p:spPr>
          <a:xfrm flipH="1">
            <a:off x="2034720" y="755640"/>
            <a:ext cx="1800" cy="5842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Группа 2"/>
          <p:cNvGrpSpPr/>
          <p:nvPr/>
        </p:nvGrpSpPr>
        <p:grpSpPr>
          <a:xfrm>
            <a:off x="54000" y="826920"/>
            <a:ext cx="392040" cy="397080"/>
            <a:chOff x="54000" y="826920"/>
            <a:chExt cx="392040" cy="397080"/>
          </a:xfrm>
        </p:grpSpPr>
        <p:sp>
          <p:nvSpPr>
            <p:cNvPr id="573" name="AutoShape 17"/>
            <p:cNvSpPr/>
            <p:nvPr/>
          </p:nvSpPr>
          <p:spPr>
            <a:xfrm>
              <a:off x="158040" y="932400"/>
              <a:ext cx="185760" cy="187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3" y="15589"/>
                  </a:moveTo>
                  <a:cubicBezTo>
                    <a:pt x="8157" y="15589"/>
                    <a:pt x="6012" y="13443"/>
                    <a:pt x="6012" y="10800"/>
                  </a:cubicBezTo>
                  <a:cubicBezTo>
                    <a:pt x="6012" y="8154"/>
                    <a:pt x="8157" y="6012"/>
                    <a:pt x="10803" y="6012"/>
                  </a:cubicBezTo>
                  <a:cubicBezTo>
                    <a:pt x="13446" y="6012"/>
                    <a:pt x="15589" y="8154"/>
                    <a:pt x="15589" y="10800"/>
                  </a:cubicBezTo>
                  <a:cubicBezTo>
                    <a:pt x="15589" y="13443"/>
                    <a:pt x="13446" y="15589"/>
                    <a:pt x="10803" y="15589"/>
                  </a:cubicBezTo>
                  <a:close/>
                  <a:moveTo>
                    <a:pt x="10803" y="0"/>
                  </a:moveTo>
                  <a:cubicBezTo>
                    <a:pt x="4838" y="0"/>
                    <a:pt x="0" y="4835"/>
                    <a:pt x="0" y="10800"/>
                  </a:cubicBezTo>
                  <a:cubicBezTo>
                    <a:pt x="0" y="16762"/>
                    <a:pt x="4838" y="21600"/>
                    <a:pt x="10803" y="21600"/>
                  </a:cubicBezTo>
                  <a:cubicBezTo>
                    <a:pt x="16765" y="21600"/>
                    <a:pt x="21600" y="16762"/>
                    <a:pt x="21600" y="10800"/>
                  </a:cubicBezTo>
                  <a:cubicBezTo>
                    <a:pt x="21600" y="4835"/>
                    <a:pt x="16765" y="0"/>
                    <a:pt x="10803" y="0"/>
                  </a:cubicBezTo>
                  <a:close/>
                  <a:moveTo>
                    <a:pt x="10803" y="0"/>
                  </a:moveTo>
                </a:path>
              </a:pathLst>
            </a:custGeom>
            <a:solidFill>
              <a:srgbClr val="da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8"/>
            <p:cNvSpPr/>
            <p:nvPr/>
          </p:nvSpPr>
          <p:spPr>
            <a:xfrm>
              <a:off x="54000" y="826920"/>
              <a:ext cx="392040" cy="3970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1" y="18146"/>
                  </a:moveTo>
                  <a:cubicBezTo>
                    <a:pt x="6744" y="18146"/>
                    <a:pt x="3454" y="14857"/>
                    <a:pt x="3454" y="10801"/>
                  </a:cubicBezTo>
                  <a:cubicBezTo>
                    <a:pt x="3454" y="6743"/>
                    <a:pt x="6744" y="3454"/>
                    <a:pt x="10801" y="3454"/>
                  </a:cubicBezTo>
                  <a:cubicBezTo>
                    <a:pt x="14857" y="3454"/>
                    <a:pt x="18147" y="6743"/>
                    <a:pt x="18147" y="10801"/>
                  </a:cubicBezTo>
                  <a:cubicBezTo>
                    <a:pt x="18147" y="14857"/>
                    <a:pt x="14857" y="18146"/>
                    <a:pt x="10801" y="18146"/>
                  </a:cubicBezTo>
                  <a:close/>
                  <a:moveTo>
                    <a:pt x="10801" y="0"/>
                  </a:moveTo>
                  <a:cubicBezTo>
                    <a:pt x="4835" y="0"/>
                    <a:pt x="0" y="4835"/>
                    <a:pt x="0" y="10801"/>
                  </a:cubicBezTo>
                  <a:cubicBezTo>
                    <a:pt x="0" y="16764"/>
                    <a:pt x="4835" y="21600"/>
                    <a:pt x="10801" y="21600"/>
                  </a:cubicBezTo>
                  <a:cubicBezTo>
                    <a:pt x="16765" y="21600"/>
                    <a:pt x="21600" y="16764"/>
                    <a:pt x="21600" y="10801"/>
                  </a:cubicBezTo>
                  <a:cubicBezTo>
                    <a:pt x="21600" y="4835"/>
                    <a:pt x="16765" y="0"/>
                    <a:pt x="10801" y="0"/>
                  </a:cubicBezTo>
                  <a:close/>
                  <a:moveTo>
                    <a:pt x="10801" y="0"/>
                  </a:moveTo>
                </a:path>
              </a:pathLst>
            </a:custGeom>
            <a:solidFill>
              <a:srgbClr val="da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Группа 165"/>
          <p:cNvGrpSpPr/>
          <p:nvPr/>
        </p:nvGrpSpPr>
        <p:grpSpPr>
          <a:xfrm>
            <a:off x="-2880" y="1862280"/>
            <a:ext cx="4728960" cy="3170160"/>
            <a:chOff x="-2880" y="1862280"/>
            <a:chExt cx="4728960" cy="3170160"/>
          </a:xfrm>
        </p:grpSpPr>
        <p:sp>
          <p:nvSpPr>
            <p:cNvPr id="576" name="Скругленный прямоугольник 65"/>
            <p:cNvSpPr/>
            <p:nvPr/>
          </p:nvSpPr>
          <p:spPr>
            <a:xfrm>
              <a:off x="19080" y="1862280"/>
              <a:ext cx="4484880" cy="2941560"/>
            </a:xfrm>
            <a:prstGeom prst="roundRect">
              <a:avLst>
                <a:gd name="adj" fmla="val 6227"/>
              </a:avLst>
            </a:prstGeom>
            <a:solidFill>
              <a:srgbClr val="93cddd">
                <a:alpha val="4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67"/>
            <p:cNvSpPr/>
            <p:nvPr/>
          </p:nvSpPr>
          <p:spPr>
            <a:xfrm>
              <a:off x="2649960" y="2385000"/>
              <a:ext cx="1038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Стандартизац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68"/>
            <p:cNvSpPr/>
            <p:nvPr/>
          </p:nvSpPr>
          <p:spPr>
            <a:xfrm>
              <a:off x="2746800" y="3148920"/>
              <a:ext cx="79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Метролог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69"/>
            <p:cNvSpPr/>
            <p:nvPr/>
          </p:nvSpPr>
          <p:spPr>
            <a:xfrm>
              <a:off x="2699640" y="3858480"/>
              <a:ext cx="92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Аккредитац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70"/>
            <p:cNvSpPr/>
            <p:nvPr/>
          </p:nvSpPr>
          <p:spPr>
            <a:xfrm>
              <a:off x="1018800" y="3432240"/>
              <a:ext cx="142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Техническое регулирование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000000"/>
                  </a:solidFill>
                  <a:latin typeface="Arial"/>
                </a:rPr>
                <a:t>и метрология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71"/>
            <p:cNvSpPr/>
            <p:nvPr/>
          </p:nvSpPr>
          <p:spPr>
            <a:xfrm>
              <a:off x="-2880" y="225072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Физическое или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юридическое лицо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72"/>
            <p:cNvSpPr/>
            <p:nvPr/>
          </p:nvSpPr>
          <p:spPr>
            <a:xfrm>
              <a:off x="599760" y="2539440"/>
              <a:ext cx="825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Пакет документо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Box 73"/>
            <p:cNvSpPr/>
            <p:nvPr/>
          </p:nvSpPr>
          <p:spPr>
            <a:xfrm>
              <a:off x="1362240" y="228096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ТР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Box 74"/>
            <p:cNvSpPr/>
            <p:nvPr/>
          </p:nvSpPr>
          <p:spPr>
            <a:xfrm>
              <a:off x="203400" y="344196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правка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r>
                <a:rPr b="0" lang="ru-RU" sz="7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на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бумажном носителе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75"/>
            <p:cNvSpPr/>
            <p:nvPr/>
          </p:nvSpPr>
          <p:spPr>
            <a:xfrm>
              <a:off x="2062080" y="2726640"/>
              <a:ext cx="924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600" spc="-1" strike="noStrike">
                  <a:solidFill>
                    <a:srgbClr val="000000"/>
                  </a:solidFill>
                  <a:latin typeface="Arial"/>
                </a:rPr>
                <a:t>информация на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600" spc="-1" strike="noStrike">
                  <a:solidFill>
                    <a:srgbClr val="000000"/>
                  </a:solidFill>
                  <a:latin typeface="Arial"/>
                </a:rPr>
                <a:t>бумажном носител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Прямоугольник 76"/>
            <p:cNvSpPr/>
            <p:nvPr/>
          </p:nvSpPr>
          <p:spPr>
            <a:xfrm>
              <a:off x="1266840" y="4818240"/>
              <a:ext cx="2090880" cy="214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Срок исполнения</a:t>
              </a:r>
              <a:r>
                <a:rPr b="1" lang="en-US" sz="9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заявки до 30 дне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Стрелка вправо 77"/>
            <p:cNvSpPr/>
            <p:nvPr/>
          </p:nvSpPr>
          <p:spPr>
            <a:xfrm>
              <a:off x="855720" y="2833560"/>
              <a:ext cx="284040" cy="99720"/>
            </a:xfrm>
            <a:prstGeom prst="rightArrow">
              <a:avLst>
                <a:gd name="adj1" fmla="val 50000"/>
                <a:gd name="adj2" fmla="val 48528"/>
              </a:avLst>
            </a:prstGeom>
            <a:solidFill>
              <a:srgbClr val="404040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Прямоугольник 78"/>
            <p:cNvSpPr/>
            <p:nvPr/>
          </p:nvSpPr>
          <p:spPr>
            <a:xfrm>
              <a:off x="4025160" y="2946240"/>
              <a:ext cx="404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600" spc="-1" strike="noStrike">
                  <a:solidFill>
                    <a:srgbClr val="000000"/>
                  </a:solidFill>
                  <a:latin typeface="Arial"/>
                </a:rPr>
                <a:t>ПЛ/К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椭圆 147"/>
            <p:cNvSpPr/>
            <p:nvPr/>
          </p:nvSpPr>
          <p:spPr>
            <a:xfrm>
              <a:off x="4062600" y="3363840"/>
              <a:ext cx="271080" cy="280080"/>
            </a:xfrm>
            <a:prstGeom prst="ellipse">
              <a:avLst/>
            </a:prstGeom>
            <a:solidFill>
              <a:srgbClr val="ff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 flipH="1">
              <a:off x="4108680" y="3411720"/>
              <a:ext cx="171360" cy="210960"/>
            </a:xfrm>
            <a:custGeom>
              <a:avLst/>
              <a:gdLst>
                <a:gd name="textAreaLeft" fmla="*/ 360 w 171360"/>
                <a:gd name="textAreaRight" fmla="*/ 172080 w 171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63" h="73">
                  <a:moveTo>
                    <a:pt x="43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5" y="0"/>
                    <a:pt x="10" y="4"/>
                    <a:pt x="10" y="1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8"/>
                    <a:pt x="13" y="17"/>
                    <a:pt x="14" y="17"/>
                  </a:cubicBezTo>
                  <a:cubicBezTo>
                    <a:pt x="24" y="17"/>
                    <a:pt x="33" y="26"/>
                    <a:pt x="33" y="37"/>
                  </a:cubicBezTo>
                  <a:cubicBezTo>
                    <a:pt x="33" y="41"/>
                    <a:pt x="32" y="45"/>
                    <a:pt x="29" y="48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8" y="64"/>
                    <a:pt x="63" y="59"/>
                    <a:pt x="63" y="54"/>
                  </a:cubicBezTo>
                  <a:cubicBezTo>
                    <a:pt x="63" y="20"/>
                    <a:pt x="63" y="20"/>
                    <a:pt x="63" y="20"/>
                  </a:cubicBezTo>
                  <a:lnTo>
                    <a:pt x="43" y="0"/>
                  </a:lnTo>
                  <a:close/>
                  <a:moveTo>
                    <a:pt x="50" y="24"/>
                  </a:moveTo>
                  <a:cubicBezTo>
                    <a:pt x="44" y="24"/>
                    <a:pt x="39" y="19"/>
                    <a:pt x="39" y="13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16"/>
                    <a:pt x="47" y="20"/>
                    <a:pt x="53" y="20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62" y="24"/>
                    <a:pt x="62" y="24"/>
                    <a:pt x="62" y="24"/>
                  </a:cubicBezTo>
                  <a:lnTo>
                    <a:pt x="50" y="24"/>
                  </a:lnTo>
                  <a:close/>
                  <a:moveTo>
                    <a:pt x="4" y="52"/>
                  </a:moveTo>
                  <a:cubicBezTo>
                    <a:pt x="4" y="73"/>
                    <a:pt x="4" y="73"/>
                    <a:pt x="4" y="73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1" y="54"/>
                    <a:pt x="17" y="55"/>
                    <a:pt x="14" y="55"/>
                  </a:cubicBezTo>
                  <a:cubicBezTo>
                    <a:pt x="10" y="55"/>
                    <a:pt x="7" y="54"/>
                    <a:pt x="4" y="52"/>
                  </a:cubicBezTo>
                  <a:close/>
                  <a:moveTo>
                    <a:pt x="14" y="23"/>
                  </a:moveTo>
                  <a:cubicBezTo>
                    <a:pt x="6" y="23"/>
                    <a:pt x="0" y="29"/>
                    <a:pt x="0" y="37"/>
                  </a:cubicBezTo>
                  <a:cubicBezTo>
                    <a:pt x="0" y="44"/>
                    <a:pt x="6" y="50"/>
                    <a:pt x="14" y="50"/>
                  </a:cubicBezTo>
                  <a:cubicBezTo>
                    <a:pt x="21" y="50"/>
                    <a:pt x="27" y="44"/>
                    <a:pt x="27" y="37"/>
                  </a:cubicBezTo>
                  <a:cubicBezTo>
                    <a:pt x="27" y="29"/>
                    <a:pt x="21" y="23"/>
                    <a:pt x="14" y="23"/>
                  </a:cubicBezTo>
                  <a:close/>
                </a:path>
              </a:pathLst>
            </a:custGeom>
            <a:solidFill>
              <a:srgbClr val="e39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Прямоугольник 81"/>
            <p:cNvSpPr/>
            <p:nvPr/>
          </p:nvSpPr>
          <p:spPr>
            <a:xfrm>
              <a:off x="3664800" y="3620520"/>
              <a:ext cx="1061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600" spc="-1" strike="noStrike">
                  <a:solidFill>
                    <a:srgbClr val="000000"/>
                  </a:solidFill>
                  <a:latin typeface="Arial"/>
                </a:rPr>
                <a:t>ОПС/И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Прямоугольник 82"/>
            <p:cNvSpPr/>
            <p:nvPr/>
          </p:nvSpPr>
          <p:spPr>
            <a:xfrm>
              <a:off x="3656880" y="2255760"/>
              <a:ext cx="92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700" spc="-1" strike="noStrike">
                  <a:solidFill>
                    <a:srgbClr val="000000"/>
                  </a:solidFill>
                  <a:latin typeface="Arial"/>
                </a:rPr>
                <a:t>Технические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700" spc="-1" strike="noStrike">
                  <a:solidFill>
                    <a:srgbClr val="000000"/>
                  </a:solidFill>
                  <a:latin typeface="Arial"/>
                </a:rPr>
                <a:t>комитеты по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700" spc="-1" strike="noStrike">
                  <a:solidFill>
                    <a:srgbClr val="000000"/>
                  </a:solidFill>
                  <a:latin typeface="Arial"/>
                </a:rPr>
                <a:t>стандартизации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Стрелка вправо 83"/>
            <p:cNvSpPr/>
            <p:nvPr/>
          </p:nvSpPr>
          <p:spPr>
            <a:xfrm rot="10800000">
              <a:off x="705960" y="3057120"/>
              <a:ext cx="289080" cy="113400"/>
            </a:xfrm>
            <a:prstGeom prst="rightArrow">
              <a:avLst>
                <a:gd name="adj1" fmla="val 50000"/>
                <a:gd name="adj2" fmla="val 48411"/>
              </a:avLst>
            </a:prstGeom>
            <a:solidFill>
              <a:srgbClr val="938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Прямоугольник 84"/>
            <p:cNvSpPr/>
            <p:nvPr/>
          </p:nvSpPr>
          <p:spPr>
            <a:xfrm>
              <a:off x="93600" y="4608720"/>
              <a:ext cx="106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62626"/>
                  </a:solidFill>
                  <a:latin typeface="Arial"/>
                </a:rPr>
                <a:t>Автоматизац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152"/>
            <p:cNvGrpSpPr/>
            <p:nvPr/>
          </p:nvGrpSpPr>
          <p:grpSpPr>
            <a:xfrm>
              <a:off x="270720" y="4186800"/>
              <a:ext cx="501480" cy="507600"/>
              <a:chOff x="270720" y="4186800"/>
              <a:chExt cx="501480" cy="507600"/>
            </a:xfrm>
          </p:grpSpPr>
          <p:sp>
            <p:nvSpPr>
              <p:cNvPr id="596" name="AutoShape 1"/>
              <p:cNvSpPr/>
              <p:nvPr/>
            </p:nvSpPr>
            <p:spPr>
              <a:xfrm rot="18410400">
                <a:off x="333360" y="4268160"/>
                <a:ext cx="375840" cy="34488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344880"/>
                  <a:gd name="textAreaBottom" fmla="*/ 344880 h 34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284" y="21600"/>
                    </a:moveTo>
                    <a:lnTo>
                      <a:pt x="0" y="10830"/>
                    </a:lnTo>
                    <a:lnTo>
                      <a:pt x="8197" y="0"/>
                    </a:lnTo>
                    <a:lnTo>
                      <a:pt x="21546" y="4077"/>
                    </a:lnTo>
                    <a:lnTo>
                      <a:pt x="21600" y="17426"/>
                    </a:lnTo>
                    <a:cubicBezTo>
                      <a:pt x="21600" y="17426"/>
                      <a:pt x="8284" y="21600"/>
                      <a:pt x="8284" y="21600"/>
                    </a:cubicBezTo>
                    <a:close/>
                    <a:moveTo>
                      <a:pt x="8284" y="21600"/>
                    </a:move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13"/>
              <p:cNvSpPr/>
              <p:nvPr/>
            </p:nvSpPr>
            <p:spPr>
              <a:xfrm>
                <a:off x="374400" y="4294800"/>
                <a:ext cx="379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ctr">
                <a:noAutofit/>
              </a:bodyPr>
              <a:p>
                <a:pPr>
                  <a:tabLst>
                    <a:tab algn="l" pos="0"/>
                    <a:tab algn="l" pos="334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  <a:ea typeface="Helvetica Neue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4"/>
              <p:cNvSpPr/>
              <p:nvPr/>
            </p:nvSpPr>
            <p:spPr>
              <a:xfrm>
                <a:off x="558720" y="4286520"/>
                <a:ext cx="1184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ctr">
                <a:noAutofit/>
              </a:bodyPr>
              <a:p>
                <a:pPr>
                  <a:tabLst>
                    <a:tab algn="l" pos="0"/>
                    <a:tab algn="l" pos="334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Helvetica Neue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50"/>
            <p:cNvGrpSpPr/>
            <p:nvPr/>
          </p:nvGrpSpPr>
          <p:grpSpPr>
            <a:xfrm>
              <a:off x="1415880" y="4164120"/>
              <a:ext cx="444600" cy="424800"/>
              <a:chOff x="1415880" y="4164120"/>
              <a:chExt cx="444600" cy="424800"/>
            </a:xfrm>
          </p:grpSpPr>
          <p:grpSp>
            <p:nvGrpSpPr>
              <p:cNvPr id="600" name="Group 10"/>
              <p:cNvGrpSpPr/>
              <p:nvPr/>
            </p:nvGrpSpPr>
            <p:grpSpPr>
              <a:xfrm>
                <a:off x="1415880" y="4164120"/>
                <a:ext cx="444600" cy="424800"/>
                <a:chOff x="1415880" y="4164120"/>
                <a:chExt cx="444600" cy="424800"/>
              </a:xfrm>
            </p:grpSpPr>
            <p:sp>
              <p:nvSpPr>
                <p:cNvPr id="601" name="AutoShape 8"/>
                <p:cNvSpPr/>
                <p:nvPr/>
              </p:nvSpPr>
              <p:spPr>
                <a:xfrm>
                  <a:off x="1415880" y="4164120"/>
                  <a:ext cx="444600" cy="424800"/>
                </a:xfrm>
                <a:custGeom>
                  <a:avLst/>
                  <a:gdLst>
                    <a:gd name="textAreaLeft" fmla="*/ 0 w 444600"/>
                    <a:gd name="textAreaRight" fmla="*/ 444960 w 444600"/>
                    <a:gd name="textAreaTop" fmla="*/ 0 h 424800"/>
                    <a:gd name="textAreaBottom" fmla="*/ 425160 h 42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4752"/>
                      </a:moveTo>
                      <a:cubicBezTo>
                        <a:pt x="14135" y="4752"/>
                        <a:pt x="16848" y="7465"/>
                        <a:pt x="16848" y="10800"/>
                      </a:cubicBezTo>
                      <a:cubicBezTo>
                        <a:pt x="16848" y="14135"/>
                        <a:pt x="14135" y="16848"/>
                        <a:pt x="10800" y="16848"/>
                      </a:cubicBezTo>
                      <a:cubicBezTo>
                        <a:pt x="7465" y="16848"/>
                        <a:pt x="4752" y="14135"/>
                        <a:pt x="4752" y="10800"/>
                      </a:cubicBezTo>
                      <a:cubicBezTo>
                        <a:pt x="4752" y="7465"/>
                        <a:pt x="7465" y="4752"/>
                        <a:pt x="10800" y="4752"/>
                      </a:cubicBezTo>
                      <a:close/>
                      <a:moveTo>
                        <a:pt x="10800" y="21600"/>
                      </a:moveTo>
                      <a:cubicBezTo>
                        <a:pt x="16765" y="21600"/>
                        <a:pt x="21600" y="16765"/>
                        <a:pt x="21600" y="10800"/>
                      </a:cubicBezTo>
                      <a:cubicBezTo>
                        <a:pt x="21600" y="4835"/>
                        <a:pt x="16765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0" y="16765"/>
                        <a:pt x="4835" y="21600"/>
                        <a:pt x="10800" y="21600"/>
                      </a:cubicBezTo>
                      <a:close/>
                      <a:moveTo>
                        <a:pt x="10800" y="21600"/>
                      </a:moveTo>
                    </a:path>
                  </a:pathLst>
                </a:custGeom>
                <a:solidFill>
                  <a:srgbClr val="5b9b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9"/>
                <p:cNvSpPr/>
                <p:nvPr/>
              </p:nvSpPr>
              <p:spPr>
                <a:xfrm>
                  <a:off x="1415880" y="4164120"/>
                  <a:ext cx="380160" cy="424800"/>
                </a:xfrm>
                <a:custGeom>
                  <a:avLst/>
                  <a:gdLst>
                    <a:gd name="textAreaLeft" fmla="*/ 0 w 380160"/>
                    <a:gd name="textAreaRight" fmla="*/ 380520 w 380160"/>
                    <a:gd name="textAreaTop" fmla="*/ 0 h 424800"/>
                    <a:gd name="textAreaBottom" fmla="*/ 425160 h 42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559" y="10800"/>
                      </a:moveTo>
                      <a:cubicBezTo>
                        <a:pt x="5559" y="7465"/>
                        <a:pt x="8752" y="4752"/>
                        <a:pt x="12653" y="4752"/>
                      </a:cubicBezTo>
                      <a:cubicBezTo>
                        <a:pt x="14603" y="4752"/>
                        <a:pt x="16381" y="5430"/>
                        <a:pt x="17663" y="6525"/>
                      </a:cubicBezTo>
                      <a:lnTo>
                        <a:pt x="21600" y="3163"/>
                      </a:lnTo>
                      <a:cubicBezTo>
                        <a:pt x="19314" y="1209"/>
                        <a:pt x="16158" y="0"/>
                        <a:pt x="12670" y="0"/>
                      </a:cubicBezTo>
                      <a:cubicBezTo>
                        <a:pt x="5693" y="0"/>
                        <a:pt x="0" y="4835"/>
                        <a:pt x="0" y="10800"/>
                      </a:cubicBezTo>
                      <a:cubicBezTo>
                        <a:pt x="0" y="16765"/>
                        <a:pt x="5676" y="21600"/>
                        <a:pt x="12596" y="21600"/>
                      </a:cubicBezTo>
                      <a:lnTo>
                        <a:pt x="12596" y="16848"/>
                      </a:lnTo>
                      <a:cubicBezTo>
                        <a:pt x="8855" y="16848"/>
                        <a:pt x="5559" y="14135"/>
                        <a:pt x="5559" y="10800"/>
                      </a:cubicBezTo>
                      <a:close/>
                      <a:moveTo>
                        <a:pt x="5559" y="10800"/>
                      </a:moveTo>
                    </a:path>
                  </a:pathLst>
                </a:custGeom>
                <a:solidFill>
                  <a:srgbClr val="ee73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18"/>
              <p:cNvGrpSpPr/>
              <p:nvPr/>
            </p:nvGrpSpPr>
            <p:grpSpPr>
              <a:xfrm>
                <a:off x="1477800" y="4306680"/>
                <a:ext cx="277560" cy="164160"/>
                <a:chOff x="1477800" y="4306680"/>
                <a:chExt cx="277560" cy="164160"/>
              </a:xfrm>
            </p:grpSpPr>
            <p:sp>
              <p:nvSpPr>
                <p:cNvPr id="604" name="Rectangle 16"/>
                <p:cNvSpPr/>
                <p:nvPr/>
              </p:nvSpPr>
              <p:spPr>
                <a:xfrm>
                  <a:off x="1661760" y="4309560"/>
                  <a:ext cx="87120" cy="8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160" rIns="38160" tIns="38160" bIns="38160" anchor="ctr">
                  <a:noAutofit/>
                </a:bodyPr>
                <a:p>
                  <a:pPr>
                    <a:tabLst>
                      <a:tab algn="l" pos="0"/>
                      <a:tab algn="l" pos="3348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262626"/>
                      </a:solidFill>
                      <a:latin typeface="Arial"/>
                      <a:ea typeface="Helvetica Neue"/>
                    </a:rPr>
                    <a:t>%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17"/>
                <p:cNvSpPr/>
                <p:nvPr/>
              </p:nvSpPr>
              <p:spPr>
                <a:xfrm>
                  <a:off x="1477800" y="4306680"/>
                  <a:ext cx="277560" cy="16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160" rIns="38160" tIns="38160" bIns="38160" anchor="b">
                  <a:noAutofit/>
                </a:bodyPr>
                <a:p>
                  <a:pPr algn="ctr">
                    <a:lnSpc>
                      <a:spcPts val="975"/>
                    </a:lnSpc>
                    <a:tabLst>
                      <a:tab algn="l" pos="0"/>
                      <a:tab algn="l" pos="3348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62626"/>
                      </a:solidFill>
                      <a:latin typeface="Arial"/>
                      <a:ea typeface="Helvetica Neue"/>
                    </a:rPr>
                    <a:t>7</a:t>
                  </a:r>
                  <a:r>
                    <a:rPr b="1" lang="ru-RU" sz="1200" spc="-1" strike="noStrike">
                      <a:solidFill>
                        <a:srgbClr val="262626"/>
                      </a:solidFill>
                      <a:latin typeface="Arial"/>
                      <a:ea typeface="Helvetica Neue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6" name="Прямоугольник 97"/>
            <p:cNvSpPr/>
            <p:nvPr/>
          </p:nvSpPr>
          <p:spPr>
            <a:xfrm>
              <a:off x="1316160" y="4287960"/>
              <a:ext cx="311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62626"/>
                  </a:solidFill>
                  <a:latin typeface="Arial"/>
                  <a:ea typeface="Helvetica Neue"/>
                </a:rPr>
                <a:t>2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62626"/>
                  </a:solidFill>
                  <a:latin typeface="Arial"/>
                  <a:ea typeface="Helvetica Neue"/>
                </a:rPr>
                <a:t>И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Прямоугольник 98"/>
            <p:cNvSpPr/>
            <p:nvPr/>
          </p:nvSpPr>
          <p:spPr>
            <a:xfrm>
              <a:off x="1652760" y="4295880"/>
              <a:ext cx="33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62626"/>
                  </a:solidFill>
                  <a:latin typeface="Arial"/>
                  <a:ea typeface="Helvetica Neue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62626"/>
                  </a:solidFill>
                  <a:latin typeface="Arial"/>
                </a:rPr>
                <a:t>И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Прямоугольник 99"/>
            <p:cNvSpPr/>
            <p:nvPr/>
          </p:nvSpPr>
          <p:spPr>
            <a:xfrm>
              <a:off x="1200960" y="460872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62626"/>
                  </a:solidFill>
                  <a:latin typeface="Arial"/>
                </a:rPr>
                <a:t>Амортизац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100"/>
            <p:cNvSpPr/>
            <p:nvPr/>
          </p:nvSpPr>
          <p:spPr>
            <a:xfrm>
              <a:off x="2327400" y="4608720"/>
              <a:ext cx="522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62626"/>
                  </a:solidFill>
                  <a:latin typeface="Arial"/>
                </a:rPr>
                <a:t>Изно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Прямоугольник 101"/>
            <p:cNvSpPr/>
            <p:nvPr/>
          </p:nvSpPr>
          <p:spPr>
            <a:xfrm>
              <a:off x="3066480" y="4608720"/>
              <a:ext cx="151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62626"/>
                  </a:solidFill>
                  <a:latin typeface="Arial"/>
                </a:rPr>
                <a:t>Отсутствие интег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22"/>
            <p:cNvGrpSpPr/>
            <p:nvPr/>
          </p:nvGrpSpPr>
          <p:grpSpPr>
            <a:xfrm>
              <a:off x="2333880" y="4215600"/>
              <a:ext cx="392040" cy="373320"/>
              <a:chOff x="2333880" y="4215600"/>
              <a:chExt cx="392040" cy="373320"/>
            </a:xfrm>
          </p:grpSpPr>
          <p:sp>
            <p:nvSpPr>
              <p:cNvPr id="612" name="AutoShape 5"/>
              <p:cNvSpPr/>
              <p:nvPr/>
            </p:nvSpPr>
            <p:spPr>
              <a:xfrm>
                <a:off x="2333880" y="4215600"/>
                <a:ext cx="373320" cy="362880"/>
              </a:xfrm>
              <a:custGeom>
                <a:avLst/>
                <a:gdLst>
                  <a:gd name="textAreaLeft" fmla="*/ 0 w 373320"/>
                  <a:gd name="textAreaRight" fmla="*/ 373680 w 37332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284" y="21600"/>
                    </a:moveTo>
                    <a:lnTo>
                      <a:pt x="0" y="10830"/>
                    </a:lnTo>
                    <a:lnTo>
                      <a:pt x="8197" y="0"/>
                    </a:lnTo>
                    <a:lnTo>
                      <a:pt x="21546" y="4077"/>
                    </a:lnTo>
                    <a:lnTo>
                      <a:pt x="21600" y="17426"/>
                    </a:lnTo>
                    <a:cubicBezTo>
                      <a:pt x="21600" y="17426"/>
                      <a:pt x="8284" y="21600"/>
                      <a:pt x="8284" y="21600"/>
                    </a:cubicBezTo>
                    <a:close/>
                    <a:moveTo>
                      <a:pt x="8284" y="21600"/>
                    </a:moveTo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6"/>
              <p:cNvSpPr/>
              <p:nvPr/>
            </p:nvSpPr>
            <p:spPr>
              <a:xfrm>
                <a:off x="2589840" y="4259160"/>
                <a:ext cx="9468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ctr">
                <a:noAutofit/>
              </a:bodyPr>
              <a:p>
                <a:pPr>
                  <a:tabLst>
                    <a:tab algn="l" pos="0"/>
                    <a:tab algn="l" pos="334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Helvetica Neue"/>
                  </a:rPr>
                  <a:t>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7"/>
              <p:cNvSpPr/>
              <p:nvPr/>
            </p:nvSpPr>
            <p:spPr>
              <a:xfrm>
                <a:off x="2398680" y="4248000"/>
                <a:ext cx="27504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ctr">
                <a:noAutofit/>
              </a:bodyPr>
              <a:p>
                <a:pPr>
                  <a:tabLst>
                    <a:tab algn="l" pos="0"/>
                    <a:tab algn="l" pos="334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  <a:ea typeface="Helvetica Neue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Helvetica Neue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5"/>
              <p:cNvSpPr/>
              <p:nvPr/>
            </p:nvSpPr>
            <p:spPr>
              <a:xfrm>
                <a:off x="2382120" y="4518360"/>
                <a:ext cx="343800" cy="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Прямоугольник 107"/>
            <p:cNvSpPr/>
            <p:nvPr/>
          </p:nvSpPr>
          <p:spPr>
            <a:xfrm>
              <a:off x="2347560" y="4371120"/>
              <a:ext cx="459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ffffff"/>
                  </a:solidFill>
                  <a:latin typeface="Arial"/>
                  <a:ea typeface="Bebas"/>
                </a:rPr>
                <a:t>активо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Рисунок 108" descr="Без имени-1 (2).png"/>
            <p:cNvPicPr/>
            <p:nvPr/>
          </p:nvPicPr>
          <p:blipFill>
            <a:blip r:embed="rId1"/>
            <a:stretch/>
          </p:blipFill>
          <p:spPr>
            <a:xfrm>
              <a:off x="3274200" y="4195800"/>
              <a:ext cx="729720" cy="4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Круговая стрелка 109"/>
            <p:cNvSpPr/>
            <p:nvPr/>
          </p:nvSpPr>
          <p:spPr>
            <a:xfrm>
              <a:off x="3480120" y="3206880"/>
              <a:ext cx="372960" cy="336240"/>
            </a:xfrm>
            <a:custGeom>
              <a:avLst/>
              <a:gdLst/>
              <a:ahLst/>
              <a:rect l="l" t="t" r="r" b="b"/>
              <a:pathLst>
                <a:path w="736973" h="643670">
                  <a:moveTo>
                    <a:pt x="198777" y="80785"/>
                  </a:moveTo>
                  <a:cubicBezTo>
                    <a:pt x="277973" y="39750"/>
                    <a:pt x="373677" y="29292"/>
                    <a:pt x="462336" y="51984"/>
                  </a:cubicBezTo>
                  <a:cubicBezTo>
                    <a:pt x="563683" y="77924"/>
                    <a:pt x="644253" y="144166"/>
                    <a:pt x="678769" y="229929"/>
                  </a:cubicBezTo>
                  <a:lnTo>
                    <a:pt x="715277" y="229929"/>
                  </a:lnTo>
                  <a:lnTo>
                    <a:pt x="656514" y="321835"/>
                  </a:lnTo>
                  <a:lnTo>
                    <a:pt x="554360" y="229929"/>
                  </a:lnTo>
                  <a:lnTo>
                    <a:pt x="588906" y="229929"/>
                  </a:lnTo>
                  <a:cubicBezTo>
                    <a:pt x="555702" y="177458"/>
                    <a:pt x="495798" y="139462"/>
                    <a:pt x="425047" y="125998"/>
                  </a:cubicBezTo>
                  <a:cubicBezTo>
                    <a:pt x="364059" y="114392"/>
                    <a:pt x="299920" y="121966"/>
                    <a:pt x="245534" y="147196"/>
                  </a:cubicBezTo>
                  <a:lnTo>
                    <a:pt x="198777" y="80785"/>
                  </a:lnTo>
                  <a:close/>
                </a:path>
              </a:pathLst>
            </a:custGeom>
            <a:solidFill>
              <a:srgbClr val="87c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Круговая стрелка 110"/>
            <p:cNvSpPr/>
            <p:nvPr/>
          </p:nvSpPr>
          <p:spPr>
            <a:xfrm rot="14409600">
              <a:off x="3463200" y="3240360"/>
              <a:ext cx="384120" cy="325440"/>
            </a:xfrm>
            <a:custGeom>
              <a:avLst/>
              <a:gdLst/>
              <a:ahLst/>
              <a:rect l="l" t="t" r="r" b="b"/>
              <a:pathLst>
                <a:path w="734756" h="642891">
                  <a:moveTo>
                    <a:pt x="237981" y="63110"/>
                  </a:moveTo>
                  <a:cubicBezTo>
                    <a:pt x="315404" y="34453"/>
                    <a:pt x="402706" y="32589"/>
                    <a:pt x="481690" y="57904"/>
                  </a:cubicBezTo>
                  <a:cubicBezTo>
                    <a:pt x="573328" y="87276"/>
                    <a:pt x="644876" y="150345"/>
                    <a:pt x="676732" y="229831"/>
                  </a:cubicBezTo>
                  <a:lnTo>
                    <a:pt x="713225" y="229831"/>
                  </a:lnTo>
                  <a:lnTo>
                    <a:pt x="654395" y="321445"/>
                  </a:lnTo>
                  <a:lnTo>
                    <a:pt x="552502" y="229831"/>
                  </a:lnTo>
                  <a:lnTo>
                    <a:pt x="587056" y="229831"/>
                  </a:lnTo>
                  <a:cubicBezTo>
                    <a:pt x="556489" y="181277"/>
                    <a:pt x="502975" y="144928"/>
                    <a:pt x="438813" y="129139"/>
                  </a:cubicBezTo>
                  <a:cubicBezTo>
                    <a:pt x="384678" y="115818"/>
                    <a:pt x="326565" y="118031"/>
                    <a:pt x="274195" y="135408"/>
                  </a:cubicBezTo>
                  <a:lnTo>
                    <a:pt x="237981" y="63110"/>
                  </a:lnTo>
                  <a:close/>
                </a:path>
              </a:pathLst>
            </a:custGeom>
            <a:solidFill>
              <a:srgbClr val="ee7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111"/>
            <p:cNvSpPr/>
            <p:nvPr/>
          </p:nvSpPr>
          <p:spPr>
            <a:xfrm>
              <a:off x="828000" y="268164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Заявка</a:t>
              </a:r>
              <a:r>
                <a:rPr b="0" lang="ru-RU" sz="700" spc="-1" strike="noStrike">
                  <a:solidFill>
                    <a:srgbClr val="ff0000"/>
                  </a:solidFill>
                  <a:latin typeface="Arial"/>
                  <a:ea typeface="PMingLiU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Straight Connector 43"/>
            <p:cNvSpPr/>
            <p:nvPr/>
          </p:nvSpPr>
          <p:spPr>
            <a:xfrm>
              <a:off x="92160" y="4149720"/>
              <a:ext cx="4303800" cy="1440"/>
            </a:xfrm>
            <a:prstGeom prst="line">
              <a:avLst/>
            </a:prstGeom>
            <a:ln w="22320">
              <a:solidFill>
                <a:srgbClr val="4472c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Группа 134"/>
            <p:cNvGrpSpPr/>
            <p:nvPr/>
          </p:nvGrpSpPr>
          <p:grpSpPr>
            <a:xfrm>
              <a:off x="1248840" y="2534400"/>
              <a:ext cx="903960" cy="933840"/>
              <a:chOff x="1248840" y="2534400"/>
              <a:chExt cx="903960" cy="933840"/>
            </a:xfrm>
          </p:grpSpPr>
          <p:sp>
            <p:nvSpPr>
              <p:cNvPr id="623" name="椭圆 146"/>
              <p:cNvSpPr/>
              <p:nvPr/>
            </p:nvSpPr>
            <p:spPr>
              <a:xfrm>
                <a:off x="1248840" y="2534400"/>
                <a:ext cx="903960" cy="933840"/>
              </a:xfrm>
              <a:prstGeom prst="ellipse">
                <a:avLst/>
              </a:prstGeom>
              <a:solidFill>
                <a:srgbClr val="ff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4" name="Group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95720" y="2767320"/>
                <a:ext cx="603360" cy="506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5" name="Группа 131"/>
            <p:cNvGrpSpPr/>
            <p:nvPr/>
          </p:nvGrpSpPr>
          <p:grpSpPr>
            <a:xfrm>
              <a:off x="2912400" y="1936800"/>
              <a:ext cx="433800" cy="448200"/>
              <a:chOff x="2912400" y="1936800"/>
              <a:chExt cx="433800" cy="448200"/>
            </a:xfrm>
          </p:grpSpPr>
          <p:sp>
            <p:nvSpPr>
              <p:cNvPr id="626" name="椭圆 149"/>
              <p:cNvSpPr/>
              <p:nvPr/>
            </p:nvSpPr>
            <p:spPr>
              <a:xfrm>
                <a:off x="2912400" y="1936800"/>
                <a:ext cx="433800" cy="448200"/>
              </a:xfrm>
              <a:prstGeom prst="ellipse">
                <a:avLst/>
              </a:prstGeom>
              <a:solidFill>
                <a:srgbClr val="ff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4"/>
              <p:cNvSpPr/>
              <p:nvPr/>
            </p:nvSpPr>
            <p:spPr>
              <a:xfrm>
                <a:off x="2984400" y="2006280"/>
                <a:ext cx="288720" cy="30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428" y="17466"/>
                    </a:moveTo>
                    <a:cubicBezTo>
                      <a:pt x="16669" y="16923"/>
                      <a:pt x="15846" y="16465"/>
                      <a:pt x="14963" y="16121"/>
                    </a:cubicBezTo>
                    <a:cubicBezTo>
                      <a:pt x="15595" y="14609"/>
                      <a:pt x="15967" y="12928"/>
                      <a:pt x="16010" y="11148"/>
                    </a:cubicBezTo>
                    <a:lnTo>
                      <a:pt x="20188" y="11148"/>
                    </a:lnTo>
                    <a:cubicBezTo>
                      <a:pt x="20097" y="13612"/>
                      <a:pt x="19065" y="15838"/>
                      <a:pt x="17428" y="17466"/>
                    </a:cubicBezTo>
                    <a:moveTo>
                      <a:pt x="1411" y="11148"/>
                    </a:moveTo>
                    <a:lnTo>
                      <a:pt x="5589" y="11148"/>
                    </a:lnTo>
                    <a:cubicBezTo>
                      <a:pt x="5632" y="12928"/>
                      <a:pt x="6004" y="14609"/>
                      <a:pt x="6636" y="16121"/>
                    </a:cubicBezTo>
                    <a:cubicBezTo>
                      <a:pt x="5753" y="16465"/>
                      <a:pt x="4931" y="16923"/>
                      <a:pt x="4171" y="17466"/>
                    </a:cubicBezTo>
                    <a:cubicBezTo>
                      <a:pt x="2534" y="15838"/>
                      <a:pt x="1502" y="13612"/>
                      <a:pt x="1411" y="11148"/>
                    </a:cubicBezTo>
                    <a:moveTo>
                      <a:pt x="3785" y="4553"/>
                    </a:moveTo>
                    <a:cubicBezTo>
                      <a:pt x="4579" y="5170"/>
                      <a:pt x="5448" y="5691"/>
                      <a:pt x="6388" y="6084"/>
                    </a:cubicBezTo>
                    <a:cubicBezTo>
                      <a:pt x="5901" y="7433"/>
                      <a:pt x="5627" y="8908"/>
                      <a:pt x="5589" y="10451"/>
                    </a:cubicBezTo>
                    <a:lnTo>
                      <a:pt x="1411" y="10451"/>
                    </a:lnTo>
                    <a:cubicBezTo>
                      <a:pt x="1494" y="8190"/>
                      <a:pt x="2376" y="6135"/>
                      <a:pt x="3785" y="4553"/>
                    </a:cubicBezTo>
                    <a:moveTo>
                      <a:pt x="11148" y="10451"/>
                    </a:moveTo>
                    <a:lnTo>
                      <a:pt x="11148" y="6950"/>
                    </a:lnTo>
                    <a:cubicBezTo>
                      <a:pt x="12339" y="6913"/>
                      <a:pt x="13484" y="6696"/>
                      <a:pt x="14558" y="6324"/>
                    </a:cubicBezTo>
                    <a:cubicBezTo>
                      <a:pt x="15018" y="7598"/>
                      <a:pt x="15276" y="8992"/>
                      <a:pt x="15314" y="10451"/>
                    </a:cubicBezTo>
                    <a:cubicBezTo>
                      <a:pt x="15314" y="10451"/>
                      <a:pt x="11148" y="10451"/>
                      <a:pt x="11148" y="10451"/>
                    </a:cubicBezTo>
                    <a:close/>
                    <a:moveTo>
                      <a:pt x="14311" y="15882"/>
                    </a:moveTo>
                    <a:cubicBezTo>
                      <a:pt x="13309" y="15559"/>
                      <a:pt x="12247" y="15380"/>
                      <a:pt x="11148" y="15346"/>
                    </a:cubicBezTo>
                    <a:lnTo>
                      <a:pt x="11148" y="11148"/>
                    </a:lnTo>
                    <a:lnTo>
                      <a:pt x="15314" y="11148"/>
                    </a:lnTo>
                    <a:cubicBezTo>
                      <a:pt x="15270" y="12844"/>
                      <a:pt x="14914" y="14445"/>
                      <a:pt x="14311" y="15882"/>
                    </a:cubicBezTo>
                    <a:moveTo>
                      <a:pt x="14683" y="16757"/>
                    </a:moveTo>
                    <a:cubicBezTo>
                      <a:pt x="15476" y="17063"/>
                      <a:pt x="16218" y="17466"/>
                      <a:pt x="16904" y="17941"/>
                    </a:cubicBezTo>
                    <a:cubicBezTo>
                      <a:pt x="15632" y="19031"/>
                      <a:pt x="14067" y="19781"/>
                      <a:pt x="12344" y="20068"/>
                    </a:cubicBezTo>
                    <a:cubicBezTo>
                      <a:pt x="13280" y="19136"/>
                      <a:pt x="14076" y="18017"/>
                      <a:pt x="14683" y="16757"/>
                    </a:cubicBezTo>
                    <a:moveTo>
                      <a:pt x="11148" y="20188"/>
                    </a:moveTo>
                    <a:lnTo>
                      <a:pt x="11148" y="16043"/>
                    </a:lnTo>
                    <a:cubicBezTo>
                      <a:pt x="12146" y="16075"/>
                      <a:pt x="13113" y="16231"/>
                      <a:pt x="14025" y="16516"/>
                    </a:cubicBezTo>
                    <a:cubicBezTo>
                      <a:pt x="13314" y="17970"/>
                      <a:pt x="12343" y="19223"/>
                      <a:pt x="11185" y="20186"/>
                    </a:cubicBezTo>
                    <a:cubicBezTo>
                      <a:pt x="11185" y="20186"/>
                      <a:pt x="11148" y="20188"/>
                      <a:pt x="11148" y="20188"/>
                    </a:cubicBezTo>
                    <a:close/>
                    <a:moveTo>
                      <a:pt x="9255" y="20068"/>
                    </a:moveTo>
                    <a:cubicBezTo>
                      <a:pt x="7532" y="19781"/>
                      <a:pt x="5967" y="19031"/>
                      <a:pt x="4695" y="17941"/>
                    </a:cubicBezTo>
                    <a:cubicBezTo>
                      <a:pt x="5381" y="17466"/>
                      <a:pt x="6123" y="17063"/>
                      <a:pt x="6916" y="16757"/>
                    </a:cubicBezTo>
                    <a:cubicBezTo>
                      <a:pt x="7523" y="18017"/>
                      <a:pt x="8319" y="19136"/>
                      <a:pt x="9255" y="20068"/>
                    </a:cubicBezTo>
                    <a:moveTo>
                      <a:pt x="10451" y="11148"/>
                    </a:moveTo>
                    <a:lnTo>
                      <a:pt x="10451" y="15346"/>
                    </a:lnTo>
                    <a:cubicBezTo>
                      <a:pt x="9352" y="15380"/>
                      <a:pt x="8290" y="15559"/>
                      <a:pt x="7288" y="15882"/>
                    </a:cubicBezTo>
                    <a:cubicBezTo>
                      <a:pt x="6685" y="14445"/>
                      <a:pt x="6329" y="12844"/>
                      <a:pt x="6285" y="11148"/>
                    </a:cubicBezTo>
                    <a:cubicBezTo>
                      <a:pt x="6285" y="11148"/>
                      <a:pt x="10451" y="11148"/>
                      <a:pt x="10451" y="11148"/>
                    </a:cubicBezTo>
                    <a:close/>
                    <a:moveTo>
                      <a:pt x="7041" y="6324"/>
                    </a:moveTo>
                    <a:cubicBezTo>
                      <a:pt x="8115" y="6696"/>
                      <a:pt x="9260" y="6913"/>
                      <a:pt x="10451" y="6950"/>
                    </a:cubicBezTo>
                    <a:lnTo>
                      <a:pt x="10451" y="10451"/>
                    </a:lnTo>
                    <a:lnTo>
                      <a:pt x="6285" y="10451"/>
                    </a:lnTo>
                    <a:cubicBezTo>
                      <a:pt x="6324" y="8992"/>
                      <a:pt x="6581" y="7598"/>
                      <a:pt x="7041" y="6324"/>
                    </a:cubicBezTo>
                    <a:moveTo>
                      <a:pt x="6651" y="5442"/>
                    </a:moveTo>
                    <a:cubicBezTo>
                      <a:pt x="5790" y="5084"/>
                      <a:pt x="4993" y="4609"/>
                      <a:pt x="4263" y="4050"/>
                    </a:cubicBezTo>
                    <a:cubicBezTo>
                      <a:pt x="5606" y="2749"/>
                      <a:pt x="7332" y="1851"/>
                      <a:pt x="9255" y="1531"/>
                    </a:cubicBezTo>
                    <a:cubicBezTo>
                      <a:pt x="8175" y="2610"/>
                      <a:pt x="7286" y="3939"/>
                      <a:pt x="6651" y="5442"/>
                    </a:cubicBezTo>
                    <a:moveTo>
                      <a:pt x="10451" y="1411"/>
                    </a:moveTo>
                    <a:lnTo>
                      <a:pt x="10451" y="6253"/>
                    </a:lnTo>
                    <a:cubicBezTo>
                      <a:pt x="9352" y="6217"/>
                      <a:pt x="8296" y="6021"/>
                      <a:pt x="7303" y="5681"/>
                    </a:cubicBezTo>
                    <a:cubicBezTo>
                      <a:pt x="8029" y="3972"/>
                      <a:pt x="9101" y="2507"/>
                      <a:pt x="10415" y="1413"/>
                    </a:cubicBezTo>
                    <a:cubicBezTo>
                      <a:pt x="10427" y="1412"/>
                      <a:pt x="10439" y="1411"/>
                      <a:pt x="10451" y="1411"/>
                    </a:cubicBezTo>
                    <a:moveTo>
                      <a:pt x="12344" y="1531"/>
                    </a:moveTo>
                    <a:cubicBezTo>
                      <a:pt x="14267" y="1851"/>
                      <a:pt x="15993" y="2749"/>
                      <a:pt x="17336" y="4050"/>
                    </a:cubicBezTo>
                    <a:cubicBezTo>
                      <a:pt x="16606" y="4609"/>
                      <a:pt x="15809" y="5084"/>
                      <a:pt x="14948" y="5442"/>
                    </a:cubicBezTo>
                    <a:cubicBezTo>
                      <a:pt x="14313" y="3939"/>
                      <a:pt x="13424" y="2610"/>
                      <a:pt x="12344" y="1531"/>
                    </a:cubicBezTo>
                    <a:moveTo>
                      <a:pt x="11184" y="1413"/>
                    </a:moveTo>
                    <a:cubicBezTo>
                      <a:pt x="12498" y="2507"/>
                      <a:pt x="13570" y="3972"/>
                      <a:pt x="14296" y="5681"/>
                    </a:cubicBezTo>
                    <a:cubicBezTo>
                      <a:pt x="13303" y="6021"/>
                      <a:pt x="12247" y="6217"/>
                      <a:pt x="11148" y="6253"/>
                    </a:cubicBezTo>
                    <a:lnTo>
                      <a:pt x="11148" y="1411"/>
                    </a:lnTo>
                    <a:cubicBezTo>
                      <a:pt x="11160" y="1411"/>
                      <a:pt x="11172" y="1412"/>
                      <a:pt x="11184" y="1413"/>
                    </a:cubicBezTo>
                    <a:moveTo>
                      <a:pt x="10414" y="20186"/>
                    </a:moveTo>
                    <a:cubicBezTo>
                      <a:pt x="9256" y="19223"/>
                      <a:pt x="8285" y="17970"/>
                      <a:pt x="7574" y="16516"/>
                    </a:cubicBezTo>
                    <a:cubicBezTo>
                      <a:pt x="8486" y="16231"/>
                      <a:pt x="9453" y="16075"/>
                      <a:pt x="10451" y="16043"/>
                    </a:cubicBezTo>
                    <a:lnTo>
                      <a:pt x="10451" y="20188"/>
                    </a:lnTo>
                    <a:cubicBezTo>
                      <a:pt x="10451" y="20188"/>
                      <a:pt x="10414" y="20186"/>
                      <a:pt x="10414" y="20186"/>
                    </a:cubicBezTo>
                    <a:close/>
                    <a:moveTo>
                      <a:pt x="20188" y="10451"/>
                    </a:moveTo>
                    <a:lnTo>
                      <a:pt x="16010" y="10451"/>
                    </a:lnTo>
                    <a:cubicBezTo>
                      <a:pt x="15972" y="8908"/>
                      <a:pt x="15698" y="7433"/>
                      <a:pt x="15211" y="6084"/>
                    </a:cubicBezTo>
                    <a:cubicBezTo>
                      <a:pt x="16151" y="5691"/>
                      <a:pt x="17020" y="5170"/>
                      <a:pt x="17814" y="4553"/>
                    </a:cubicBezTo>
                    <a:cubicBezTo>
                      <a:pt x="19223" y="6135"/>
                      <a:pt x="20105" y="8190"/>
                      <a:pt x="20188" y="10451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4" y="21600"/>
                      <a:pt x="21600" y="16764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</a:path>
                </a:pathLst>
              </a:cu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Группа 145"/>
            <p:cNvGrpSpPr/>
            <p:nvPr/>
          </p:nvGrpSpPr>
          <p:grpSpPr>
            <a:xfrm>
              <a:off x="2923560" y="2700720"/>
              <a:ext cx="433800" cy="448200"/>
              <a:chOff x="2923560" y="2700720"/>
              <a:chExt cx="433800" cy="448200"/>
            </a:xfrm>
          </p:grpSpPr>
          <p:sp>
            <p:nvSpPr>
              <p:cNvPr id="629" name="椭圆 147"/>
              <p:cNvSpPr/>
              <p:nvPr/>
            </p:nvSpPr>
            <p:spPr>
              <a:xfrm>
                <a:off x="2923560" y="2700720"/>
                <a:ext cx="433800" cy="448200"/>
              </a:xfrm>
              <a:prstGeom prst="ellipse">
                <a:avLst/>
              </a:prstGeom>
              <a:solidFill>
                <a:srgbClr val="ff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0" name="Group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2968560" y="2755440"/>
                <a:ext cx="329040" cy="34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1" name="Группа 152"/>
            <p:cNvGrpSpPr/>
            <p:nvPr/>
          </p:nvGrpSpPr>
          <p:grpSpPr>
            <a:xfrm>
              <a:off x="2948760" y="3468240"/>
              <a:ext cx="397800" cy="410760"/>
              <a:chOff x="2948760" y="3468240"/>
              <a:chExt cx="397800" cy="410760"/>
            </a:xfrm>
          </p:grpSpPr>
          <p:sp>
            <p:nvSpPr>
              <p:cNvPr id="632" name="椭圆 148"/>
              <p:cNvSpPr/>
              <p:nvPr/>
            </p:nvSpPr>
            <p:spPr>
              <a:xfrm>
                <a:off x="2948760" y="3468240"/>
                <a:ext cx="397800" cy="410760"/>
              </a:xfrm>
              <a:prstGeom prst="ellipse">
                <a:avLst/>
              </a:prstGeom>
              <a:solidFill>
                <a:srgbClr val="ff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12"/>
              <p:cNvSpPr/>
              <p:nvPr/>
            </p:nvSpPr>
            <p:spPr>
              <a:xfrm>
                <a:off x="3044880" y="3568320"/>
                <a:ext cx="210240" cy="21888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767" y="5419"/>
                    </a:moveTo>
                    <a:cubicBezTo>
                      <a:pt x="4051" y="5419"/>
                      <a:pt x="4271" y="5505"/>
                      <a:pt x="4427" y="5687"/>
                    </a:cubicBezTo>
                    <a:cubicBezTo>
                      <a:pt x="4586" y="5865"/>
                      <a:pt x="4701" y="6078"/>
                      <a:pt x="4766" y="6326"/>
                    </a:cubicBezTo>
                    <a:cubicBezTo>
                      <a:pt x="4835" y="6574"/>
                      <a:pt x="4879" y="6836"/>
                      <a:pt x="4893" y="7106"/>
                    </a:cubicBezTo>
                    <a:cubicBezTo>
                      <a:pt x="4910" y="7377"/>
                      <a:pt x="4917" y="7596"/>
                      <a:pt x="4917" y="7760"/>
                    </a:cubicBezTo>
                    <a:lnTo>
                      <a:pt x="4917" y="9856"/>
                    </a:lnTo>
                    <a:cubicBezTo>
                      <a:pt x="4809" y="9928"/>
                      <a:pt x="4720" y="10015"/>
                      <a:pt x="4646" y="10110"/>
                    </a:cubicBezTo>
                    <a:cubicBezTo>
                      <a:pt x="4574" y="10208"/>
                      <a:pt x="4468" y="10257"/>
                      <a:pt x="4329" y="10257"/>
                    </a:cubicBezTo>
                    <a:lnTo>
                      <a:pt x="561" y="10257"/>
                    </a:lnTo>
                    <a:cubicBezTo>
                      <a:pt x="439" y="10257"/>
                      <a:pt x="338" y="10208"/>
                      <a:pt x="256" y="10110"/>
                    </a:cubicBezTo>
                    <a:cubicBezTo>
                      <a:pt x="177" y="10015"/>
                      <a:pt x="93" y="9928"/>
                      <a:pt x="0" y="9856"/>
                    </a:cubicBezTo>
                    <a:lnTo>
                      <a:pt x="0" y="7760"/>
                    </a:lnTo>
                    <a:cubicBezTo>
                      <a:pt x="0" y="7596"/>
                      <a:pt x="4" y="7377"/>
                      <a:pt x="12" y="7106"/>
                    </a:cubicBezTo>
                    <a:cubicBezTo>
                      <a:pt x="19" y="6836"/>
                      <a:pt x="57" y="6574"/>
                      <a:pt x="124" y="6326"/>
                    </a:cubicBezTo>
                    <a:cubicBezTo>
                      <a:pt x="196" y="6078"/>
                      <a:pt x="309" y="5865"/>
                      <a:pt x="465" y="5687"/>
                    </a:cubicBezTo>
                    <a:cubicBezTo>
                      <a:pt x="624" y="5508"/>
                      <a:pt x="842" y="5419"/>
                      <a:pt x="1123" y="5419"/>
                    </a:cubicBezTo>
                    <a:cubicBezTo>
                      <a:pt x="782" y="5151"/>
                      <a:pt x="508" y="4803"/>
                      <a:pt x="304" y="4377"/>
                    </a:cubicBezTo>
                    <a:cubicBezTo>
                      <a:pt x="103" y="3950"/>
                      <a:pt x="0" y="3469"/>
                      <a:pt x="0" y="2937"/>
                    </a:cubicBezTo>
                    <a:cubicBezTo>
                      <a:pt x="0" y="2539"/>
                      <a:pt x="64" y="2162"/>
                      <a:pt x="189" y="1805"/>
                    </a:cubicBezTo>
                    <a:cubicBezTo>
                      <a:pt x="316" y="1448"/>
                      <a:pt x="491" y="1134"/>
                      <a:pt x="717" y="861"/>
                    </a:cubicBezTo>
                    <a:cubicBezTo>
                      <a:pt x="943" y="590"/>
                      <a:pt x="1207" y="380"/>
                      <a:pt x="1504" y="227"/>
                    </a:cubicBezTo>
                    <a:cubicBezTo>
                      <a:pt x="1804" y="77"/>
                      <a:pt x="2119" y="0"/>
                      <a:pt x="2445" y="0"/>
                    </a:cubicBezTo>
                    <a:cubicBezTo>
                      <a:pt x="2793" y="0"/>
                      <a:pt x="3115" y="77"/>
                      <a:pt x="3412" y="227"/>
                    </a:cubicBezTo>
                    <a:cubicBezTo>
                      <a:pt x="3712" y="380"/>
                      <a:pt x="3969" y="590"/>
                      <a:pt x="4188" y="861"/>
                    </a:cubicBezTo>
                    <a:cubicBezTo>
                      <a:pt x="4406" y="1134"/>
                      <a:pt x="4584" y="1448"/>
                      <a:pt x="4716" y="1805"/>
                    </a:cubicBezTo>
                    <a:cubicBezTo>
                      <a:pt x="4850" y="2162"/>
                      <a:pt x="4917" y="2539"/>
                      <a:pt x="4917" y="2937"/>
                    </a:cubicBezTo>
                    <a:cubicBezTo>
                      <a:pt x="4917" y="3458"/>
                      <a:pt x="4814" y="3939"/>
                      <a:pt x="4603" y="4371"/>
                    </a:cubicBezTo>
                    <a:cubicBezTo>
                      <a:pt x="4391" y="4800"/>
                      <a:pt x="4115" y="5151"/>
                      <a:pt x="3767" y="5419"/>
                    </a:cubicBezTo>
                    <a:moveTo>
                      <a:pt x="18165" y="12062"/>
                    </a:moveTo>
                    <a:cubicBezTo>
                      <a:pt x="18672" y="12604"/>
                      <a:pt x="19070" y="13142"/>
                      <a:pt x="19356" y="13669"/>
                    </a:cubicBezTo>
                    <a:cubicBezTo>
                      <a:pt x="19641" y="14196"/>
                      <a:pt x="19788" y="14801"/>
                      <a:pt x="19788" y="15480"/>
                    </a:cubicBezTo>
                    <a:lnTo>
                      <a:pt x="19788" y="20816"/>
                    </a:lnTo>
                    <a:cubicBezTo>
                      <a:pt x="19694" y="20868"/>
                      <a:pt x="19620" y="20931"/>
                      <a:pt x="19557" y="20995"/>
                    </a:cubicBezTo>
                    <a:cubicBezTo>
                      <a:pt x="19497" y="21061"/>
                      <a:pt x="19425" y="21122"/>
                      <a:pt x="19344" y="21191"/>
                    </a:cubicBezTo>
                    <a:cubicBezTo>
                      <a:pt x="19262" y="21251"/>
                      <a:pt x="19173" y="21317"/>
                      <a:pt x="19075" y="21386"/>
                    </a:cubicBezTo>
                    <a:cubicBezTo>
                      <a:pt x="18976" y="21455"/>
                      <a:pt x="18835" y="21528"/>
                      <a:pt x="18662" y="21600"/>
                    </a:cubicBezTo>
                    <a:lnTo>
                      <a:pt x="2942" y="21600"/>
                    </a:lnTo>
                    <a:cubicBezTo>
                      <a:pt x="2675" y="21600"/>
                      <a:pt x="2467" y="21499"/>
                      <a:pt x="2318" y="21291"/>
                    </a:cubicBezTo>
                    <a:cubicBezTo>
                      <a:pt x="2167" y="21081"/>
                      <a:pt x="2003" y="20926"/>
                      <a:pt x="1819" y="20816"/>
                    </a:cubicBezTo>
                    <a:lnTo>
                      <a:pt x="1819" y="15480"/>
                    </a:lnTo>
                    <a:cubicBezTo>
                      <a:pt x="1819" y="14763"/>
                      <a:pt x="1989" y="14127"/>
                      <a:pt x="2335" y="13571"/>
                    </a:cubicBezTo>
                    <a:cubicBezTo>
                      <a:pt x="2678" y="13018"/>
                      <a:pt x="3052" y="12511"/>
                      <a:pt x="3460" y="12062"/>
                    </a:cubicBezTo>
                    <a:cubicBezTo>
                      <a:pt x="3535" y="11970"/>
                      <a:pt x="3633" y="11869"/>
                      <a:pt x="3753" y="11766"/>
                    </a:cubicBezTo>
                    <a:cubicBezTo>
                      <a:pt x="3873" y="11659"/>
                      <a:pt x="4000" y="11590"/>
                      <a:pt x="4137" y="11553"/>
                    </a:cubicBezTo>
                    <a:cubicBezTo>
                      <a:pt x="4276" y="11495"/>
                      <a:pt x="4432" y="11466"/>
                      <a:pt x="4610" y="11455"/>
                    </a:cubicBezTo>
                    <a:cubicBezTo>
                      <a:pt x="4785" y="11446"/>
                      <a:pt x="4956" y="11423"/>
                      <a:pt x="5126" y="11388"/>
                    </a:cubicBezTo>
                    <a:cubicBezTo>
                      <a:pt x="5594" y="11299"/>
                      <a:pt x="6091" y="11210"/>
                      <a:pt x="6621" y="11121"/>
                    </a:cubicBezTo>
                    <a:cubicBezTo>
                      <a:pt x="7149" y="11034"/>
                      <a:pt x="7665" y="10945"/>
                      <a:pt x="8172" y="10853"/>
                    </a:cubicBezTo>
                    <a:cubicBezTo>
                      <a:pt x="7483" y="10326"/>
                      <a:pt x="6928" y="9632"/>
                      <a:pt x="6513" y="8762"/>
                    </a:cubicBezTo>
                    <a:cubicBezTo>
                      <a:pt x="6093" y="7896"/>
                      <a:pt x="5884" y="6940"/>
                      <a:pt x="5884" y="5903"/>
                    </a:cubicBezTo>
                    <a:cubicBezTo>
                      <a:pt x="5884" y="5097"/>
                      <a:pt x="6016" y="4331"/>
                      <a:pt x="6275" y="3608"/>
                    </a:cubicBezTo>
                    <a:cubicBezTo>
                      <a:pt x="6535" y="2885"/>
                      <a:pt x="6887" y="2260"/>
                      <a:pt x="7331" y="1733"/>
                    </a:cubicBezTo>
                    <a:cubicBezTo>
                      <a:pt x="7778" y="1203"/>
                      <a:pt x="8299" y="786"/>
                      <a:pt x="8894" y="472"/>
                    </a:cubicBezTo>
                    <a:cubicBezTo>
                      <a:pt x="9494" y="158"/>
                      <a:pt x="10125" y="3"/>
                      <a:pt x="10802" y="3"/>
                    </a:cubicBezTo>
                    <a:cubicBezTo>
                      <a:pt x="11476" y="3"/>
                      <a:pt x="12112" y="158"/>
                      <a:pt x="12710" y="472"/>
                    </a:cubicBezTo>
                    <a:cubicBezTo>
                      <a:pt x="13307" y="786"/>
                      <a:pt x="13826" y="1203"/>
                      <a:pt x="14272" y="1733"/>
                    </a:cubicBezTo>
                    <a:cubicBezTo>
                      <a:pt x="14716" y="2260"/>
                      <a:pt x="15067" y="2885"/>
                      <a:pt x="15328" y="3608"/>
                    </a:cubicBezTo>
                    <a:cubicBezTo>
                      <a:pt x="15590" y="4331"/>
                      <a:pt x="15719" y="5097"/>
                      <a:pt x="15719" y="5903"/>
                    </a:cubicBezTo>
                    <a:cubicBezTo>
                      <a:pt x="15719" y="6939"/>
                      <a:pt x="15513" y="7890"/>
                      <a:pt x="15100" y="8756"/>
                    </a:cubicBezTo>
                    <a:cubicBezTo>
                      <a:pt x="14685" y="9620"/>
                      <a:pt x="14128" y="10320"/>
                      <a:pt x="13432" y="10853"/>
                    </a:cubicBezTo>
                    <a:cubicBezTo>
                      <a:pt x="13936" y="10945"/>
                      <a:pt x="14452" y="11031"/>
                      <a:pt x="14978" y="11115"/>
                    </a:cubicBezTo>
                    <a:cubicBezTo>
                      <a:pt x="15503" y="11198"/>
                      <a:pt x="16005" y="11288"/>
                      <a:pt x="16478" y="11388"/>
                    </a:cubicBezTo>
                    <a:cubicBezTo>
                      <a:pt x="16653" y="11426"/>
                      <a:pt x="16826" y="11449"/>
                      <a:pt x="16994" y="11455"/>
                    </a:cubicBezTo>
                    <a:cubicBezTo>
                      <a:pt x="17162" y="11466"/>
                      <a:pt x="17323" y="11495"/>
                      <a:pt x="17467" y="11553"/>
                    </a:cubicBezTo>
                    <a:cubicBezTo>
                      <a:pt x="17603" y="11590"/>
                      <a:pt x="17731" y="11659"/>
                      <a:pt x="17851" y="11766"/>
                    </a:cubicBezTo>
                    <a:cubicBezTo>
                      <a:pt x="17966" y="11869"/>
                      <a:pt x="18074" y="11970"/>
                      <a:pt x="18165" y="12062"/>
                    </a:cubicBezTo>
                    <a:moveTo>
                      <a:pt x="20474" y="5419"/>
                    </a:moveTo>
                    <a:cubicBezTo>
                      <a:pt x="20757" y="5419"/>
                      <a:pt x="20973" y="5505"/>
                      <a:pt x="21124" y="5687"/>
                    </a:cubicBezTo>
                    <a:cubicBezTo>
                      <a:pt x="21271" y="5865"/>
                      <a:pt x="21381" y="6078"/>
                      <a:pt x="21448" y="6326"/>
                    </a:cubicBezTo>
                    <a:cubicBezTo>
                      <a:pt x="21520" y="6574"/>
                      <a:pt x="21561" y="6836"/>
                      <a:pt x="21576" y="7106"/>
                    </a:cubicBezTo>
                    <a:cubicBezTo>
                      <a:pt x="21592" y="7377"/>
                      <a:pt x="21600" y="7596"/>
                      <a:pt x="21600" y="7760"/>
                    </a:cubicBezTo>
                    <a:lnTo>
                      <a:pt x="21600" y="9856"/>
                    </a:lnTo>
                    <a:cubicBezTo>
                      <a:pt x="21508" y="9928"/>
                      <a:pt x="21422" y="10015"/>
                      <a:pt x="21340" y="10110"/>
                    </a:cubicBezTo>
                    <a:cubicBezTo>
                      <a:pt x="21261" y="10208"/>
                      <a:pt x="21158" y="10257"/>
                      <a:pt x="21035" y="10257"/>
                    </a:cubicBezTo>
                    <a:lnTo>
                      <a:pt x="17267" y="10257"/>
                    </a:lnTo>
                    <a:cubicBezTo>
                      <a:pt x="17131" y="10257"/>
                      <a:pt x="17023" y="10208"/>
                      <a:pt x="16953" y="10110"/>
                    </a:cubicBezTo>
                    <a:cubicBezTo>
                      <a:pt x="16879" y="10015"/>
                      <a:pt x="16790" y="9928"/>
                      <a:pt x="16682" y="9856"/>
                    </a:cubicBezTo>
                    <a:lnTo>
                      <a:pt x="16682" y="7760"/>
                    </a:lnTo>
                    <a:cubicBezTo>
                      <a:pt x="16682" y="7596"/>
                      <a:pt x="16692" y="7377"/>
                      <a:pt x="16706" y="7106"/>
                    </a:cubicBezTo>
                    <a:cubicBezTo>
                      <a:pt x="16720" y="6836"/>
                      <a:pt x="16766" y="6574"/>
                      <a:pt x="16835" y="6326"/>
                    </a:cubicBezTo>
                    <a:cubicBezTo>
                      <a:pt x="16912" y="6078"/>
                      <a:pt x="17023" y="5865"/>
                      <a:pt x="17183" y="5687"/>
                    </a:cubicBezTo>
                    <a:cubicBezTo>
                      <a:pt x="17337" y="5508"/>
                      <a:pt x="17555" y="5419"/>
                      <a:pt x="17829" y="5419"/>
                    </a:cubicBezTo>
                    <a:cubicBezTo>
                      <a:pt x="17488" y="5151"/>
                      <a:pt x="17210" y="4803"/>
                      <a:pt x="16999" y="4377"/>
                    </a:cubicBezTo>
                    <a:cubicBezTo>
                      <a:pt x="16787" y="3950"/>
                      <a:pt x="16682" y="3469"/>
                      <a:pt x="16682" y="2937"/>
                    </a:cubicBezTo>
                    <a:cubicBezTo>
                      <a:pt x="16682" y="2539"/>
                      <a:pt x="16744" y="2162"/>
                      <a:pt x="16871" y="1805"/>
                    </a:cubicBezTo>
                    <a:cubicBezTo>
                      <a:pt x="16999" y="1448"/>
                      <a:pt x="17174" y="1134"/>
                      <a:pt x="17399" y="861"/>
                    </a:cubicBezTo>
                    <a:cubicBezTo>
                      <a:pt x="17625" y="590"/>
                      <a:pt x="17889" y="380"/>
                      <a:pt x="18187" y="227"/>
                    </a:cubicBezTo>
                    <a:cubicBezTo>
                      <a:pt x="18487" y="77"/>
                      <a:pt x="18808" y="0"/>
                      <a:pt x="19151" y="0"/>
                    </a:cubicBezTo>
                    <a:cubicBezTo>
                      <a:pt x="19480" y="0"/>
                      <a:pt x="19795" y="77"/>
                      <a:pt x="20095" y="227"/>
                    </a:cubicBezTo>
                    <a:cubicBezTo>
                      <a:pt x="20395" y="380"/>
                      <a:pt x="20656" y="590"/>
                      <a:pt x="20882" y="861"/>
                    </a:cubicBezTo>
                    <a:cubicBezTo>
                      <a:pt x="21108" y="1134"/>
                      <a:pt x="21285" y="1448"/>
                      <a:pt x="21412" y="1805"/>
                    </a:cubicBezTo>
                    <a:cubicBezTo>
                      <a:pt x="21537" y="2162"/>
                      <a:pt x="21600" y="2539"/>
                      <a:pt x="21600" y="2937"/>
                    </a:cubicBezTo>
                    <a:cubicBezTo>
                      <a:pt x="21600" y="3458"/>
                      <a:pt x="21499" y="3939"/>
                      <a:pt x="21295" y="4371"/>
                    </a:cubicBezTo>
                    <a:cubicBezTo>
                      <a:pt x="21093" y="4800"/>
                      <a:pt x="20820" y="5151"/>
                      <a:pt x="20474" y="5419"/>
                    </a:cubicBezTo>
                  </a:path>
                </a:pathLst>
              </a:custGeom>
              <a:solidFill>
                <a:srgbClr val="ee7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椭圆 148"/>
            <p:cNvSpPr/>
            <p:nvPr/>
          </p:nvSpPr>
          <p:spPr>
            <a:xfrm>
              <a:off x="4069800" y="2706840"/>
              <a:ext cx="253080" cy="261360"/>
            </a:xfrm>
            <a:prstGeom prst="ellipse">
              <a:avLst/>
            </a:prstGeom>
            <a:solidFill>
              <a:srgbClr val="ff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Группа 131"/>
            <p:cNvGrpSpPr/>
            <p:nvPr/>
          </p:nvGrpSpPr>
          <p:grpSpPr>
            <a:xfrm>
              <a:off x="4111200" y="2756160"/>
              <a:ext cx="159840" cy="165240"/>
              <a:chOff x="4111200" y="2756160"/>
              <a:chExt cx="159840" cy="165240"/>
            </a:xfrm>
          </p:grpSpPr>
          <p:pic>
            <p:nvPicPr>
              <p:cNvPr id="636" name="AutoShape 56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1200" y="2756160"/>
                <a:ext cx="66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7" name="AutoShape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4080" y="2756160"/>
                <a:ext cx="66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AutoShape 58" descr=""/>
              <p:cNvPicPr/>
              <p:nvPr/>
            </p:nvPicPr>
            <p:blipFill>
              <a:blip r:embed="rId6"/>
              <a:stretch/>
            </p:blipFill>
            <p:spPr>
              <a:xfrm>
                <a:off x="4157640" y="2756160"/>
                <a:ext cx="669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9" name="椭圆 148"/>
            <p:cNvSpPr/>
            <p:nvPr/>
          </p:nvSpPr>
          <p:spPr>
            <a:xfrm>
              <a:off x="4069800" y="2011680"/>
              <a:ext cx="253080" cy="261360"/>
            </a:xfrm>
            <a:prstGeom prst="ellipse">
              <a:avLst/>
            </a:prstGeom>
            <a:solidFill>
              <a:srgbClr val="ff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AutoShape 130" descr=""/>
            <p:cNvPicPr/>
            <p:nvPr/>
          </p:nvPicPr>
          <p:blipFill>
            <a:blip r:embed="rId7"/>
            <a:stretch/>
          </p:blipFill>
          <p:spPr>
            <a:xfrm>
              <a:off x="4115160" y="2048400"/>
              <a:ext cx="176760" cy="2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Рисунок 143" descr=""/>
            <p:cNvPicPr/>
            <p:nvPr/>
          </p:nvPicPr>
          <p:blipFill>
            <a:blip r:embed="rId8"/>
            <a:stretch/>
          </p:blipFill>
          <p:spPr>
            <a:xfrm>
              <a:off x="2484000" y="2588760"/>
              <a:ext cx="144360" cy="1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Рисунок 144" descr=""/>
            <p:cNvPicPr/>
            <p:nvPr/>
          </p:nvPicPr>
          <p:blipFill>
            <a:blip r:embed="rId9"/>
            <a:stretch/>
          </p:blipFill>
          <p:spPr>
            <a:xfrm>
              <a:off x="3599640" y="2048760"/>
              <a:ext cx="144360" cy="1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Рисунок 145" descr=""/>
            <p:cNvPicPr/>
            <p:nvPr/>
          </p:nvPicPr>
          <p:blipFill>
            <a:blip r:embed="rId10"/>
            <a:stretch/>
          </p:blipFill>
          <p:spPr>
            <a:xfrm>
              <a:off x="3599640" y="3308400"/>
              <a:ext cx="144360" cy="1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4" name="Группа 162"/>
            <p:cNvGrpSpPr/>
            <p:nvPr/>
          </p:nvGrpSpPr>
          <p:grpSpPr>
            <a:xfrm>
              <a:off x="3526920" y="2197800"/>
              <a:ext cx="324360" cy="112320"/>
              <a:chOff x="3526920" y="2197800"/>
              <a:chExt cx="324360" cy="112320"/>
            </a:xfrm>
          </p:grpSpPr>
          <p:sp>
            <p:nvSpPr>
              <p:cNvPr id="645" name="Стрелка вниз 147"/>
              <p:cNvSpPr/>
              <p:nvPr/>
            </p:nvSpPr>
            <p:spPr>
              <a:xfrm flipV="1" rot="16200000">
                <a:off x="3611160" y="2113200"/>
                <a:ext cx="111960" cy="280440"/>
              </a:xfrm>
              <a:prstGeom prst="downArrow">
                <a:avLst>
                  <a:gd name="adj1" fmla="val 50000"/>
                  <a:gd name="adj2" fmla="val 34812"/>
                </a:avLst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080" rIns="19080" tIns="19080" bIns="19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71360"/>
                    <a:tab algn="l" pos="343080"/>
                    <a:tab algn="l" pos="514440"/>
                    <a:tab algn="l" pos="685800"/>
                    <a:tab algn="l" pos="857160"/>
                    <a:tab algn="l" pos="1028880"/>
                    <a:tab algn="l" pos="1200240"/>
                    <a:tab algn="l" pos="1371600"/>
                    <a:tab algn="l" pos="1542960"/>
                    <a:tab algn="l" pos="1714680"/>
                    <a:tab algn="l" pos="1886040"/>
                    <a:tab algn="l" pos="2057400"/>
                    <a:tab algn="l" pos="2228760"/>
                    <a:tab algn="l" pos="2400480"/>
                    <a:tab algn="l" pos="2571840"/>
                    <a:tab algn="l" pos="2743200"/>
                    <a:tab algn="l" pos="2914560"/>
                    <a:tab algn="l" pos="3086280"/>
                    <a:tab algn="l" pos="3257640"/>
                    <a:tab algn="l" pos="3429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Стрелка вниз 148"/>
              <p:cNvSpPr/>
              <p:nvPr/>
            </p:nvSpPr>
            <p:spPr>
              <a:xfrm flipV="1" rot="5400000">
                <a:off x="3655080" y="2113560"/>
                <a:ext cx="111960" cy="280440"/>
              </a:xfrm>
              <a:prstGeom prst="downArrow">
                <a:avLst>
                  <a:gd name="adj1" fmla="val 50000"/>
                  <a:gd name="adj2" fmla="val 34812"/>
                </a:avLst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080" rIns="19080" tIns="19080" bIns="19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71360"/>
                    <a:tab algn="l" pos="343080"/>
                    <a:tab algn="l" pos="514440"/>
                    <a:tab algn="l" pos="685800"/>
                    <a:tab algn="l" pos="857160"/>
                    <a:tab algn="l" pos="1028880"/>
                    <a:tab algn="l" pos="1200240"/>
                    <a:tab algn="l" pos="1371600"/>
                    <a:tab algn="l" pos="1542960"/>
                    <a:tab algn="l" pos="1714680"/>
                    <a:tab algn="l" pos="1886040"/>
                    <a:tab algn="l" pos="2057400"/>
                    <a:tab algn="l" pos="2228760"/>
                    <a:tab algn="l" pos="2400480"/>
                    <a:tab algn="l" pos="2571840"/>
                    <a:tab algn="l" pos="2743200"/>
                    <a:tab algn="l" pos="2914560"/>
                    <a:tab algn="l" pos="3086280"/>
                    <a:tab algn="l" pos="3257640"/>
                    <a:tab algn="l" pos="3429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7" name="Рисунок 149" descr="blue-person-symbol-hi.png"/>
            <p:cNvPicPr/>
            <p:nvPr/>
          </p:nvPicPr>
          <p:blipFill>
            <a:blip r:embed="rId11"/>
            <a:stretch/>
          </p:blipFill>
          <p:spPr>
            <a:xfrm>
              <a:off x="91440" y="2511720"/>
              <a:ext cx="487440" cy="11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Круговая стрелка 151"/>
            <p:cNvSpPr/>
            <p:nvPr/>
          </p:nvSpPr>
          <p:spPr>
            <a:xfrm rot="7957200">
              <a:off x="3507480" y="3221640"/>
              <a:ext cx="384120" cy="325440"/>
            </a:xfrm>
            <a:custGeom>
              <a:avLst/>
              <a:gdLst/>
              <a:ahLst/>
              <a:rect l="l" t="t" r="r" b="b"/>
              <a:pathLst>
                <a:path w="734756" h="642891">
                  <a:moveTo>
                    <a:pt x="197966" y="80817"/>
                  </a:moveTo>
                  <a:cubicBezTo>
                    <a:pt x="277007" y="39696"/>
                    <a:pt x="372588" y="29217"/>
                    <a:pt x="461105" y="51967"/>
                  </a:cubicBezTo>
                  <a:cubicBezTo>
                    <a:pt x="562119" y="77929"/>
                    <a:pt x="642390" y="144142"/>
                    <a:pt x="676731" y="229831"/>
                  </a:cubicBezTo>
                  <a:lnTo>
                    <a:pt x="713225" y="229831"/>
                  </a:lnTo>
                  <a:lnTo>
                    <a:pt x="654395" y="321445"/>
                  </a:lnTo>
                  <a:lnTo>
                    <a:pt x="552502" y="229831"/>
                  </a:lnTo>
                  <a:lnTo>
                    <a:pt x="587056" y="229831"/>
                  </a:lnTo>
                  <a:cubicBezTo>
                    <a:pt x="554029" y="177369"/>
                    <a:pt x="494360" y="139359"/>
                    <a:pt x="423855" y="125872"/>
                  </a:cubicBezTo>
                  <a:cubicBezTo>
                    <a:pt x="362970" y="114225"/>
                    <a:pt x="298922" y="121824"/>
                    <a:pt x="244655" y="147133"/>
                  </a:cubicBezTo>
                  <a:lnTo>
                    <a:pt x="197966" y="80817"/>
                  </a:lnTo>
                  <a:close/>
                </a:path>
              </a:pathLst>
            </a:custGeom>
            <a:solidFill>
              <a:srgbClr val="e39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9" name="Рисунок 152" descr=""/>
            <p:cNvPicPr/>
            <p:nvPr/>
          </p:nvPicPr>
          <p:blipFill>
            <a:blip r:embed="rId12"/>
            <a:stretch/>
          </p:blipFill>
          <p:spPr>
            <a:xfrm>
              <a:off x="860040" y="2386080"/>
              <a:ext cx="180720" cy="1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TextBox 153"/>
            <p:cNvSpPr/>
            <p:nvPr/>
          </p:nvSpPr>
          <p:spPr>
            <a:xfrm>
              <a:off x="744480" y="3115440"/>
              <a:ext cx="465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Отве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1" name="Рисунок 154" descr=""/>
            <p:cNvPicPr/>
            <p:nvPr/>
          </p:nvPicPr>
          <p:blipFill>
            <a:blip r:embed="rId13"/>
            <a:stretch/>
          </p:blipFill>
          <p:spPr>
            <a:xfrm>
              <a:off x="670320" y="3281760"/>
              <a:ext cx="180720" cy="1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2" name="Группа 162"/>
            <p:cNvGrpSpPr/>
            <p:nvPr/>
          </p:nvGrpSpPr>
          <p:grpSpPr>
            <a:xfrm>
              <a:off x="2361240" y="2311560"/>
              <a:ext cx="334800" cy="265680"/>
              <a:chOff x="2361240" y="2311560"/>
              <a:chExt cx="334800" cy="265680"/>
            </a:xfrm>
          </p:grpSpPr>
          <p:sp>
            <p:nvSpPr>
              <p:cNvPr id="653" name="Стрелка вниз 156"/>
              <p:cNvSpPr/>
              <p:nvPr/>
            </p:nvSpPr>
            <p:spPr>
              <a:xfrm flipV="1" rot="14301000">
                <a:off x="2453400" y="2315520"/>
                <a:ext cx="111960" cy="280080"/>
              </a:xfrm>
              <a:prstGeom prst="downArrow">
                <a:avLst>
                  <a:gd name="adj1" fmla="val 50000"/>
                  <a:gd name="adj2" fmla="val 34976"/>
                </a:avLst>
              </a:prstGeom>
              <a:solidFill>
                <a:srgbClr val="938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Стрелка вниз 157"/>
              <p:cNvSpPr/>
              <p:nvPr/>
            </p:nvSpPr>
            <p:spPr>
              <a:xfrm flipV="1" rot="3500400">
                <a:off x="2491560" y="2292120"/>
                <a:ext cx="111960" cy="280080"/>
              </a:xfrm>
              <a:prstGeom prst="downArrow">
                <a:avLst>
                  <a:gd name="adj1" fmla="val 50000"/>
                  <a:gd name="adj2" fmla="val 34976"/>
                </a:avLst>
              </a:prstGeom>
              <a:solidFill>
                <a:srgbClr val="938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Группа 162"/>
            <p:cNvGrpSpPr/>
            <p:nvPr/>
          </p:nvGrpSpPr>
          <p:grpSpPr>
            <a:xfrm>
              <a:off x="2406240" y="2945160"/>
              <a:ext cx="324720" cy="112320"/>
              <a:chOff x="2406240" y="2945160"/>
              <a:chExt cx="324720" cy="112320"/>
            </a:xfrm>
          </p:grpSpPr>
          <p:sp>
            <p:nvSpPr>
              <p:cNvPr id="656" name="Стрелка вниз 159"/>
              <p:cNvSpPr/>
              <p:nvPr/>
            </p:nvSpPr>
            <p:spPr>
              <a:xfrm flipV="1" rot="16200000">
                <a:off x="2490120" y="2860560"/>
                <a:ext cx="111960" cy="280080"/>
              </a:xfrm>
              <a:prstGeom prst="downArrow">
                <a:avLst>
                  <a:gd name="adj1" fmla="val 50000"/>
                  <a:gd name="adj2" fmla="val 34976"/>
                </a:avLst>
              </a:prstGeom>
              <a:solidFill>
                <a:srgbClr val="938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Стрелка вниз 160"/>
              <p:cNvSpPr/>
              <p:nvPr/>
            </p:nvSpPr>
            <p:spPr>
              <a:xfrm flipV="1" rot="5400000">
                <a:off x="2534760" y="2860920"/>
                <a:ext cx="111960" cy="280080"/>
              </a:xfrm>
              <a:prstGeom prst="downArrow">
                <a:avLst>
                  <a:gd name="adj1" fmla="val 50000"/>
                  <a:gd name="adj2" fmla="val 34976"/>
                </a:avLst>
              </a:prstGeom>
              <a:solidFill>
                <a:srgbClr val="938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Группа 162"/>
            <p:cNvGrpSpPr/>
            <p:nvPr/>
          </p:nvGrpSpPr>
          <p:grpSpPr>
            <a:xfrm>
              <a:off x="2369520" y="3421800"/>
              <a:ext cx="342720" cy="227520"/>
              <a:chOff x="2369520" y="3421800"/>
              <a:chExt cx="342720" cy="227520"/>
            </a:xfrm>
          </p:grpSpPr>
          <p:sp>
            <p:nvSpPr>
              <p:cNvPr id="659" name="Стрелка вниз 162"/>
              <p:cNvSpPr/>
              <p:nvPr/>
            </p:nvSpPr>
            <p:spPr>
              <a:xfrm flipV="1" rot="6735600">
                <a:off x="2505240" y="3403800"/>
                <a:ext cx="111960" cy="280080"/>
              </a:xfrm>
              <a:prstGeom prst="downArrow">
                <a:avLst>
                  <a:gd name="adj1" fmla="val 50000"/>
                  <a:gd name="adj2" fmla="val 34976"/>
                </a:avLst>
              </a:prstGeom>
              <a:solidFill>
                <a:srgbClr val="938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Стрелка вниз 163"/>
              <p:cNvSpPr/>
              <p:nvPr/>
            </p:nvSpPr>
            <p:spPr>
              <a:xfrm flipV="1" rot="17535600">
                <a:off x="2464200" y="3386160"/>
                <a:ext cx="111960" cy="280080"/>
              </a:xfrm>
              <a:prstGeom prst="downArrow">
                <a:avLst>
                  <a:gd name="adj1" fmla="val 50000"/>
                  <a:gd name="adj2" fmla="val 34976"/>
                </a:avLst>
              </a:prstGeom>
              <a:solidFill>
                <a:srgbClr val="938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Группа 467"/>
          <p:cNvGrpSpPr/>
          <p:nvPr/>
        </p:nvGrpSpPr>
        <p:grpSpPr>
          <a:xfrm>
            <a:off x="4556160" y="1852560"/>
            <a:ext cx="5121360" cy="3192480"/>
            <a:chOff x="4556160" y="1852560"/>
            <a:chExt cx="5121360" cy="3192480"/>
          </a:xfrm>
        </p:grpSpPr>
        <p:sp>
          <p:nvSpPr>
            <p:cNvPr id="662" name="Скругленный прямоугольник 317"/>
            <p:cNvSpPr/>
            <p:nvPr/>
          </p:nvSpPr>
          <p:spPr>
            <a:xfrm>
              <a:off x="4557600" y="1852560"/>
              <a:ext cx="4531320" cy="2962440"/>
            </a:xfrm>
            <a:prstGeom prst="roundRect">
              <a:avLst>
                <a:gd name="adj" fmla="val 6227"/>
              </a:avLst>
            </a:prstGeom>
            <a:solidFill>
              <a:srgbClr val="93cddd">
                <a:alpha val="4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Схема 318" descr=""/>
            <p:cNvPicPr/>
            <p:nvPr/>
          </p:nvPicPr>
          <p:blipFill>
            <a:blip r:embed="rId14"/>
            <a:stretch/>
          </p:blipFill>
          <p:spPr>
            <a:xfrm>
              <a:off x="5546880" y="1926000"/>
              <a:ext cx="4130640" cy="28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Box 319"/>
            <p:cNvSpPr/>
            <p:nvPr/>
          </p:nvSpPr>
          <p:spPr>
            <a:xfrm>
              <a:off x="4772880" y="3398400"/>
              <a:ext cx="129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ониторинг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за сроками исполн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Box 320"/>
            <p:cNvSpPr/>
            <p:nvPr/>
          </p:nvSpPr>
          <p:spPr>
            <a:xfrm>
              <a:off x="5241960" y="2722320"/>
              <a:ext cx="99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Электронный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окумент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21"/>
            <p:cNvSpPr/>
            <p:nvPr/>
          </p:nvSpPr>
          <p:spPr>
            <a:xfrm>
              <a:off x="6768720" y="3096000"/>
              <a:ext cx="1716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807898"/>
                  </a:solidFill>
                  <a:latin typeface="Arial"/>
                </a:rPr>
                <a:t>Единая точка доступ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Box 322"/>
            <p:cNvSpPr/>
            <p:nvPr/>
          </p:nvSpPr>
          <p:spPr>
            <a:xfrm>
              <a:off x="4764960" y="3961440"/>
              <a:ext cx="14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Исключение бумажног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окументооборот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Группа 24"/>
            <p:cNvGrpSpPr/>
            <p:nvPr/>
          </p:nvGrpSpPr>
          <p:grpSpPr>
            <a:xfrm>
              <a:off x="7202160" y="3673440"/>
              <a:ext cx="864720" cy="446040"/>
              <a:chOff x="7202160" y="3673440"/>
              <a:chExt cx="864720" cy="446040"/>
            </a:xfrm>
          </p:grpSpPr>
          <p:sp>
            <p:nvSpPr>
              <p:cNvPr id="669" name="Shape 400"/>
              <p:cNvSpPr/>
              <p:nvPr/>
            </p:nvSpPr>
            <p:spPr>
              <a:xfrm>
                <a:off x="7290720" y="3673440"/>
                <a:ext cx="690120" cy="416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830" y="20216"/>
                    </a:moveTo>
                    <a:lnTo>
                      <a:pt x="646" y="20216"/>
                    </a:lnTo>
                    <a:lnTo>
                      <a:pt x="646" y="1249"/>
                    </a:lnTo>
                    <a:lnTo>
                      <a:pt x="20830" y="1249"/>
                    </a:lnTo>
                    <a:cubicBezTo>
                      <a:pt x="20830" y="1249"/>
                      <a:pt x="20830" y="20216"/>
                      <a:pt x="20830" y="20216"/>
                    </a:cubicBezTo>
                    <a:close/>
                    <a:moveTo>
                      <a:pt x="21600" y="20742"/>
                    </a:moveTo>
                    <a:lnTo>
                      <a:pt x="21600" y="1231"/>
                    </a:lnTo>
                    <a:cubicBezTo>
                      <a:pt x="21600" y="554"/>
                      <a:pt x="21231" y="0"/>
                      <a:pt x="20781" y="0"/>
                    </a:cubicBezTo>
                    <a:lnTo>
                      <a:pt x="820" y="0"/>
                    </a:lnTo>
                    <a:cubicBezTo>
                      <a:pt x="369" y="0"/>
                      <a:pt x="0" y="554"/>
                      <a:pt x="0" y="1231"/>
                    </a:cubicBezTo>
                    <a:lnTo>
                      <a:pt x="0" y="20742"/>
                    </a:lnTo>
                    <a:cubicBezTo>
                      <a:pt x="0" y="21075"/>
                      <a:pt x="89" y="21378"/>
                      <a:pt x="234" y="21600"/>
                    </a:cubicBezTo>
                    <a:lnTo>
                      <a:pt x="21367" y="21600"/>
                    </a:lnTo>
                    <a:cubicBezTo>
                      <a:pt x="21511" y="21378"/>
                      <a:pt x="21600" y="21075"/>
                      <a:pt x="21600" y="20742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Shape 401"/>
              <p:cNvSpPr/>
              <p:nvPr/>
            </p:nvSpPr>
            <p:spPr>
              <a:xfrm>
                <a:off x="7202160" y="4097520"/>
                <a:ext cx="864720" cy="15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9430" y="0"/>
                    </a:moveTo>
                    <a:lnTo>
                      <a:pt x="2161" y="0"/>
                    </a:lnTo>
                    <a:lnTo>
                      <a:pt x="0" y="0"/>
                    </a:ln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cubicBezTo>
                      <a:pt x="21600" y="0"/>
                      <a:pt x="19430" y="0"/>
                      <a:pt x="19430" y="0"/>
                    </a:cubicBez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Shape 404"/>
              <p:cNvSpPr/>
              <p:nvPr/>
            </p:nvSpPr>
            <p:spPr>
              <a:xfrm>
                <a:off x="7202160" y="4108680"/>
                <a:ext cx="864720" cy="1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0" y="0"/>
                      <a:pt x="131" y="21600"/>
                      <a:pt x="1250" y="21600"/>
                    </a:cubicBezTo>
                    <a:cubicBezTo>
                      <a:pt x="2368" y="21600"/>
                      <a:pt x="10745" y="21600"/>
                      <a:pt x="10745" y="21600"/>
                    </a:cubicBezTo>
                    <a:lnTo>
                      <a:pt x="10855" y="21600"/>
                    </a:lnTo>
                    <a:cubicBezTo>
                      <a:pt x="10855" y="21600"/>
                      <a:pt x="19232" y="21600"/>
                      <a:pt x="20351" y="21600"/>
                    </a:cubicBezTo>
                    <a:cubicBezTo>
                      <a:pt x="21469" y="21600"/>
                      <a:pt x="21600" y="0"/>
                      <a:pt x="21600" y="0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-7920" bIns="-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Shape 459"/>
              <p:cNvSpPr/>
              <p:nvPr/>
            </p:nvSpPr>
            <p:spPr>
              <a:xfrm>
                <a:off x="7951320" y="4076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9938" y="0"/>
                    </a:moveTo>
                    <a:cubicBezTo>
                      <a:pt x="8944" y="0"/>
                      <a:pt x="0" y="8942"/>
                      <a:pt x="0" y="19938"/>
                    </a:cubicBezTo>
                    <a:cubicBezTo>
                      <a:pt x="0" y="20855"/>
                      <a:pt x="743" y="21600"/>
                      <a:pt x="1662" y="21600"/>
                    </a:cubicBezTo>
                    <a:cubicBezTo>
                      <a:pt x="2580" y="21600"/>
                      <a:pt x="3323" y="20855"/>
                      <a:pt x="3323" y="19938"/>
                    </a:cubicBezTo>
                    <a:cubicBezTo>
                      <a:pt x="3323" y="10777"/>
                      <a:pt x="10777" y="3323"/>
                      <a:pt x="19938" y="3323"/>
                    </a:cubicBezTo>
                    <a:cubicBezTo>
                      <a:pt x="20857" y="3323"/>
                      <a:pt x="21600" y="2578"/>
                      <a:pt x="21600" y="1662"/>
                    </a:cubicBezTo>
                    <a:cubicBezTo>
                      <a:pt x="21600" y="745"/>
                      <a:pt x="20857" y="0"/>
                      <a:pt x="1993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479"/>
              <p:cNvGrpSpPr/>
              <p:nvPr/>
            </p:nvGrpSpPr>
            <p:grpSpPr>
              <a:xfrm>
                <a:off x="7871760" y="3759120"/>
                <a:ext cx="96480" cy="236520"/>
                <a:chOff x="7871760" y="3759120"/>
                <a:chExt cx="96480" cy="236520"/>
              </a:xfrm>
            </p:grpSpPr>
            <p:sp>
              <p:nvSpPr>
                <p:cNvPr id="674" name="Shape 472"/>
                <p:cNvSpPr/>
                <p:nvPr/>
              </p:nvSpPr>
              <p:spPr>
                <a:xfrm>
                  <a:off x="7871760" y="3759120"/>
                  <a:ext cx="96480" cy="236520"/>
                </a:xfrm>
                <a:prstGeom prst="rect">
                  <a:avLst/>
                </a:prstGeom>
                <a:solidFill>
                  <a:srgbClr val="a5a5a5"/>
                </a:solidFill>
                <a:ln w="25560">
                  <a:solidFill>
                    <a:srgbClr val="000000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219240"/>
                      <a:tab algn="l" pos="438120"/>
                      <a:tab algn="l" pos="657360"/>
                      <a:tab algn="l" pos="876240"/>
                      <a:tab algn="l" pos="1095480"/>
                      <a:tab algn="l" pos="1314360"/>
                      <a:tab algn="l" pos="1533600"/>
                      <a:tab algn="l" pos="1752480"/>
                      <a:tab algn="l" pos="1971720"/>
                      <a:tab algn="l" pos="2190600"/>
                      <a:tab algn="l" pos="2409840"/>
                      <a:tab algn="l" pos="2629080"/>
                      <a:tab algn="l" pos="2847960"/>
                      <a:tab algn="l" pos="3067200"/>
                      <a:tab algn="l" pos="3286080"/>
                      <a:tab algn="l" pos="3505320"/>
                      <a:tab algn="l" pos="3724200"/>
                      <a:tab algn="l" pos="3943440"/>
                      <a:tab algn="l" pos="4162320"/>
                      <a:tab algn="l" pos="43815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Shape 473"/>
                <p:cNvSpPr/>
                <p:nvPr/>
              </p:nvSpPr>
              <p:spPr>
                <a:xfrm>
                  <a:off x="7873200" y="3855960"/>
                  <a:ext cx="90360" cy="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5560" rIns="25560" tIns="25560" bIns="2556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Shape 478"/>
                <p:cNvSpPr/>
                <p:nvPr/>
              </p:nvSpPr>
              <p:spPr>
                <a:xfrm>
                  <a:off x="7901640" y="384336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1234" y="6152"/>
                      </a:moveTo>
                      <a:cubicBezTo>
                        <a:pt x="11406" y="6502"/>
                        <a:pt x="11552" y="6917"/>
                        <a:pt x="11672" y="7395"/>
                      </a:cubicBezTo>
                      <a:cubicBezTo>
                        <a:pt x="11747" y="7412"/>
                        <a:pt x="11886" y="7434"/>
                        <a:pt x="12089" y="7462"/>
                      </a:cubicBezTo>
                      <a:cubicBezTo>
                        <a:pt x="12291" y="7488"/>
                        <a:pt x="12501" y="7527"/>
                        <a:pt x="12715" y="7578"/>
                      </a:cubicBezTo>
                      <a:cubicBezTo>
                        <a:pt x="12929" y="7626"/>
                        <a:pt x="13120" y="7680"/>
                        <a:pt x="13289" y="7731"/>
                      </a:cubicBezTo>
                      <a:cubicBezTo>
                        <a:pt x="13459" y="7787"/>
                        <a:pt x="13543" y="7849"/>
                        <a:pt x="13543" y="7923"/>
                      </a:cubicBezTo>
                      <a:lnTo>
                        <a:pt x="13543" y="10328"/>
                      </a:lnTo>
                      <a:cubicBezTo>
                        <a:pt x="13543" y="10416"/>
                        <a:pt x="13459" y="10495"/>
                        <a:pt x="13289" y="10549"/>
                      </a:cubicBezTo>
                      <a:cubicBezTo>
                        <a:pt x="13120" y="10611"/>
                        <a:pt x="12929" y="10659"/>
                        <a:pt x="12715" y="10707"/>
                      </a:cubicBezTo>
                      <a:cubicBezTo>
                        <a:pt x="12501" y="10752"/>
                        <a:pt x="12289" y="10783"/>
                        <a:pt x="12077" y="10800"/>
                      </a:cubicBezTo>
                      <a:cubicBezTo>
                        <a:pt x="11867" y="10820"/>
                        <a:pt x="11731" y="10837"/>
                        <a:pt x="11672" y="10857"/>
                      </a:cubicBezTo>
                      <a:cubicBezTo>
                        <a:pt x="11566" y="11243"/>
                        <a:pt x="11430" y="11639"/>
                        <a:pt x="11255" y="12045"/>
                      </a:cubicBezTo>
                      <a:cubicBezTo>
                        <a:pt x="11430" y="12325"/>
                        <a:pt x="11594" y="12596"/>
                        <a:pt x="11757" y="12864"/>
                      </a:cubicBezTo>
                      <a:cubicBezTo>
                        <a:pt x="11919" y="13127"/>
                        <a:pt x="12100" y="13395"/>
                        <a:pt x="12303" y="13655"/>
                      </a:cubicBezTo>
                      <a:lnTo>
                        <a:pt x="12326" y="13787"/>
                      </a:lnTo>
                      <a:cubicBezTo>
                        <a:pt x="12326" y="13841"/>
                        <a:pt x="12249" y="13977"/>
                        <a:pt x="12096" y="14194"/>
                      </a:cubicBezTo>
                      <a:cubicBezTo>
                        <a:pt x="11940" y="14411"/>
                        <a:pt x="11761" y="14637"/>
                        <a:pt x="11559" y="14877"/>
                      </a:cubicBezTo>
                      <a:cubicBezTo>
                        <a:pt x="11357" y="15117"/>
                        <a:pt x="11166" y="15326"/>
                        <a:pt x="10992" y="15513"/>
                      </a:cubicBezTo>
                      <a:cubicBezTo>
                        <a:pt x="10813" y="15696"/>
                        <a:pt x="10702" y="15789"/>
                        <a:pt x="10658" y="15789"/>
                      </a:cubicBezTo>
                      <a:cubicBezTo>
                        <a:pt x="10643" y="15789"/>
                        <a:pt x="10566" y="15727"/>
                        <a:pt x="10427" y="15606"/>
                      </a:cubicBezTo>
                      <a:cubicBezTo>
                        <a:pt x="10288" y="15484"/>
                        <a:pt x="10135" y="15346"/>
                        <a:pt x="9966" y="15188"/>
                      </a:cubicBezTo>
                      <a:cubicBezTo>
                        <a:pt x="9796" y="15030"/>
                        <a:pt x="9638" y="14886"/>
                        <a:pt x="9493" y="14747"/>
                      </a:cubicBezTo>
                      <a:cubicBezTo>
                        <a:pt x="9344" y="14615"/>
                        <a:pt x="9250" y="14524"/>
                        <a:pt x="9205" y="14476"/>
                      </a:cubicBezTo>
                      <a:cubicBezTo>
                        <a:pt x="8866" y="14685"/>
                        <a:pt x="8537" y="14852"/>
                        <a:pt x="8212" y="14979"/>
                      </a:cubicBezTo>
                      <a:cubicBezTo>
                        <a:pt x="8212" y="15069"/>
                        <a:pt x="8200" y="15236"/>
                        <a:pt x="8179" y="15476"/>
                      </a:cubicBezTo>
                      <a:cubicBezTo>
                        <a:pt x="8156" y="15721"/>
                        <a:pt x="8127" y="15976"/>
                        <a:pt x="8090" y="16241"/>
                      </a:cubicBezTo>
                      <a:cubicBezTo>
                        <a:pt x="8052" y="16509"/>
                        <a:pt x="8005" y="16744"/>
                        <a:pt x="7948" y="16944"/>
                      </a:cubicBezTo>
                      <a:cubicBezTo>
                        <a:pt x="7892" y="17148"/>
                        <a:pt x="7833" y="17249"/>
                        <a:pt x="7774" y="17249"/>
                      </a:cubicBezTo>
                      <a:lnTo>
                        <a:pt x="5769" y="17249"/>
                      </a:lnTo>
                      <a:cubicBezTo>
                        <a:pt x="5708" y="17249"/>
                        <a:pt x="5651" y="17147"/>
                        <a:pt x="5595" y="16944"/>
                      </a:cubicBezTo>
                      <a:cubicBezTo>
                        <a:pt x="5538" y="16744"/>
                        <a:pt x="5494" y="16509"/>
                        <a:pt x="5463" y="16241"/>
                      </a:cubicBezTo>
                      <a:cubicBezTo>
                        <a:pt x="5435" y="15976"/>
                        <a:pt x="5406" y="15721"/>
                        <a:pt x="5385" y="15484"/>
                      </a:cubicBezTo>
                      <a:cubicBezTo>
                        <a:pt x="5362" y="15244"/>
                        <a:pt x="5352" y="15078"/>
                        <a:pt x="5352" y="14979"/>
                      </a:cubicBezTo>
                      <a:cubicBezTo>
                        <a:pt x="5013" y="14871"/>
                        <a:pt x="4682" y="14702"/>
                        <a:pt x="4359" y="14476"/>
                      </a:cubicBezTo>
                      <a:cubicBezTo>
                        <a:pt x="4126" y="14685"/>
                        <a:pt x="3895" y="14894"/>
                        <a:pt x="3667" y="15106"/>
                      </a:cubicBezTo>
                      <a:cubicBezTo>
                        <a:pt x="3439" y="15321"/>
                        <a:pt x="3213" y="15535"/>
                        <a:pt x="2996" y="15761"/>
                      </a:cubicBezTo>
                      <a:lnTo>
                        <a:pt x="2883" y="15789"/>
                      </a:lnTo>
                      <a:cubicBezTo>
                        <a:pt x="2855" y="15789"/>
                        <a:pt x="2751" y="15696"/>
                        <a:pt x="2573" y="15513"/>
                      </a:cubicBezTo>
                      <a:cubicBezTo>
                        <a:pt x="2396" y="15326"/>
                        <a:pt x="2212" y="15117"/>
                        <a:pt x="2022" y="14877"/>
                      </a:cubicBezTo>
                      <a:cubicBezTo>
                        <a:pt x="1829" y="14637"/>
                        <a:pt x="1657" y="14411"/>
                        <a:pt x="1504" y="14194"/>
                      </a:cubicBezTo>
                      <a:cubicBezTo>
                        <a:pt x="1349" y="13977"/>
                        <a:pt x="1273" y="13841"/>
                        <a:pt x="1273" y="13787"/>
                      </a:cubicBezTo>
                      <a:cubicBezTo>
                        <a:pt x="1273" y="13771"/>
                        <a:pt x="1320" y="13677"/>
                        <a:pt x="1419" y="13511"/>
                      </a:cubicBezTo>
                      <a:cubicBezTo>
                        <a:pt x="1516" y="13347"/>
                        <a:pt x="1629" y="13163"/>
                        <a:pt x="1751" y="12971"/>
                      </a:cubicBezTo>
                      <a:cubicBezTo>
                        <a:pt x="1876" y="12777"/>
                        <a:pt x="1991" y="12590"/>
                        <a:pt x="2100" y="12415"/>
                      </a:cubicBezTo>
                      <a:cubicBezTo>
                        <a:pt x="2210" y="12240"/>
                        <a:pt x="2278" y="12127"/>
                        <a:pt x="2309" y="12071"/>
                      </a:cubicBezTo>
                      <a:cubicBezTo>
                        <a:pt x="2135" y="11687"/>
                        <a:pt x="1989" y="11260"/>
                        <a:pt x="1869" y="10800"/>
                      </a:cubicBezTo>
                      <a:cubicBezTo>
                        <a:pt x="1794" y="10783"/>
                        <a:pt x="1655" y="10761"/>
                        <a:pt x="1452" y="10732"/>
                      </a:cubicBezTo>
                      <a:cubicBezTo>
                        <a:pt x="1250" y="10707"/>
                        <a:pt x="1043" y="10676"/>
                        <a:pt x="826" y="10639"/>
                      </a:cubicBezTo>
                      <a:cubicBezTo>
                        <a:pt x="612" y="10602"/>
                        <a:pt x="421" y="10554"/>
                        <a:pt x="252" y="10498"/>
                      </a:cubicBezTo>
                      <a:cubicBezTo>
                        <a:pt x="82" y="10439"/>
                        <a:pt x="0" y="10374"/>
                        <a:pt x="0" y="10300"/>
                      </a:cubicBezTo>
                      <a:lnTo>
                        <a:pt x="0" y="7869"/>
                      </a:lnTo>
                      <a:cubicBezTo>
                        <a:pt x="0" y="7798"/>
                        <a:pt x="82" y="7725"/>
                        <a:pt x="252" y="7660"/>
                      </a:cubicBezTo>
                      <a:cubicBezTo>
                        <a:pt x="421" y="7590"/>
                        <a:pt x="617" y="7539"/>
                        <a:pt x="838" y="7502"/>
                      </a:cubicBezTo>
                      <a:cubicBezTo>
                        <a:pt x="1059" y="7468"/>
                        <a:pt x="1273" y="7434"/>
                        <a:pt x="1476" y="7409"/>
                      </a:cubicBezTo>
                      <a:cubicBezTo>
                        <a:pt x="1678" y="7380"/>
                        <a:pt x="1817" y="7366"/>
                        <a:pt x="1892" y="7366"/>
                      </a:cubicBezTo>
                      <a:cubicBezTo>
                        <a:pt x="1982" y="6926"/>
                        <a:pt x="2121" y="6531"/>
                        <a:pt x="2309" y="6178"/>
                      </a:cubicBezTo>
                      <a:cubicBezTo>
                        <a:pt x="2135" y="5901"/>
                        <a:pt x="1965" y="5621"/>
                        <a:pt x="1796" y="5347"/>
                      </a:cubicBezTo>
                      <a:cubicBezTo>
                        <a:pt x="1629" y="5074"/>
                        <a:pt x="1452" y="4803"/>
                        <a:pt x="1273" y="4543"/>
                      </a:cubicBezTo>
                      <a:lnTo>
                        <a:pt x="1229" y="4407"/>
                      </a:lnTo>
                      <a:cubicBezTo>
                        <a:pt x="1229" y="4354"/>
                        <a:pt x="1304" y="4221"/>
                        <a:pt x="1457" y="4009"/>
                      </a:cubicBezTo>
                      <a:cubicBezTo>
                        <a:pt x="1612" y="3797"/>
                        <a:pt x="1789" y="3574"/>
                        <a:pt x="1987" y="3334"/>
                      </a:cubicBezTo>
                      <a:cubicBezTo>
                        <a:pt x="2187" y="3094"/>
                        <a:pt x="2375" y="2883"/>
                        <a:pt x="2551" y="2696"/>
                      </a:cubicBezTo>
                      <a:cubicBezTo>
                        <a:pt x="2728" y="2515"/>
                        <a:pt x="2839" y="2419"/>
                        <a:pt x="2883" y="2419"/>
                      </a:cubicBezTo>
                      <a:cubicBezTo>
                        <a:pt x="2900" y="2419"/>
                        <a:pt x="2975" y="2479"/>
                        <a:pt x="3114" y="2597"/>
                      </a:cubicBezTo>
                      <a:cubicBezTo>
                        <a:pt x="3253" y="2713"/>
                        <a:pt x="3408" y="2851"/>
                        <a:pt x="3578" y="3007"/>
                      </a:cubicBezTo>
                      <a:cubicBezTo>
                        <a:pt x="3745" y="3165"/>
                        <a:pt x="3907" y="3320"/>
                        <a:pt x="4060" y="3470"/>
                      </a:cubicBezTo>
                      <a:cubicBezTo>
                        <a:pt x="4215" y="3617"/>
                        <a:pt x="4307" y="3707"/>
                        <a:pt x="4336" y="3744"/>
                      </a:cubicBezTo>
                      <a:cubicBezTo>
                        <a:pt x="4660" y="3518"/>
                        <a:pt x="4999" y="3354"/>
                        <a:pt x="5352" y="3244"/>
                      </a:cubicBezTo>
                      <a:cubicBezTo>
                        <a:pt x="5352" y="3173"/>
                        <a:pt x="5362" y="3004"/>
                        <a:pt x="5385" y="2747"/>
                      </a:cubicBezTo>
                      <a:cubicBezTo>
                        <a:pt x="5406" y="2484"/>
                        <a:pt x="5435" y="2225"/>
                        <a:pt x="5463" y="1968"/>
                      </a:cubicBezTo>
                      <a:cubicBezTo>
                        <a:pt x="5494" y="1708"/>
                        <a:pt x="5534" y="1476"/>
                        <a:pt x="5583" y="1264"/>
                      </a:cubicBezTo>
                      <a:cubicBezTo>
                        <a:pt x="5630" y="1053"/>
                        <a:pt x="5694" y="948"/>
                        <a:pt x="5769" y="948"/>
                      </a:cubicBezTo>
                      <a:lnTo>
                        <a:pt x="7774" y="948"/>
                      </a:lnTo>
                      <a:cubicBezTo>
                        <a:pt x="7833" y="948"/>
                        <a:pt x="7892" y="1053"/>
                        <a:pt x="7948" y="1264"/>
                      </a:cubicBezTo>
                      <a:cubicBezTo>
                        <a:pt x="8005" y="1476"/>
                        <a:pt x="8047" y="1708"/>
                        <a:pt x="8078" y="1968"/>
                      </a:cubicBezTo>
                      <a:cubicBezTo>
                        <a:pt x="8109" y="2225"/>
                        <a:pt x="8134" y="2484"/>
                        <a:pt x="8156" y="2747"/>
                      </a:cubicBezTo>
                      <a:cubicBezTo>
                        <a:pt x="8179" y="3004"/>
                        <a:pt x="8198" y="3173"/>
                        <a:pt x="8212" y="3244"/>
                      </a:cubicBezTo>
                      <a:cubicBezTo>
                        <a:pt x="8551" y="3354"/>
                        <a:pt x="8873" y="3512"/>
                        <a:pt x="9182" y="3715"/>
                      </a:cubicBezTo>
                      <a:cubicBezTo>
                        <a:pt x="9415" y="3512"/>
                        <a:pt x="9650" y="3306"/>
                        <a:pt x="9886" y="3106"/>
                      </a:cubicBezTo>
                      <a:cubicBezTo>
                        <a:pt x="10123" y="2899"/>
                        <a:pt x="10352" y="2691"/>
                        <a:pt x="10568" y="2476"/>
                      </a:cubicBezTo>
                      <a:lnTo>
                        <a:pt x="10658" y="2419"/>
                      </a:lnTo>
                      <a:cubicBezTo>
                        <a:pt x="10688" y="2419"/>
                        <a:pt x="10792" y="2518"/>
                        <a:pt x="10968" y="2710"/>
                      </a:cubicBezTo>
                      <a:cubicBezTo>
                        <a:pt x="11145" y="2905"/>
                        <a:pt x="11331" y="3117"/>
                        <a:pt x="11526" y="3348"/>
                      </a:cubicBezTo>
                      <a:cubicBezTo>
                        <a:pt x="11721" y="3577"/>
                        <a:pt x="11900" y="3797"/>
                        <a:pt x="12060" y="4009"/>
                      </a:cubicBezTo>
                      <a:cubicBezTo>
                        <a:pt x="12223" y="4221"/>
                        <a:pt x="12303" y="4354"/>
                        <a:pt x="12303" y="4407"/>
                      </a:cubicBezTo>
                      <a:cubicBezTo>
                        <a:pt x="12303" y="4444"/>
                        <a:pt x="12253" y="4543"/>
                        <a:pt x="12152" y="4712"/>
                      </a:cubicBezTo>
                      <a:cubicBezTo>
                        <a:pt x="12049" y="4879"/>
                        <a:pt x="11936" y="5057"/>
                        <a:pt x="11813" y="5251"/>
                      </a:cubicBezTo>
                      <a:cubicBezTo>
                        <a:pt x="11689" y="5446"/>
                        <a:pt x="11569" y="5630"/>
                        <a:pt x="11453" y="5808"/>
                      </a:cubicBezTo>
                      <a:cubicBezTo>
                        <a:pt x="11335" y="5983"/>
                        <a:pt x="11260" y="6096"/>
                        <a:pt x="11234" y="6152"/>
                      </a:cubicBezTo>
                      <a:moveTo>
                        <a:pt x="6781" y="11545"/>
                      </a:moveTo>
                      <a:cubicBezTo>
                        <a:pt x="7061" y="11545"/>
                        <a:pt x="7322" y="11480"/>
                        <a:pt x="7570" y="11356"/>
                      </a:cubicBezTo>
                      <a:cubicBezTo>
                        <a:pt x="7819" y="11229"/>
                        <a:pt x="8036" y="11057"/>
                        <a:pt x="8219" y="10837"/>
                      </a:cubicBezTo>
                      <a:cubicBezTo>
                        <a:pt x="8403" y="10616"/>
                        <a:pt x="8546" y="10357"/>
                        <a:pt x="8652" y="10060"/>
                      </a:cubicBezTo>
                      <a:cubicBezTo>
                        <a:pt x="8758" y="9761"/>
                        <a:pt x="8810" y="9447"/>
                        <a:pt x="8810" y="9111"/>
                      </a:cubicBezTo>
                      <a:cubicBezTo>
                        <a:pt x="8810" y="8778"/>
                        <a:pt x="8758" y="8459"/>
                        <a:pt x="8652" y="8160"/>
                      </a:cubicBezTo>
                      <a:cubicBezTo>
                        <a:pt x="8546" y="7858"/>
                        <a:pt x="8403" y="7592"/>
                        <a:pt x="8219" y="7372"/>
                      </a:cubicBezTo>
                      <a:cubicBezTo>
                        <a:pt x="8036" y="7152"/>
                        <a:pt x="7819" y="6980"/>
                        <a:pt x="7570" y="6847"/>
                      </a:cubicBezTo>
                      <a:cubicBezTo>
                        <a:pt x="7322" y="6717"/>
                        <a:pt x="7061" y="6649"/>
                        <a:pt x="6781" y="6649"/>
                      </a:cubicBezTo>
                      <a:cubicBezTo>
                        <a:pt x="6211" y="6649"/>
                        <a:pt x="5727" y="6889"/>
                        <a:pt x="5329" y="7367"/>
                      </a:cubicBezTo>
                      <a:cubicBezTo>
                        <a:pt x="4931" y="7844"/>
                        <a:pt x="4731" y="8425"/>
                        <a:pt x="4731" y="9111"/>
                      </a:cubicBezTo>
                      <a:cubicBezTo>
                        <a:pt x="4731" y="9447"/>
                        <a:pt x="4785" y="9761"/>
                        <a:pt x="4896" y="10060"/>
                      </a:cubicBezTo>
                      <a:cubicBezTo>
                        <a:pt x="5004" y="10357"/>
                        <a:pt x="5150" y="10616"/>
                        <a:pt x="5334" y="10837"/>
                      </a:cubicBezTo>
                      <a:cubicBezTo>
                        <a:pt x="5517" y="11057"/>
                        <a:pt x="5736" y="11229"/>
                        <a:pt x="5988" y="11356"/>
                      </a:cubicBezTo>
                      <a:cubicBezTo>
                        <a:pt x="6240" y="11480"/>
                        <a:pt x="6501" y="11545"/>
                        <a:pt x="6781" y="11545"/>
                      </a:cubicBezTo>
                      <a:moveTo>
                        <a:pt x="20496" y="16952"/>
                      </a:moveTo>
                      <a:cubicBezTo>
                        <a:pt x="20428" y="17294"/>
                        <a:pt x="20341" y="17613"/>
                        <a:pt x="20235" y="17913"/>
                      </a:cubicBezTo>
                      <a:cubicBezTo>
                        <a:pt x="20251" y="17963"/>
                        <a:pt x="20294" y="18051"/>
                        <a:pt x="20364" y="18161"/>
                      </a:cubicBezTo>
                      <a:cubicBezTo>
                        <a:pt x="20437" y="18274"/>
                        <a:pt x="20508" y="18398"/>
                        <a:pt x="20574" y="18528"/>
                      </a:cubicBezTo>
                      <a:cubicBezTo>
                        <a:pt x="20642" y="18655"/>
                        <a:pt x="20701" y="18779"/>
                        <a:pt x="20755" y="18898"/>
                      </a:cubicBezTo>
                      <a:cubicBezTo>
                        <a:pt x="20807" y="19014"/>
                        <a:pt x="20833" y="19098"/>
                        <a:pt x="20833" y="19141"/>
                      </a:cubicBezTo>
                      <a:cubicBezTo>
                        <a:pt x="20833" y="19177"/>
                        <a:pt x="20762" y="19282"/>
                        <a:pt x="20626" y="19460"/>
                      </a:cubicBezTo>
                      <a:cubicBezTo>
                        <a:pt x="20487" y="19635"/>
                        <a:pt x="20324" y="19821"/>
                        <a:pt x="20141" y="20013"/>
                      </a:cubicBezTo>
                      <a:cubicBezTo>
                        <a:pt x="19957" y="20205"/>
                        <a:pt x="19778" y="20389"/>
                        <a:pt x="19611" y="20558"/>
                      </a:cubicBezTo>
                      <a:cubicBezTo>
                        <a:pt x="19442" y="20730"/>
                        <a:pt x="19333" y="20849"/>
                        <a:pt x="19289" y="20911"/>
                      </a:cubicBezTo>
                      <a:lnTo>
                        <a:pt x="19199" y="20968"/>
                      </a:lnTo>
                      <a:cubicBezTo>
                        <a:pt x="19169" y="20968"/>
                        <a:pt x="19107" y="20928"/>
                        <a:pt x="19013" y="20852"/>
                      </a:cubicBezTo>
                      <a:cubicBezTo>
                        <a:pt x="18919" y="20773"/>
                        <a:pt x="18823" y="20685"/>
                        <a:pt x="18726" y="20586"/>
                      </a:cubicBezTo>
                      <a:cubicBezTo>
                        <a:pt x="18630" y="20488"/>
                        <a:pt x="18533" y="20392"/>
                        <a:pt x="18439" y="20295"/>
                      </a:cubicBezTo>
                      <a:cubicBezTo>
                        <a:pt x="18345" y="20199"/>
                        <a:pt x="18284" y="20137"/>
                        <a:pt x="18253" y="20101"/>
                      </a:cubicBezTo>
                      <a:cubicBezTo>
                        <a:pt x="17975" y="20208"/>
                        <a:pt x="17681" y="20295"/>
                        <a:pt x="17373" y="20358"/>
                      </a:cubicBezTo>
                      <a:cubicBezTo>
                        <a:pt x="17359" y="20411"/>
                        <a:pt x="17323" y="20510"/>
                        <a:pt x="17274" y="20649"/>
                      </a:cubicBezTo>
                      <a:cubicBezTo>
                        <a:pt x="17220" y="20787"/>
                        <a:pt x="17161" y="20925"/>
                        <a:pt x="17097" y="21061"/>
                      </a:cubicBezTo>
                      <a:cubicBezTo>
                        <a:pt x="17034" y="21196"/>
                        <a:pt x="16973" y="21320"/>
                        <a:pt x="16911" y="21431"/>
                      </a:cubicBezTo>
                      <a:cubicBezTo>
                        <a:pt x="16853" y="21546"/>
                        <a:pt x="16798" y="21600"/>
                        <a:pt x="16754" y="21600"/>
                      </a:cubicBezTo>
                      <a:cubicBezTo>
                        <a:pt x="16709" y="21600"/>
                        <a:pt x="16577" y="21569"/>
                        <a:pt x="16361" y="21498"/>
                      </a:cubicBezTo>
                      <a:cubicBezTo>
                        <a:pt x="16142" y="21431"/>
                        <a:pt x="15906" y="21349"/>
                        <a:pt x="15655" y="21247"/>
                      </a:cubicBezTo>
                      <a:cubicBezTo>
                        <a:pt x="15405" y="21148"/>
                        <a:pt x="15179" y="21044"/>
                        <a:pt x="14979" y="20931"/>
                      </a:cubicBezTo>
                      <a:cubicBezTo>
                        <a:pt x="14779" y="20818"/>
                        <a:pt x="14680" y="20719"/>
                        <a:pt x="14680" y="20629"/>
                      </a:cubicBezTo>
                      <a:cubicBezTo>
                        <a:pt x="14680" y="20420"/>
                        <a:pt x="14699" y="20205"/>
                        <a:pt x="14737" y="19985"/>
                      </a:cubicBezTo>
                      <a:cubicBezTo>
                        <a:pt x="14774" y="19765"/>
                        <a:pt x="14810" y="19556"/>
                        <a:pt x="14838" y="19355"/>
                      </a:cubicBezTo>
                      <a:cubicBezTo>
                        <a:pt x="14718" y="19248"/>
                        <a:pt x="14612" y="19129"/>
                        <a:pt x="14518" y="18999"/>
                      </a:cubicBezTo>
                      <a:cubicBezTo>
                        <a:pt x="14424" y="18870"/>
                        <a:pt x="14339" y="18731"/>
                        <a:pt x="14263" y="18587"/>
                      </a:cubicBezTo>
                      <a:cubicBezTo>
                        <a:pt x="14092" y="18607"/>
                        <a:pt x="13920" y="18618"/>
                        <a:pt x="13750" y="18630"/>
                      </a:cubicBezTo>
                      <a:cubicBezTo>
                        <a:pt x="13583" y="18638"/>
                        <a:pt x="13414" y="18641"/>
                        <a:pt x="13251" y="18641"/>
                      </a:cubicBezTo>
                      <a:lnTo>
                        <a:pt x="13087" y="18641"/>
                      </a:lnTo>
                      <a:cubicBezTo>
                        <a:pt x="13037" y="18641"/>
                        <a:pt x="13007" y="18590"/>
                        <a:pt x="12990" y="18491"/>
                      </a:cubicBezTo>
                      <a:cubicBezTo>
                        <a:pt x="12976" y="18418"/>
                        <a:pt x="12945" y="18260"/>
                        <a:pt x="12901" y="18011"/>
                      </a:cubicBezTo>
                      <a:cubicBezTo>
                        <a:pt x="12856" y="17763"/>
                        <a:pt x="12804" y="17503"/>
                        <a:pt x="12748" y="17229"/>
                      </a:cubicBezTo>
                      <a:cubicBezTo>
                        <a:pt x="12691" y="16953"/>
                        <a:pt x="12644" y="16704"/>
                        <a:pt x="12609" y="16478"/>
                      </a:cubicBezTo>
                      <a:cubicBezTo>
                        <a:pt x="12569" y="16252"/>
                        <a:pt x="12552" y="16123"/>
                        <a:pt x="12552" y="16086"/>
                      </a:cubicBezTo>
                      <a:cubicBezTo>
                        <a:pt x="12552" y="16032"/>
                        <a:pt x="12602" y="15973"/>
                        <a:pt x="12703" y="15911"/>
                      </a:cubicBezTo>
                      <a:cubicBezTo>
                        <a:pt x="12804" y="15849"/>
                        <a:pt x="12922" y="15784"/>
                        <a:pt x="13054" y="15713"/>
                      </a:cubicBezTo>
                      <a:cubicBezTo>
                        <a:pt x="13183" y="15645"/>
                        <a:pt x="13310" y="15592"/>
                        <a:pt x="13430" y="15546"/>
                      </a:cubicBezTo>
                      <a:cubicBezTo>
                        <a:pt x="13550" y="15501"/>
                        <a:pt x="13633" y="15470"/>
                        <a:pt x="13677" y="15453"/>
                      </a:cubicBezTo>
                      <a:cubicBezTo>
                        <a:pt x="13708" y="15241"/>
                        <a:pt x="13743" y="15069"/>
                        <a:pt x="13786" y="14922"/>
                      </a:cubicBezTo>
                      <a:cubicBezTo>
                        <a:pt x="13826" y="14778"/>
                        <a:pt x="13885" y="14615"/>
                        <a:pt x="13960" y="14423"/>
                      </a:cubicBezTo>
                      <a:cubicBezTo>
                        <a:pt x="13929" y="14389"/>
                        <a:pt x="13882" y="14310"/>
                        <a:pt x="13814" y="14194"/>
                      </a:cubicBezTo>
                      <a:cubicBezTo>
                        <a:pt x="13746" y="14075"/>
                        <a:pt x="13677" y="13951"/>
                        <a:pt x="13604" y="13824"/>
                      </a:cubicBezTo>
                      <a:cubicBezTo>
                        <a:pt x="13534" y="13694"/>
                        <a:pt x="13470" y="13567"/>
                        <a:pt x="13419" y="13446"/>
                      </a:cubicBezTo>
                      <a:cubicBezTo>
                        <a:pt x="13367" y="13325"/>
                        <a:pt x="13341" y="13243"/>
                        <a:pt x="13341" y="13209"/>
                      </a:cubicBezTo>
                      <a:cubicBezTo>
                        <a:pt x="13341" y="13172"/>
                        <a:pt x="13409" y="13065"/>
                        <a:pt x="13548" y="12887"/>
                      </a:cubicBezTo>
                      <a:cubicBezTo>
                        <a:pt x="13687" y="12715"/>
                        <a:pt x="13849" y="12531"/>
                        <a:pt x="14033" y="12336"/>
                      </a:cubicBezTo>
                      <a:cubicBezTo>
                        <a:pt x="14216" y="12144"/>
                        <a:pt x="14393" y="11961"/>
                        <a:pt x="14562" y="11797"/>
                      </a:cubicBezTo>
                      <a:cubicBezTo>
                        <a:pt x="14732" y="11628"/>
                        <a:pt x="14838" y="11517"/>
                        <a:pt x="14883" y="11467"/>
                      </a:cubicBezTo>
                      <a:lnTo>
                        <a:pt x="14974" y="11410"/>
                      </a:lnTo>
                      <a:cubicBezTo>
                        <a:pt x="15005" y="11410"/>
                        <a:pt x="15066" y="11450"/>
                        <a:pt x="15160" y="11526"/>
                      </a:cubicBezTo>
                      <a:cubicBezTo>
                        <a:pt x="15254" y="11599"/>
                        <a:pt x="15349" y="11690"/>
                        <a:pt x="15447" y="11789"/>
                      </a:cubicBezTo>
                      <a:cubicBezTo>
                        <a:pt x="15544" y="11887"/>
                        <a:pt x="15640" y="11983"/>
                        <a:pt x="15735" y="12076"/>
                      </a:cubicBezTo>
                      <a:cubicBezTo>
                        <a:pt x="15829" y="12175"/>
                        <a:pt x="15890" y="12237"/>
                        <a:pt x="15920" y="12277"/>
                      </a:cubicBezTo>
                      <a:cubicBezTo>
                        <a:pt x="16184" y="12167"/>
                        <a:pt x="16469" y="12082"/>
                        <a:pt x="16777" y="12017"/>
                      </a:cubicBezTo>
                      <a:cubicBezTo>
                        <a:pt x="16791" y="11964"/>
                        <a:pt x="16827" y="11868"/>
                        <a:pt x="16878" y="11726"/>
                      </a:cubicBezTo>
                      <a:cubicBezTo>
                        <a:pt x="16930" y="11588"/>
                        <a:pt x="16991" y="11450"/>
                        <a:pt x="17064" y="11317"/>
                      </a:cubicBezTo>
                      <a:cubicBezTo>
                        <a:pt x="17135" y="11178"/>
                        <a:pt x="17201" y="11057"/>
                        <a:pt x="17262" y="10941"/>
                      </a:cubicBezTo>
                      <a:cubicBezTo>
                        <a:pt x="17321" y="10831"/>
                        <a:pt x="17373" y="10775"/>
                        <a:pt x="17420" y="10775"/>
                      </a:cubicBezTo>
                      <a:cubicBezTo>
                        <a:pt x="17448" y="10775"/>
                        <a:pt x="17575" y="10806"/>
                        <a:pt x="17803" y="10871"/>
                      </a:cubicBezTo>
                      <a:cubicBezTo>
                        <a:pt x="18027" y="10930"/>
                        <a:pt x="18265" y="11015"/>
                        <a:pt x="18517" y="11119"/>
                      </a:cubicBezTo>
                      <a:cubicBezTo>
                        <a:pt x="18768" y="11224"/>
                        <a:pt x="18997" y="11328"/>
                        <a:pt x="19199" y="11438"/>
                      </a:cubicBezTo>
                      <a:cubicBezTo>
                        <a:pt x="19402" y="11546"/>
                        <a:pt x="19503" y="11647"/>
                        <a:pt x="19503" y="11746"/>
                      </a:cubicBezTo>
                      <a:cubicBezTo>
                        <a:pt x="19503" y="11955"/>
                        <a:pt x="19482" y="12167"/>
                        <a:pt x="19442" y="12384"/>
                      </a:cubicBezTo>
                      <a:cubicBezTo>
                        <a:pt x="19399" y="12599"/>
                        <a:pt x="19364" y="12810"/>
                        <a:pt x="19333" y="13017"/>
                      </a:cubicBezTo>
                      <a:cubicBezTo>
                        <a:pt x="19453" y="13124"/>
                        <a:pt x="19562" y="13245"/>
                        <a:pt x="19656" y="13375"/>
                      </a:cubicBezTo>
                      <a:cubicBezTo>
                        <a:pt x="19750" y="13505"/>
                        <a:pt x="19835" y="13643"/>
                        <a:pt x="19910" y="13787"/>
                      </a:cubicBezTo>
                      <a:cubicBezTo>
                        <a:pt x="20096" y="13771"/>
                        <a:pt x="20282" y="13756"/>
                        <a:pt x="20466" y="13748"/>
                      </a:cubicBezTo>
                      <a:cubicBezTo>
                        <a:pt x="20651" y="13737"/>
                        <a:pt x="20830" y="13734"/>
                        <a:pt x="21002" y="13734"/>
                      </a:cubicBezTo>
                      <a:cubicBezTo>
                        <a:pt x="21061" y="13734"/>
                        <a:pt x="21129" y="13852"/>
                        <a:pt x="21205" y="14092"/>
                      </a:cubicBezTo>
                      <a:cubicBezTo>
                        <a:pt x="21280" y="14333"/>
                        <a:pt x="21346" y="14604"/>
                        <a:pt x="21402" y="14911"/>
                      </a:cubicBezTo>
                      <a:cubicBezTo>
                        <a:pt x="21459" y="15216"/>
                        <a:pt x="21506" y="15507"/>
                        <a:pt x="21544" y="15784"/>
                      </a:cubicBezTo>
                      <a:cubicBezTo>
                        <a:pt x="21581" y="16058"/>
                        <a:pt x="21600" y="16235"/>
                        <a:pt x="21600" y="16315"/>
                      </a:cubicBezTo>
                      <a:cubicBezTo>
                        <a:pt x="21600" y="16371"/>
                        <a:pt x="21548" y="16427"/>
                        <a:pt x="21447" y="16492"/>
                      </a:cubicBezTo>
                      <a:cubicBezTo>
                        <a:pt x="21346" y="16554"/>
                        <a:pt x="21235" y="16614"/>
                        <a:pt x="21115" y="16665"/>
                      </a:cubicBezTo>
                      <a:cubicBezTo>
                        <a:pt x="20995" y="16721"/>
                        <a:pt x="20873" y="16777"/>
                        <a:pt x="20748" y="16837"/>
                      </a:cubicBezTo>
                      <a:cubicBezTo>
                        <a:pt x="20623" y="16893"/>
                        <a:pt x="20541" y="16933"/>
                        <a:pt x="20496" y="16952"/>
                      </a:cubicBezTo>
                      <a:moveTo>
                        <a:pt x="20515" y="6070"/>
                      </a:moveTo>
                      <a:cubicBezTo>
                        <a:pt x="20416" y="6395"/>
                        <a:pt x="20301" y="6678"/>
                        <a:pt x="20164" y="6920"/>
                      </a:cubicBezTo>
                      <a:cubicBezTo>
                        <a:pt x="20181" y="6960"/>
                        <a:pt x="20211" y="7030"/>
                        <a:pt x="20256" y="7143"/>
                      </a:cubicBezTo>
                      <a:cubicBezTo>
                        <a:pt x="20301" y="7256"/>
                        <a:pt x="20353" y="7378"/>
                        <a:pt x="20409" y="7510"/>
                      </a:cubicBezTo>
                      <a:cubicBezTo>
                        <a:pt x="20463" y="7640"/>
                        <a:pt x="20510" y="7759"/>
                        <a:pt x="20550" y="7869"/>
                      </a:cubicBezTo>
                      <a:cubicBezTo>
                        <a:pt x="20586" y="7974"/>
                        <a:pt x="20604" y="8041"/>
                        <a:pt x="20604" y="8058"/>
                      </a:cubicBezTo>
                      <a:cubicBezTo>
                        <a:pt x="20604" y="8112"/>
                        <a:pt x="20520" y="8216"/>
                        <a:pt x="20353" y="8375"/>
                      </a:cubicBezTo>
                      <a:cubicBezTo>
                        <a:pt x="20183" y="8533"/>
                        <a:pt x="19995" y="8696"/>
                        <a:pt x="19788" y="8863"/>
                      </a:cubicBezTo>
                      <a:cubicBezTo>
                        <a:pt x="19581" y="9027"/>
                        <a:pt x="19388" y="9176"/>
                        <a:pt x="19209" y="9309"/>
                      </a:cubicBezTo>
                      <a:cubicBezTo>
                        <a:pt x="19027" y="9439"/>
                        <a:pt x="18931" y="9501"/>
                        <a:pt x="18914" y="9501"/>
                      </a:cubicBezTo>
                      <a:cubicBezTo>
                        <a:pt x="18886" y="9501"/>
                        <a:pt x="18832" y="9462"/>
                        <a:pt x="18757" y="9374"/>
                      </a:cubicBezTo>
                      <a:cubicBezTo>
                        <a:pt x="18684" y="9289"/>
                        <a:pt x="18601" y="9193"/>
                        <a:pt x="18514" y="9083"/>
                      </a:cubicBezTo>
                      <a:cubicBezTo>
                        <a:pt x="18430" y="8979"/>
                        <a:pt x="18352" y="8871"/>
                        <a:pt x="18284" y="8767"/>
                      </a:cubicBezTo>
                      <a:cubicBezTo>
                        <a:pt x="18215" y="8663"/>
                        <a:pt x="18168" y="8592"/>
                        <a:pt x="18138" y="8558"/>
                      </a:cubicBezTo>
                      <a:cubicBezTo>
                        <a:pt x="18032" y="8592"/>
                        <a:pt x="17926" y="8620"/>
                        <a:pt x="17815" y="8640"/>
                      </a:cubicBezTo>
                      <a:cubicBezTo>
                        <a:pt x="17707" y="8657"/>
                        <a:pt x="17596" y="8657"/>
                        <a:pt x="17483" y="8640"/>
                      </a:cubicBezTo>
                      <a:lnTo>
                        <a:pt x="17326" y="8640"/>
                      </a:lnTo>
                      <a:cubicBezTo>
                        <a:pt x="17297" y="8674"/>
                        <a:pt x="17250" y="8750"/>
                        <a:pt x="17192" y="8863"/>
                      </a:cubicBezTo>
                      <a:cubicBezTo>
                        <a:pt x="17130" y="8973"/>
                        <a:pt x="17067" y="9092"/>
                        <a:pt x="16994" y="9213"/>
                      </a:cubicBezTo>
                      <a:cubicBezTo>
                        <a:pt x="16923" y="9335"/>
                        <a:pt x="16853" y="9442"/>
                        <a:pt x="16784" y="9529"/>
                      </a:cubicBezTo>
                      <a:cubicBezTo>
                        <a:pt x="16718" y="9620"/>
                        <a:pt x="16669" y="9668"/>
                        <a:pt x="16638" y="9668"/>
                      </a:cubicBezTo>
                      <a:cubicBezTo>
                        <a:pt x="16610" y="9668"/>
                        <a:pt x="16495" y="9617"/>
                        <a:pt x="16302" y="9518"/>
                      </a:cubicBezTo>
                      <a:cubicBezTo>
                        <a:pt x="16106" y="9419"/>
                        <a:pt x="15902" y="9304"/>
                        <a:pt x="15687" y="9171"/>
                      </a:cubicBezTo>
                      <a:cubicBezTo>
                        <a:pt x="15473" y="9041"/>
                        <a:pt x="15278" y="8911"/>
                        <a:pt x="15101" y="8778"/>
                      </a:cubicBezTo>
                      <a:cubicBezTo>
                        <a:pt x="14925" y="8649"/>
                        <a:pt x="14835" y="8558"/>
                        <a:pt x="14835" y="8505"/>
                      </a:cubicBezTo>
                      <a:cubicBezTo>
                        <a:pt x="14835" y="8488"/>
                        <a:pt x="14847" y="8420"/>
                        <a:pt x="14868" y="8307"/>
                      </a:cubicBezTo>
                      <a:cubicBezTo>
                        <a:pt x="14892" y="8194"/>
                        <a:pt x="14923" y="8073"/>
                        <a:pt x="14960" y="7948"/>
                      </a:cubicBezTo>
                      <a:cubicBezTo>
                        <a:pt x="14998" y="7824"/>
                        <a:pt x="15031" y="7700"/>
                        <a:pt x="15061" y="7579"/>
                      </a:cubicBezTo>
                      <a:cubicBezTo>
                        <a:pt x="15092" y="7457"/>
                        <a:pt x="15113" y="7378"/>
                        <a:pt x="15130" y="7341"/>
                      </a:cubicBezTo>
                      <a:cubicBezTo>
                        <a:pt x="14958" y="7132"/>
                        <a:pt x="14814" y="6867"/>
                        <a:pt x="14701" y="6542"/>
                      </a:cubicBezTo>
                      <a:cubicBezTo>
                        <a:pt x="14303" y="6525"/>
                        <a:pt x="14021" y="6503"/>
                        <a:pt x="13856" y="6475"/>
                      </a:cubicBezTo>
                      <a:cubicBezTo>
                        <a:pt x="13692" y="6446"/>
                        <a:pt x="13581" y="6364"/>
                        <a:pt x="13529" y="6226"/>
                      </a:cubicBezTo>
                      <a:cubicBezTo>
                        <a:pt x="13477" y="6085"/>
                        <a:pt x="13459" y="5850"/>
                        <a:pt x="13473" y="5514"/>
                      </a:cubicBezTo>
                      <a:cubicBezTo>
                        <a:pt x="13489" y="5184"/>
                        <a:pt x="13473" y="4693"/>
                        <a:pt x="13428" y="4043"/>
                      </a:cubicBezTo>
                      <a:cubicBezTo>
                        <a:pt x="13428" y="3987"/>
                        <a:pt x="13475" y="3936"/>
                        <a:pt x="13569" y="3880"/>
                      </a:cubicBezTo>
                      <a:cubicBezTo>
                        <a:pt x="13663" y="3826"/>
                        <a:pt x="13774" y="3784"/>
                        <a:pt x="13901" y="3744"/>
                      </a:cubicBezTo>
                      <a:cubicBezTo>
                        <a:pt x="14028" y="3707"/>
                        <a:pt x="14155" y="3685"/>
                        <a:pt x="14280" y="3665"/>
                      </a:cubicBezTo>
                      <a:cubicBezTo>
                        <a:pt x="14402" y="3645"/>
                        <a:pt x="14487" y="3628"/>
                        <a:pt x="14532" y="3609"/>
                      </a:cubicBezTo>
                      <a:cubicBezTo>
                        <a:pt x="14607" y="3315"/>
                        <a:pt x="14722" y="3024"/>
                        <a:pt x="14880" y="2747"/>
                      </a:cubicBezTo>
                      <a:cubicBezTo>
                        <a:pt x="14866" y="2708"/>
                        <a:pt x="14835" y="2632"/>
                        <a:pt x="14791" y="2510"/>
                      </a:cubicBezTo>
                      <a:cubicBezTo>
                        <a:pt x="14746" y="2389"/>
                        <a:pt x="14699" y="2265"/>
                        <a:pt x="14650" y="2137"/>
                      </a:cubicBezTo>
                      <a:cubicBezTo>
                        <a:pt x="14602" y="2010"/>
                        <a:pt x="14558" y="1897"/>
                        <a:pt x="14522" y="1793"/>
                      </a:cubicBezTo>
                      <a:cubicBezTo>
                        <a:pt x="14482" y="1689"/>
                        <a:pt x="14466" y="1618"/>
                        <a:pt x="14466" y="1584"/>
                      </a:cubicBezTo>
                      <a:cubicBezTo>
                        <a:pt x="14466" y="1528"/>
                        <a:pt x="14546" y="1429"/>
                        <a:pt x="14706" y="1279"/>
                      </a:cubicBezTo>
                      <a:cubicBezTo>
                        <a:pt x="14868" y="1130"/>
                        <a:pt x="15052" y="971"/>
                        <a:pt x="15259" y="805"/>
                      </a:cubicBezTo>
                      <a:cubicBezTo>
                        <a:pt x="15464" y="641"/>
                        <a:pt x="15659" y="491"/>
                        <a:pt x="15840" y="367"/>
                      </a:cubicBezTo>
                      <a:cubicBezTo>
                        <a:pt x="16019" y="240"/>
                        <a:pt x="16125" y="178"/>
                        <a:pt x="16154" y="178"/>
                      </a:cubicBezTo>
                      <a:cubicBezTo>
                        <a:pt x="16184" y="178"/>
                        <a:pt x="16234" y="217"/>
                        <a:pt x="16302" y="296"/>
                      </a:cubicBezTo>
                      <a:cubicBezTo>
                        <a:pt x="16368" y="381"/>
                        <a:pt x="16445" y="477"/>
                        <a:pt x="16532" y="590"/>
                      </a:cubicBezTo>
                      <a:cubicBezTo>
                        <a:pt x="16620" y="700"/>
                        <a:pt x="16695" y="808"/>
                        <a:pt x="16763" y="906"/>
                      </a:cubicBezTo>
                      <a:cubicBezTo>
                        <a:pt x="16829" y="1005"/>
                        <a:pt x="16878" y="1073"/>
                        <a:pt x="16909" y="1110"/>
                      </a:cubicBezTo>
                      <a:cubicBezTo>
                        <a:pt x="17015" y="1073"/>
                        <a:pt x="17123" y="1048"/>
                        <a:pt x="17229" y="1028"/>
                      </a:cubicBezTo>
                      <a:cubicBezTo>
                        <a:pt x="17340" y="1008"/>
                        <a:pt x="17450" y="1008"/>
                        <a:pt x="17563" y="1028"/>
                      </a:cubicBezTo>
                      <a:lnTo>
                        <a:pt x="17721" y="1028"/>
                      </a:lnTo>
                      <a:cubicBezTo>
                        <a:pt x="17735" y="994"/>
                        <a:pt x="17778" y="918"/>
                        <a:pt x="17846" y="805"/>
                      </a:cubicBezTo>
                      <a:cubicBezTo>
                        <a:pt x="17912" y="692"/>
                        <a:pt x="17982" y="579"/>
                        <a:pt x="18053" y="460"/>
                      </a:cubicBezTo>
                      <a:cubicBezTo>
                        <a:pt x="18124" y="342"/>
                        <a:pt x="18189" y="237"/>
                        <a:pt x="18251" y="144"/>
                      </a:cubicBezTo>
                      <a:cubicBezTo>
                        <a:pt x="18310" y="51"/>
                        <a:pt x="18354" y="0"/>
                        <a:pt x="18385" y="0"/>
                      </a:cubicBezTo>
                      <a:cubicBezTo>
                        <a:pt x="18415" y="0"/>
                        <a:pt x="18528" y="54"/>
                        <a:pt x="18724" y="158"/>
                      </a:cubicBezTo>
                      <a:cubicBezTo>
                        <a:pt x="18919" y="260"/>
                        <a:pt x="19129" y="378"/>
                        <a:pt x="19350" y="508"/>
                      </a:cubicBezTo>
                      <a:cubicBezTo>
                        <a:pt x="19571" y="641"/>
                        <a:pt x="19771" y="765"/>
                        <a:pt x="19945" y="892"/>
                      </a:cubicBezTo>
                      <a:cubicBezTo>
                        <a:pt x="20122" y="1019"/>
                        <a:pt x="20211" y="1110"/>
                        <a:pt x="20211" y="1163"/>
                      </a:cubicBezTo>
                      <a:cubicBezTo>
                        <a:pt x="20211" y="1200"/>
                        <a:pt x="20197" y="1268"/>
                        <a:pt x="20164" y="1372"/>
                      </a:cubicBezTo>
                      <a:cubicBezTo>
                        <a:pt x="20136" y="1477"/>
                        <a:pt x="20105" y="1593"/>
                        <a:pt x="20075" y="1725"/>
                      </a:cubicBezTo>
                      <a:cubicBezTo>
                        <a:pt x="20047" y="1855"/>
                        <a:pt x="20014" y="1979"/>
                        <a:pt x="19981" y="2095"/>
                      </a:cubicBezTo>
                      <a:cubicBezTo>
                        <a:pt x="19945" y="2214"/>
                        <a:pt x="19922" y="2290"/>
                        <a:pt x="19908" y="2327"/>
                      </a:cubicBezTo>
                      <a:cubicBezTo>
                        <a:pt x="20058" y="2552"/>
                        <a:pt x="20204" y="2824"/>
                        <a:pt x="20345" y="3137"/>
                      </a:cubicBezTo>
                      <a:cubicBezTo>
                        <a:pt x="20729" y="3174"/>
                        <a:pt x="21007" y="3205"/>
                        <a:pt x="21181" y="3233"/>
                      </a:cubicBezTo>
                      <a:cubicBezTo>
                        <a:pt x="21353" y="3258"/>
                        <a:pt x="21461" y="3343"/>
                        <a:pt x="21506" y="3478"/>
                      </a:cubicBezTo>
                      <a:cubicBezTo>
                        <a:pt x="21551" y="3623"/>
                        <a:pt x="21572" y="3854"/>
                        <a:pt x="21562" y="4184"/>
                      </a:cubicBezTo>
                      <a:cubicBezTo>
                        <a:pt x="21555" y="4515"/>
                        <a:pt x="21567" y="4995"/>
                        <a:pt x="21598" y="5624"/>
                      </a:cubicBezTo>
                      <a:cubicBezTo>
                        <a:pt x="21598" y="5678"/>
                        <a:pt x="21551" y="5735"/>
                        <a:pt x="21456" y="5794"/>
                      </a:cubicBezTo>
                      <a:cubicBezTo>
                        <a:pt x="21362" y="5850"/>
                        <a:pt x="21254" y="5901"/>
                        <a:pt x="21136" y="5935"/>
                      </a:cubicBezTo>
                      <a:cubicBezTo>
                        <a:pt x="21014" y="5972"/>
                        <a:pt x="20894" y="6000"/>
                        <a:pt x="20769" y="6017"/>
                      </a:cubicBezTo>
                      <a:cubicBezTo>
                        <a:pt x="20647" y="6034"/>
                        <a:pt x="20560" y="6053"/>
                        <a:pt x="20515" y="6070"/>
                      </a:cubicBezTo>
                      <a:moveTo>
                        <a:pt x="15739" y="16167"/>
                      </a:moveTo>
                      <a:cubicBezTo>
                        <a:pt x="15739" y="16611"/>
                        <a:pt x="15869" y="16992"/>
                        <a:pt x="16130" y="17317"/>
                      </a:cubicBezTo>
                      <a:cubicBezTo>
                        <a:pt x="16389" y="17641"/>
                        <a:pt x="16704" y="17802"/>
                        <a:pt x="17081" y="17802"/>
                      </a:cubicBezTo>
                      <a:cubicBezTo>
                        <a:pt x="17448" y="17802"/>
                        <a:pt x="17766" y="17647"/>
                        <a:pt x="18034" y="17339"/>
                      </a:cubicBezTo>
                      <a:cubicBezTo>
                        <a:pt x="18300" y="17023"/>
                        <a:pt x="18434" y="16639"/>
                        <a:pt x="18434" y="16167"/>
                      </a:cubicBezTo>
                      <a:cubicBezTo>
                        <a:pt x="18434" y="15724"/>
                        <a:pt x="18302" y="15351"/>
                        <a:pt x="18044" y="15038"/>
                      </a:cubicBezTo>
                      <a:cubicBezTo>
                        <a:pt x="17785" y="14727"/>
                        <a:pt x="17465" y="14572"/>
                        <a:pt x="17081" y="14572"/>
                      </a:cubicBezTo>
                      <a:cubicBezTo>
                        <a:pt x="16714" y="14572"/>
                        <a:pt x="16396" y="14727"/>
                        <a:pt x="16135" y="15038"/>
                      </a:cubicBezTo>
                      <a:cubicBezTo>
                        <a:pt x="15869" y="15351"/>
                        <a:pt x="15739" y="15724"/>
                        <a:pt x="15739" y="16167"/>
                      </a:cubicBezTo>
                      <a:moveTo>
                        <a:pt x="16292" y="4825"/>
                      </a:moveTo>
                      <a:cubicBezTo>
                        <a:pt x="16292" y="5249"/>
                        <a:pt x="16410" y="5602"/>
                        <a:pt x="16648" y="5887"/>
                      </a:cubicBezTo>
                      <a:cubicBezTo>
                        <a:pt x="16883" y="6172"/>
                        <a:pt x="17173" y="6313"/>
                        <a:pt x="17509" y="6313"/>
                      </a:cubicBezTo>
                      <a:cubicBezTo>
                        <a:pt x="17862" y="6313"/>
                        <a:pt x="18159" y="6172"/>
                        <a:pt x="18399" y="5887"/>
                      </a:cubicBezTo>
                      <a:cubicBezTo>
                        <a:pt x="18639" y="5602"/>
                        <a:pt x="18759" y="5257"/>
                        <a:pt x="18759" y="4853"/>
                      </a:cubicBezTo>
                      <a:cubicBezTo>
                        <a:pt x="18759" y="4430"/>
                        <a:pt x="18641" y="4074"/>
                        <a:pt x="18404" y="3786"/>
                      </a:cubicBezTo>
                      <a:cubicBezTo>
                        <a:pt x="18168" y="3495"/>
                        <a:pt x="17876" y="3354"/>
                        <a:pt x="17530" y="3354"/>
                      </a:cubicBezTo>
                      <a:cubicBezTo>
                        <a:pt x="17177" y="3354"/>
                        <a:pt x="16883" y="3495"/>
                        <a:pt x="16648" y="3786"/>
                      </a:cubicBezTo>
                      <a:cubicBezTo>
                        <a:pt x="16408" y="4074"/>
                        <a:pt x="16292" y="4421"/>
                        <a:pt x="16292" y="4825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489"/>
              <p:cNvGrpSpPr/>
              <p:nvPr/>
            </p:nvGrpSpPr>
            <p:grpSpPr>
              <a:xfrm>
                <a:off x="7458840" y="3768840"/>
                <a:ext cx="326880" cy="155880"/>
                <a:chOff x="7458840" y="3768840"/>
                <a:chExt cx="326880" cy="155880"/>
              </a:xfrm>
            </p:grpSpPr>
            <p:sp>
              <p:nvSpPr>
                <p:cNvPr id="678" name="Shape 485"/>
                <p:cNvSpPr/>
                <p:nvPr/>
              </p:nvSpPr>
              <p:spPr>
                <a:xfrm>
                  <a:off x="7458840" y="3768840"/>
                  <a:ext cx="326880" cy="44280"/>
                </a:xfrm>
                <a:prstGeom prst="rect">
                  <a:avLst/>
                </a:prstGeom>
                <a:solidFill>
                  <a:srgbClr val="4472c4"/>
                </a:solidFill>
                <a:ln w="25560">
                  <a:solidFill>
                    <a:srgbClr val="000000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219240"/>
                      <a:tab algn="l" pos="438120"/>
                      <a:tab algn="l" pos="657360"/>
                      <a:tab algn="l" pos="876240"/>
                      <a:tab algn="l" pos="1095480"/>
                      <a:tab algn="l" pos="1314360"/>
                      <a:tab algn="l" pos="1533600"/>
                      <a:tab algn="l" pos="1752480"/>
                      <a:tab algn="l" pos="1971720"/>
                      <a:tab algn="l" pos="2190600"/>
                      <a:tab algn="l" pos="2409840"/>
                      <a:tab algn="l" pos="2629080"/>
                      <a:tab algn="l" pos="2847960"/>
                      <a:tab algn="l" pos="3067200"/>
                      <a:tab algn="l" pos="3286080"/>
                      <a:tab algn="l" pos="3505320"/>
                      <a:tab algn="l" pos="3724200"/>
                      <a:tab algn="l" pos="3943440"/>
                      <a:tab algn="l" pos="4162320"/>
                      <a:tab algn="l" pos="43815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Shape 486"/>
                <p:cNvSpPr/>
                <p:nvPr/>
              </p:nvSpPr>
              <p:spPr>
                <a:xfrm>
                  <a:off x="7493760" y="3775320"/>
                  <a:ext cx="268200" cy="14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5560" rIns="25560" tIns="25560" bIns="25560" anchor="ctr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" spc="-1" strike="noStrike">
                      <a:solidFill>
                        <a:srgbClr val="ffffff"/>
                      </a:solidFill>
                      <a:latin typeface="Arial"/>
                      <a:ea typeface="Open Sans Condensed Light"/>
                    </a:rPr>
                    <a:t>Подсистема технического регулирования и стандартизации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Shape 485"/>
              <p:cNvSpPr/>
              <p:nvPr/>
            </p:nvSpPr>
            <p:spPr>
              <a:xfrm>
                <a:off x="7459200" y="3821040"/>
                <a:ext cx="317160" cy="54000"/>
              </a:xfrm>
              <a:prstGeom prst="rect">
                <a:avLst/>
              </a:prstGeom>
              <a:solidFill>
                <a:srgbClr val="ee7353"/>
              </a:solidFill>
              <a:ln w="255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tabLst>
                    <a:tab algn="l" pos="0"/>
                    <a:tab algn="l" pos="219240"/>
                    <a:tab algn="l" pos="438120"/>
                    <a:tab algn="l" pos="657360"/>
                    <a:tab algn="l" pos="876240"/>
                    <a:tab algn="l" pos="1095480"/>
                    <a:tab algn="l" pos="1314360"/>
                    <a:tab algn="l" pos="1533600"/>
                    <a:tab algn="l" pos="1752480"/>
                    <a:tab algn="l" pos="1971720"/>
                    <a:tab algn="l" pos="2190600"/>
                    <a:tab algn="l" pos="2409840"/>
                    <a:tab algn="l" pos="2629080"/>
                    <a:tab algn="l" pos="2847960"/>
                    <a:tab algn="l" pos="3067200"/>
                    <a:tab algn="l" pos="3286080"/>
                    <a:tab algn="l" pos="3505320"/>
                    <a:tab algn="l" pos="3724200"/>
                    <a:tab algn="l" pos="3943440"/>
                    <a:tab algn="l" pos="4162320"/>
                    <a:tab algn="l" pos="438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Shape 485"/>
              <p:cNvSpPr/>
              <p:nvPr/>
            </p:nvSpPr>
            <p:spPr>
              <a:xfrm>
                <a:off x="7459200" y="3882960"/>
                <a:ext cx="317160" cy="54000"/>
              </a:xfrm>
              <a:prstGeom prst="rect">
                <a:avLst/>
              </a:prstGeom>
              <a:solidFill>
                <a:srgbClr val="e39a25"/>
              </a:solidFill>
              <a:ln w="255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tabLst>
                    <a:tab algn="l" pos="0"/>
                    <a:tab algn="l" pos="219240"/>
                    <a:tab algn="l" pos="438120"/>
                    <a:tab algn="l" pos="657360"/>
                    <a:tab algn="l" pos="876240"/>
                    <a:tab algn="l" pos="1095480"/>
                    <a:tab algn="l" pos="1314360"/>
                    <a:tab algn="l" pos="1533600"/>
                    <a:tab algn="l" pos="1752480"/>
                    <a:tab algn="l" pos="1971720"/>
                    <a:tab algn="l" pos="2190600"/>
                    <a:tab algn="l" pos="2409840"/>
                    <a:tab algn="l" pos="2629080"/>
                    <a:tab algn="l" pos="2847960"/>
                    <a:tab algn="l" pos="3067200"/>
                    <a:tab algn="l" pos="3286080"/>
                    <a:tab algn="l" pos="3505320"/>
                    <a:tab algn="l" pos="3724200"/>
                    <a:tab algn="l" pos="3943440"/>
                    <a:tab algn="l" pos="4162320"/>
                    <a:tab algn="l" pos="438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Shape 485"/>
              <p:cNvSpPr/>
              <p:nvPr/>
            </p:nvSpPr>
            <p:spPr>
              <a:xfrm>
                <a:off x="7459200" y="3946680"/>
                <a:ext cx="317160" cy="54000"/>
              </a:xfrm>
              <a:prstGeom prst="rect">
                <a:avLst/>
              </a:prstGeom>
              <a:solidFill>
                <a:srgbClr val="72b969"/>
              </a:solidFill>
              <a:ln w="255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tabLst>
                    <a:tab algn="l" pos="0"/>
                    <a:tab algn="l" pos="219240"/>
                    <a:tab algn="l" pos="438120"/>
                    <a:tab algn="l" pos="657360"/>
                    <a:tab algn="l" pos="876240"/>
                    <a:tab algn="l" pos="1095480"/>
                    <a:tab algn="l" pos="1314360"/>
                    <a:tab algn="l" pos="1533600"/>
                    <a:tab algn="l" pos="1752480"/>
                    <a:tab algn="l" pos="1971720"/>
                    <a:tab algn="l" pos="2190600"/>
                    <a:tab algn="l" pos="2409840"/>
                    <a:tab algn="l" pos="2629080"/>
                    <a:tab algn="l" pos="2847960"/>
                    <a:tab algn="l" pos="3067200"/>
                    <a:tab algn="l" pos="3286080"/>
                    <a:tab algn="l" pos="3505320"/>
                    <a:tab algn="l" pos="3724200"/>
                    <a:tab algn="l" pos="3943440"/>
                    <a:tab algn="l" pos="4162320"/>
                    <a:tab algn="l" pos="438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3" name="Группа 34"/>
              <p:cNvGrpSpPr/>
              <p:nvPr/>
            </p:nvGrpSpPr>
            <p:grpSpPr>
              <a:xfrm>
                <a:off x="7779960" y="3758400"/>
                <a:ext cx="86400" cy="118080"/>
                <a:chOff x="7779960" y="3758400"/>
                <a:chExt cx="86400" cy="118080"/>
              </a:xfrm>
            </p:grpSpPr>
            <p:sp>
              <p:nvSpPr>
                <p:cNvPr id="684" name="Shape 472"/>
                <p:cNvSpPr/>
                <p:nvPr/>
              </p:nvSpPr>
              <p:spPr>
                <a:xfrm>
                  <a:off x="7779960" y="3758400"/>
                  <a:ext cx="86400" cy="116640"/>
                </a:xfrm>
                <a:prstGeom prst="rect">
                  <a:avLst/>
                </a:prstGeom>
                <a:solidFill>
                  <a:srgbClr val="a5a5a5"/>
                </a:solidFill>
                <a:ln w="25560">
                  <a:solidFill>
                    <a:srgbClr val="000000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219240"/>
                      <a:tab algn="l" pos="438120"/>
                      <a:tab algn="l" pos="657360"/>
                      <a:tab algn="l" pos="876240"/>
                      <a:tab algn="l" pos="1095480"/>
                      <a:tab algn="l" pos="1314360"/>
                      <a:tab algn="l" pos="1533600"/>
                      <a:tab algn="l" pos="1752480"/>
                      <a:tab algn="l" pos="1971720"/>
                      <a:tab algn="l" pos="2190600"/>
                      <a:tab algn="l" pos="2409840"/>
                      <a:tab algn="l" pos="2629080"/>
                      <a:tab algn="l" pos="2847960"/>
                      <a:tab algn="l" pos="3067200"/>
                      <a:tab algn="l" pos="3286080"/>
                      <a:tab algn="l" pos="3505320"/>
                      <a:tab algn="l" pos="3724200"/>
                      <a:tab algn="l" pos="3943440"/>
                      <a:tab algn="l" pos="4162320"/>
                      <a:tab algn="l" pos="43815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AutoShape 10"/>
                <p:cNvSpPr/>
                <p:nvPr/>
              </p:nvSpPr>
              <p:spPr>
                <a:xfrm>
                  <a:off x="7806600" y="3768480"/>
                  <a:ext cx="20520" cy="20880"/>
                </a:xfrm>
                <a:custGeom>
                  <a:avLst/>
                  <a:gdLst>
                    <a:gd name="textAreaLeft" fmla="*/ 0 w 20520"/>
                    <a:gd name="textAreaRight" fmla="*/ 20520 w 205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0708" y="14020"/>
                      </a:moveTo>
                      <a:cubicBezTo>
                        <a:pt x="20951" y="14020"/>
                        <a:pt x="21161" y="14125"/>
                        <a:pt x="21335" y="14334"/>
                      </a:cubicBezTo>
                      <a:cubicBezTo>
                        <a:pt x="21511" y="14548"/>
                        <a:pt x="21600" y="14810"/>
                        <a:pt x="21600" y="15115"/>
                      </a:cubicBezTo>
                      <a:lnTo>
                        <a:pt x="21600" y="20504"/>
                      </a:lnTo>
                      <a:cubicBezTo>
                        <a:pt x="21600" y="20815"/>
                        <a:pt x="21511" y="21071"/>
                        <a:pt x="21335" y="21285"/>
                      </a:cubicBezTo>
                      <a:cubicBezTo>
                        <a:pt x="21161" y="21494"/>
                        <a:pt x="20951" y="21599"/>
                        <a:pt x="20708" y="21599"/>
                      </a:cubicBezTo>
                      <a:lnTo>
                        <a:pt x="16197" y="21599"/>
                      </a:lnTo>
                      <a:cubicBezTo>
                        <a:pt x="15940" y="21599"/>
                        <a:pt x="15729" y="21494"/>
                        <a:pt x="15563" y="21285"/>
                      </a:cubicBezTo>
                      <a:cubicBezTo>
                        <a:pt x="15399" y="21071"/>
                        <a:pt x="15316" y="20815"/>
                        <a:pt x="15316" y="20504"/>
                      </a:cubicBezTo>
                      <a:lnTo>
                        <a:pt x="15316" y="15115"/>
                      </a:lnTo>
                      <a:cubicBezTo>
                        <a:pt x="15316" y="14810"/>
                        <a:pt x="15399" y="14548"/>
                        <a:pt x="15570" y="14334"/>
                      </a:cubicBezTo>
                      <a:cubicBezTo>
                        <a:pt x="15737" y="14125"/>
                        <a:pt x="15945" y="14020"/>
                        <a:pt x="16197" y="14020"/>
                      </a:cubicBezTo>
                      <a:lnTo>
                        <a:pt x="17788" y="14020"/>
                      </a:lnTo>
                      <a:lnTo>
                        <a:pt x="17788" y="11869"/>
                      </a:lnTo>
                      <a:cubicBezTo>
                        <a:pt x="17788" y="11699"/>
                        <a:pt x="17707" y="11610"/>
                        <a:pt x="17543" y="11602"/>
                      </a:cubicBezTo>
                      <a:lnTo>
                        <a:pt x="11473" y="11602"/>
                      </a:lnTo>
                      <a:lnTo>
                        <a:pt x="11473" y="14019"/>
                      </a:lnTo>
                      <a:lnTo>
                        <a:pt x="13054" y="14019"/>
                      </a:lnTo>
                      <a:cubicBezTo>
                        <a:pt x="13296" y="14019"/>
                        <a:pt x="13507" y="14125"/>
                        <a:pt x="13681" y="14334"/>
                      </a:cubicBezTo>
                      <a:cubicBezTo>
                        <a:pt x="13857" y="14548"/>
                        <a:pt x="13945" y="14810"/>
                        <a:pt x="13945" y="15115"/>
                      </a:cubicBezTo>
                      <a:lnTo>
                        <a:pt x="13945" y="20504"/>
                      </a:lnTo>
                      <a:cubicBezTo>
                        <a:pt x="13945" y="20815"/>
                        <a:pt x="13857" y="21071"/>
                        <a:pt x="13681" y="21285"/>
                      </a:cubicBezTo>
                      <a:cubicBezTo>
                        <a:pt x="13507" y="21494"/>
                        <a:pt x="13296" y="21599"/>
                        <a:pt x="13054" y="21599"/>
                      </a:cubicBezTo>
                      <a:lnTo>
                        <a:pt x="8543" y="21599"/>
                      </a:lnTo>
                      <a:cubicBezTo>
                        <a:pt x="8298" y="21599"/>
                        <a:pt x="8090" y="21494"/>
                        <a:pt x="7913" y="21285"/>
                      </a:cubicBezTo>
                      <a:cubicBezTo>
                        <a:pt x="7740" y="21071"/>
                        <a:pt x="7652" y="20815"/>
                        <a:pt x="7652" y="20504"/>
                      </a:cubicBezTo>
                      <a:lnTo>
                        <a:pt x="7652" y="15115"/>
                      </a:lnTo>
                      <a:cubicBezTo>
                        <a:pt x="7652" y="14810"/>
                        <a:pt x="7740" y="14548"/>
                        <a:pt x="7913" y="14334"/>
                      </a:cubicBezTo>
                      <a:cubicBezTo>
                        <a:pt x="8090" y="14125"/>
                        <a:pt x="8298" y="14019"/>
                        <a:pt x="8543" y="14019"/>
                      </a:cubicBezTo>
                      <a:lnTo>
                        <a:pt x="10124" y="14019"/>
                      </a:lnTo>
                      <a:lnTo>
                        <a:pt x="10124" y="11602"/>
                      </a:lnTo>
                      <a:lnTo>
                        <a:pt x="4056" y="11602"/>
                      </a:lnTo>
                      <a:cubicBezTo>
                        <a:pt x="3901" y="11602"/>
                        <a:pt x="3821" y="11690"/>
                        <a:pt x="3821" y="11869"/>
                      </a:cubicBezTo>
                      <a:lnTo>
                        <a:pt x="3821" y="14020"/>
                      </a:lnTo>
                      <a:lnTo>
                        <a:pt x="5402" y="14020"/>
                      </a:lnTo>
                      <a:cubicBezTo>
                        <a:pt x="5661" y="14020"/>
                        <a:pt x="5874" y="14125"/>
                        <a:pt x="6053" y="14334"/>
                      </a:cubicBezTo>
                      <a:cubicBezTo>
                        <a:pt x="6229" y="14548"/>
                        <a:pt x="6315" y="14810"/>
                        <a:pt x="6315" y="15115"/>
                      </a:cubicBezTo>
                      <a:lnTo>
                        <a:pt x="6315" y="20504"/>
                      </a:lnTo>
                      <a:cubicBezTo>
                        <a:pt x="6315" y="20815"/>
                        <a:pt x="6229" y="21071"/>
                        <a:pt x="6053" y="21285"/>
                      </a:cubicBezTo>
                      <a:cubicBezTo>
                        <a:pt x="5877" y="21494"/>
                        <a:pt x="5664" y="21599"/>
                        <a:pt x="5402" y="21599"/>
                      </a:cubicBezTo>
                      <a:lnTo>
                        <a:pt x="913" y="21599"/>
                      </a:lnTo>
                      <a:cubicBezTo>
                        <a:pt x="658" y="21599"/>
                        <a:pt x="440" y="21494"/>
                        <a:pt x="261" y="21285"/>
                      </a:cubicBezTo>
                      <a:cubicBezTo>
                        <a:pt x="88" y="21071"/>
                        <a:pt x="0" y="20815"/>
                        <a:pt x="0" y="20504"/>
                      </a:cubicBezTo>
                      <a:lnTo>
                        <a:pt x="0" y="15115"/>
                      </a:lnTo>
                      <a:cubicBezTo>
                        <a:pt x="0" y="14810"/>
                        <a:pt x="88" y="14548"/>
                        <a:pt x="261" y="14334"/>
                      </a:cubicBezTo>
                      <a:cubicBezTo>
                        <a:pt x="438" y="14125"/>
                        <a:pt x="656" y="14020"/>
                        <a:pt x="913" y="14020"/>
                      </a:cubicBezTo>
                      <a:lnTo>
                        <a:pt x="2472" y="14020"/>
                      </a:lnTo>
                      <a:lnTo>
                        <a:pt x="2472" y="11869"/>
                      </a:lnTo>
                      <a:cubicBezTo>
                        <a:pt x="2472" y="11352"/>
                        <a:pt x="2629" y="10911"/>
                        <a:pt x="2942" y="10544"/>
                      </a:cubicBezTo>
                      <a:cubicBezTo>
                        <a:pt x="3253" y="10180"/>
                        <a:pt x="3622" y="9997"/>
                        <a:pt x="4053" y="9997"/>
                      </a:cubicBezTo>
                      <a:lnTo>
                        <a:pt x="10121" y="9997"/>
                      </a:lnTo>
                      <a:lnTo>
                        <a:pt x="10121" y="7550"/>
                      </a:lnTo>
                      <a:lnTo>
                        <a:pt x="8540" y="7550"/>
                      </a:lnTo>
                      <a:cubicBezTo>
                        <a:pt x="8295" y="7550"/>
                        <a:pt x="8087" y="7450"/>
                        <a:pt x="7911" y="7247"/>
                      </a:cubicBezTo>
                      <a:cubicBezTo>
                        <a:pt x="7737" y="7045"/>
                        <a:pt x="7649" y="6789"/>
                        <a:pt x="7649" y="6484"/>
                      </a:cubicBezTo>
                      <a:lnTo>
                        <a:pt x="7649" y="1066"/>
                      </a:lnTo>
                      <a:cubicBezTo>
                        <a:pt x="7649" y="775"/>
                        <a:pt x="7737" y="522"/>
                        <a:pt x="7911" y="314"/>
                      </a:cubicBezTo>
                      <a:cubicBezTo>
                        <a:pt x="8087" y="102"/>
                        <a:pt x="8295" y="0"/>
                        <a:pt x="8540" y="0"/>
                      </a:cubicBezTo>
                      <a:lnTo>
                        <a:pt x="13052" y="0"/>
                      </a:lnTo>
                      <a:cubicBezTo>
                        <a:pt x="13294" y="0"/>
                        <a:pt x="13504" y="102"/>
                        <a:pt x="13678" y="314"/>
                      </a:cubicBezTo>
                      <a:cubicBezTo>
                        <a:pt x="13854" y="522"/>
                        <a:pt x="13943" y="775"/>
                        <a:pt x="13943" y="1066"/>
                      </a:cubicBezTo>
                      <a:lnTo>
                        <a:pt x="13943" y="6484"/>
                      </a:lnTo>
                      <a:cubicBezTo>
                        <a:pt x="13943" y="6789"/>
                        <a:pt x="13854" y="7045"/>
                        <a:pt x="13678" y="7247"/>
                      </a:cubicBezTo>
                      <a:cubicBezTo>
                        <a:pt x="13504" y="7450"/>
                        <a:pt x="13294" y="7550"/>
                        <a:pt x="13052" y="7550"/>
                      </a:cubicBezTo>
                      <a:lnTo>
                        <a:pt x="11470" y="7550"/>
                      </a:lnTo>
                      <a:lnTo>
                        <a:pt x="11470" y="9997"/>
                      </a:lnTo>
                      <a:lnTo>
                        <a:pt x="17541" y="9997"/>
                      </a:lnTo>
                      <a:cubicBezTo>
                        <a:pt x="17969" y="9997"/>
                        <a:pt x="18339" y="10177"/>
                        <a:pt x="18652" y="10538"/>
                      </a:cubicBezTo>
                      <a:cubicBezTo>
                        <a:pt x="18966" y="10899"/>
                        <a:pt x="19122" y="11343"/>
                        <a:pt x="19122" y="11869"/>
                      </a:cubicBezTo>
                      <a:lnTo>
                        <a:pt x="19122" y="14020"/>
                      </a:lnTo>
                      <a:lnTo>
                        <a:pt x="20708" y="140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Shape 473"/>
                <p:cNvSpPr/>
                <p:nvPr/>
              </p:nvSpPr>
              <p:spPr>
                <a:xfrm>
                  <a:off x="7781760" y="3792960"/>
                  <a:ext cx="8100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5560" rIns="25560" tIns="25560" bIns="2556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Группа 35"/>
              <p:cNvGrpSpPr/>
              <p:nvPr/>
            </p:nvGrpSpPr>
            <p:grpSpPr>
              <a:xfrm>
                <a:off x="7773120" y="3890880"/>
                <a:ext cx="101520" cy="109440"/>
                <a:chOff x="7773120" y="3890880"/>
                <a:chExt cx="101520" cy="109440"/>
              </a:xfrm>
            </p:grpSpPr>
            <p:grpSp>
              <p:nvGrpSpPr>
                <p:cNvPr id="688" name="Group 479"/>
                <p:cNvGrpSpPr/>
                <p:nvPr/>
              </p:nvGrpSpPr>
              <p:grpSpPr>
                <a:xfrm>
                  <a:off x="7773120" y="3890880"/>
                  <a:ext cx="101520" cy="109440"/>
                  <a:chOff x="7773120" y="3890880"/>
                  <a:chExt cx="101520" cy="109440"/>
                </a:xfrm>
              </p:grpSpPr>
              <p:sp>
                <p:nvSpPr>
                  <p:cNvPr id="689" name="Shape 472"/>
                  <p:cNvSpPr/>
                  <p:nvPr/>
                </p:nvSpPr>
                <p:spPr>
                  <a:xfrm>
                    <a:off x="7781040" y="3890880"/>
                    <a:ext cx="85680" cy="109440"/>
                  </a:xfrm>
                  <a:prstGeom prst="rect">
                    <a:avLst/>
                  </a:prstGeom>
                  <a:solidFill>
                    <a:srgbClr val="a5a5a5"/>
                  </a:solidFill>
                  <a:ln w="25560">
                    <a:solidFill>
                      <a:srgbClr val="000000">
                        <a:alpha val="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>
                      <a:tabLst>
                        <a:tab algn="l" pos="0"/>
                        <a:tab algn="l" pos="219240"/>
                        <a:tab algn="l" pos="438120"/>
                        <a:tab algn="l" pos="657360"/>
                        <a:tab algn="l" pos="876240"/>
                        <a:tab algn="l" pos="1095480"/>
                        <a:tab algn="l" pos="1314360"/>
                        <a:tab algn="l" pos="1533600"/>
                        <a:tab algn="l" pos="1752480"/>
                        <a:tab algn="l" pos="1971720"/>
                        <a:tab algn="l" pos="2190600"/>
                        <a:tab algn="l" pos="2409840"/>
                        <a:tab algn="l" pos="2629080"/>
                        <a:tab algn="l" pos="2847960"/>
                        <a:tab algn="l" pos="3067200"/>
                        <a:tab algn="l" pos="3286080"/>
                        <a:tab algn="l" pos="3505320"/>
                        <a:tab algn="l" pos="3724200"/>
                        <a:tab algn="l" pos="3943440"/>
                        <a:tab algn="l" pos="4162320"/>
                        <a:tab algn="l" pos="438156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Shape 473"/>
                  <p:cNvSpPr/>
                  <p:nvPr/>
                </p:nvSpPr>
                <p:spPr>
                  <a:xfrm>
                    <a:off x="7773120" y="3912840"/>
                    <a:ext cx="101520" cy="7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25560" rIns="25560" tIns="25560" bIns="25560" anchor="ctr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" name="Shape 470"/>
                <p:cNvSpPr/>
                <p:nvPr/>
              </p:nvSpPr>
              <p:spPr>
                <a:xfrm>
                  <a:off x="7813080" y="3890880"/>
                  <a:ext cx="20520" cy="23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0263" y="0"/>
                      </a:moveTo>
                      <a:cubicBezTo>
                        <a:pt x="20631" y="0"/>
                        <a:pt x="20946" y="159"/>
                        <a:pt x="21208" y="476"/>
                      </a:cubicBezTo>
                      <a:cubicBezTo>
                        <a:pt x="21470" y="796"/>
                        <a:pt x="21600" y="1175"/>
                        <a:pt x="21600" y="1616"/>
                      </a:cubicBezTo>
                      <a:lnTo>
                        <a:pt x="21600" y="19984"/>
                      </a:lnTo>
                      <a:cubicBezTo>
                        <a:pt x="21600" y="20419"/>
                        <a:pt x="21470" y="20804"/>
                        <a:pt x="21208" y="21121"/>
                      </a:cubicBezTo>
                      <a:cubicBezTo>
                        <a:pt x="20946" y="21441"/>
                        <a:pt x="20631" y="21600"/>
                        <a:pt x="20263" y="21600"/>
                      </a:cubicBezTo>
                      <a:lnTo>
                        <a:pt x="1371" y="21600"/>
                      </a:lnTo>
                      <a:cubicBezTo>
                        <a:pt x="1004" y="21600"/>
                        <a:pt x="683" y="21441"/>
                        <a:pt x="411" y="21121"/>
                      </a:cubicBezTo>
                      <a:cubicBezTo>
                        <a:pt x="137" y="20804"/>
                        <a:pt x="0" y="20422"/>
                        <a:pt x="0" y="19984"/>
                      </a:cubicBezTo>
                      <a:lnTo>
                        <a:pt x="0" y="1616"/>
                      </a:lnTo>
                      <a:cubicBezTo>
                        <a:pt x="0" y="1175"/>
                        <a:pt x="137" y="796"/>
                        <a:pt x="411" y="476"/>
                      </a:cubicBezTo>
                      <a:cubicBezTo>
                        <a:pt x="683" y="159"/>
                        <a:pt x="1004" y="0"/>
                        <a:pt x="1371" y="0"/>
                      </a:cubicBezTo>
                      <a:lnTo>
                        <a:pt x="20263" y="0"/>
                      </a:lnTo>
                      <a:close/>
                      <a:moveTo>
                        <a:pt x="19806" y="2162"/>
                      </a:moveTo>
                      <a:lnTo>
                        <a:pt x="1804" y="2162"/>
                      </a:lnTo>
                      <a:lnTo>
                        <a:pt x="1804" y="19432"/>
                      </a:lnTo>
                      <a:lnTo>
                        <a:pt x="19806" y="19432"/>
                      </a:lnTo>
                      <a:lnTo>
                        <a:pt x="19806" y="2162"/>
                      </a:lnTo>
                      <a:close/>
                      <a:moveTo>
                        <a:pt x="5978" y="17887"/>
                      </a:moveTo>
                      <a:lnTo>
                        <a:pt x="3599" y="17887"/>
                      </a:lnTo>
                      <a:lnTo>
                        <a:pt x="3599" y="12784"/>
                      </a:lnTo>
                      <a:lnTo>
                        <a:pt x="5978" y="12784"/>
                      </a:lnTo>
                      <a:lnTo>
                        <a:pt x="5978" y="17887"/>
                      </a:lnTo>
                      <a:close/>
                      <a:moveTo>
                        <a:pt x="9962" y="17887"/>
                      </a:moveTo>
                      <a:lnTo>
                        <a:pt x="7606" y="17887"/>
                      </a:lnTo>
                      <a:lnTo>
                        <a:pt x="7606" y="6974"/>
                      </a:lnTo>
                      <a:lnTo>
                        <a:pt x="9962" y="6974"/>
                      </a:lnTo>
                      <a:lnTo>
                        <a:pt x="9962" y="17887"/>
                      </a:lnTo>
                      <a:close/>
                      <a:moveTo>
                        <a:pt x="14018" y="17887"/>
                      </a:moveTo>
                      <a:lnTo>
                        <a:pt x="11638" y="17887"/>
                      </a:lnTo>
                      <a:lnTo>
                        <a:pt x="11638" y="9562"/>
                      </a:lnTo>
                      <a:lnTo>
                        <a:pt x="14018" y="9562"/>
                      </a:lnTo>
                      <a:lnTo>
                        <a:pt x="14018" y="17887"/>
                      </a:lnTo>
                      <a:close/>
                      <a:moveTo>
                        <a:pt x="18001" y="17887"/>
                      </a:moveTo>
                      <a:lnTo>
                        <a:pt x="15622" y="17887"/>
                      </a:lnTo>
                      <a:lnTo>
                        <a:pt x="15622" y="4920"/>
                      </a:lnTo>
                      <a:lnTo>
                        <a:pt x="18001" y="4920"/>
                      </a:lnTo>
                      <a:lnTo>
                        <a:pt x="18001" y="178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2" name="Group 466" descr=""/>
              <p:cNvPicPr/>
              <p:nvPr/>
            </p:nvPicPr>
            <p:blipFill>
              <a:blip r:embed="rId15"/>
              <a:stretch/>
            </p:blipFill>
            <p:spPr>
              <a:xfrm>
                <a:off x="7294680" y="3681720"/>
                <a:ext cx="67644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Shape 472"/>
              <p:cNvSpPr/>
              <p:nvPr/>
            </p:nvSpPr>
            <p:spPr>
              <a:xfrm>
                <a:off x="7309800" y="3757320"/>
                <a:ext cx="68040" cy="243000"/>
              </a:xfrm>
              <a:prstGeom prst="rect">
                <a:avLst/>
              </a:prstGeom>
              <a:solidFill>
                <a:srgbClr val="807898"/>
              </a:solidFill>
              <a:ln w="255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tabLst>
                    <a:tab algn="l" pos="0"/>
                    <a:tab algn="l" pos="219240"/>
                    <a:tab algn="l" pos="438120"/>
                    <a:tab algn="l" pos="657360"/>
                    <a:tab algn="l" pos="876240"/>
                    <a:tab algn="l" pos="1095480"/>
                    <a:tab algn="l" pos="1314360"/>
                    <a:tab algn="l" pos="1533600"/>
                    <a:tab algn="l" pos="1752480"/>
                    <a:tab algn="l" pos="1971720"/>
                    <a:tab algn="l" pos="2190600"/>
                    <a:tab algn="l" pos="2409840"/>
                    <a:tab algn="l" pos="2629080"/>
                    <a:tab algn="l" pos="2847960"/>
                    <a:tab algn="l" pos="3067200"/>
                    <a:tab algn="l" pos="3286080"/>
                    <a:tab algn="l" pos="3505320"/>
                    <a:tab algn="l" pos="3724200"/>
                    <a:tab algn="l" pos="3943440"/>
                    <a:tab algn="l" pos="4162320"/>
                    <a:tab algn="l" pos="438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Shape 473"/>
              <p:cNvSpPr/>
              <p:nvPr/>
            </p:nvSpPr>
            <p:spPr>
              <a:xfrm>
                <a:off x="7300440" y="3873600"/>
                <a:ext cx="856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5" name="Group 66" descr=""/>
              <p:cNvPicPr/>
              <p:nvPr/>
            </p:nvPicPr>
            <p:blipFill>
              <a:blip r:embed="rId16"/>
              <a:stretch/>
            </p:blipFill>
            <p:spPr>
              <a:xfrm>
                <a:off x="7331400" y="3834360"/>
                <a:ext cx="24120" cy="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Shape 473"/>
              <p:cNvSpPr/>
              <p:nvPr/>
            </p:nvSpPr>
            <p:spPr>
              <a:xfrm>
                <a:off x="7494120" y="3963960"/>
                <a:ext cx="129960" cy="1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" spc="-1" strike="noStrike">
                    <a:solidFill>
                      <a:srgbClr val="ffffff"/>
                    </a:solidFill>
                    <a:latin typeface="Arial"/>
                    <a:ea typeface="Open Sans Condensed Light"/>
                  </a:rPr>
                  <a:t>Подсистема метрологии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4"/>
              <p:cNvSpPr/>
              <p:nvPr/>
            </p:nvSpPr>
            <p:spPr>
              <a:xfrm>
                <a:off x="7465320" y="3768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428" y="17466"/>
                    </a:moveTo>
                    <a:cubicBezTo>
                      <a:pt x="16669" y="16923"/>
                      <a:pt x="15846" y="16465"/>
                      <a:pt x="14963" y="16121"/>
                    </a:cubicBezTo>
                    <a:cubicBezTo>
                      <a:pt x="15595" y="14609"/>
                      <a:pt x="15967" y="12928"/>
                      <a:pt x="16010" y="11148"/>
                    </a:cubicBezTo>
                    <a:lnTo>
                      <a:pt x="20188" y="11148"/>
                    </a:lnTo>
                    <a:cubicBezTo>
                      <a:pt x="20097" y="13612"/>
                      <a:pt x="19065" y="15838"/>
                      <a:pt x="17428" y="17466"/>
                    </a:cubicBezTo>
                    <a:moveTo>
                      <a:pt x="1411" y="11148"/>
                    </a:moveTo>
                    <a:lnTo>
                      <a:pt x="5589" y="11148"/>
                    </a:lnTo>
                    <a:cubicBezTo>
                      <a:pt x="5632" y="12928"/>
                      <a:pt x="6004" y="14609"/>
                      <a:pt x="6636" y="16121"/>
                    </a:cubicBezTo>
                    <a:cubicBezTo>
                      <a:pt x="5753" y="16465"/>
                      <a:pt x="4931" y="16923"/>
                      <a:pt x="4171" y="17466"/>
                    </a:cubicBezTo>
                    <a:cubicBezTo>
                      <a:pt x="2534" y="15838"/>
                      <a:pt x="1502" y="13612"/>
                      <a:pt x="1411" y="11148"/>
                    </a:cubicBezTo>
                    <a:moveTo>
                      <a:pt x="3785" y="4553"/>
                    </a:moveTo>
                    <a:cubicBezTo>
                      <a:pt x="4579" y="5170"/>
                      <a:pt x="5448" y="5691"/>
                      <a:pt x="6388" y="6084"/>
                    </a:cubicBezTo>
                    <a:cubicBezTo>
                      <a:pt x="5901" y="7433"/>
                      <a:pt x="5627" y="8908"/>
                      <a:pt x="5589" y="10451"/>
                    </a:cubicBezTo>
                    <a:lnTo>
                      <a:pt x="1411" y="10451"/>
                    </a:lnTo>
                    <a:cubicBezTo>
                      <a:pt x="1494" y="8190"/>
                      <a:pt x="2376" y="6135"/>
                      <a:pt x="3785" y="4553"/>
                    </a:cubicBezTo>
                    <a:moveTo>
                      <a:pt x="11148" y="10451"/>
                    </a:moveTo>
                    <a:lnTo>
                      <a:pt x="11148" y="6950"/>
                    </a:lnTo>
                    <a:cubicBezTo>
                      <a:pt x="12339" y="6913"/>
                      <a:pt x="13484" y="6696"/>
                      <a:pt x="14558" y="6324"/>
                    </a:cubicBezTo>
                    <a:cubicBezTo>
                      <a:pt x="15018" y="7598"/>
                      <a:pt x="15276" y="8992"/>
                      <a:pt x="15314" y="10451"/>
                    </a:cubicBezTo>
                    <a:cubicBezTo>
                      <a:pt x="15314" y="10451"/>
                      <a:pt x="11148" y="10451"/>
                      <a:pt x="11148" y="10451"/>
                    </a:cubicBezTo>
                    <a:close/>
                    <a:moveTo>
                      <a:pt x="14311" y="15882"/>
                    </a:moveTo>
                    <a:cubicBezTo>
                      <a:pt x="13309" y="15559"/>
                      <a:pt x="12247" y="15380"/>
                      <a:pt x="11148" y="15346"/>
                    </a:cubicBezTo>
                    <a:lnTo>
                      <a:pt x="11148" y="11148"/>
                    </a:lnTo>
                    <a:lnTo>
                      <a:pt x="15314" y="11148"/>
                    </a:lnTo>
                    <a:cubicBezTo>
                      <a:pt x="15270" y="12844"/>
                      <a:pt x="14914" y="14445"/>
                      <a:pt x="14311" y="15882"/>
                    </a:cubicBezTo>
                    <a:moveTo>
                      <a:pt x="14683" y="16757"/>
                    </a:moveTo>
                    <a:cubicBezTo>
                      <a:pt x="15476" y="17063"/>
                      <a:pt x="16218" y="17466"/>
                      <a:pt x="16904" y="17941"/>
                    </a:cubicBezTo>
                    <a:cubicBezTo>
                      <a:pt x="15632" y="19031"/>
                      <a:pt x="14067" y="19781"/>
                      <a:pt x="12344" y="20068"/>
                    </a:cubicBezTo>
                    <a:cubicBezTo>
                      <a:pt x="13280" y="19136"/>
                      <a:pt x="14076" y="18017"/>
                      <a:pt x="14683" y="16757"/>
                    </a:cubicBezTo>
                    <a:moveTo>
                      <a:pt x="11148" y="20188"/>
                    </a:moveTo>
                    <a:lnTo>
                      <a:pt x="11148" y="16043"/>
                    </a:lnTo>
                    <a:cubicBezTo>
                      <a:pt x="12146" y="16075"/>
                      <a:pt x="13113" y="16231"/>
                      <a:pt x="14025" y="16516"/>
                    </a:cubicBezTo>
                    <a:cubicBezTo>
                      <a:pt x="13314" y="17970"/>
                      <a:pt x="12343" y="19223"/>
                      <a:pt x="11185" y="20186"/>
                    </a:cubicBezTo>
                    <a:cubicBezTo>
                      <a:pt x="11185" y="20186"/>
                      <a:pt x="11148" y="20188"/>
                      <a:pt x="11148" y="20188"/>
                    </a:cubicBezTo>
                    <a:close/>
                    <a:moveTo>
                      <a:pt x="9255" y="20068"/>
                    </a:moveTo>
                    <a:cubicBezTo>
                      <a:pt x="7532" y="19781"/>
                      <a:pt x="5967" y="19031"/>
                      <a:pt x="4695" y="17941"/>
                    </a:cubicBezTo>
                    <a:cubicBezTo>
                      <a:pt x="5381" y="17466"/>
                      <a:pt x="6123" y="17063"/>
                      <a:pt x="6916" y="16757"/>
                    </a:cubicBezTo>
                    <a:cubicBezTo>
                      <a:pt x="7523" y="18017"/>
                      <a:pt x="8319" y="19136"/>
                      <a:pt x="9255" y="20068"/>
                    </a:cubicBezTo>
                    <a:moveTo>
                      <a:pt x="10451" y="11148"/>
                    </a:moveTo>
                    <a:lnTo>
                      <a:pt x="10451" y="15346"/>
                    </a:lnTo>
                    <a:cubicBezTo>
                      <a:pt x="9352" y="15380"/>
                      <a:pt x="8290" y="15559"/>
                      <a:pt x="7288" y="15882"/>
                    </a:cubicBezTo>
                    <a:cubicBezTo>
                      <a:pt x="6685" y="14445"/>
                      <a:pt x="6329" y="12844"/>
                      <a:pt x="6285" y="11148"/>
                    </a:cubicBezTo>
                    <a:cubicBezTo>
                      <a:pt x="6285" y="11148"/>
                      <a:pt x="10451" y="11148"/>
                      <a:pt x="10451" y="11148"/>
                    </a:cubicBezTo>
                    <a:close/>
                    <a:moveTo>
                      <a:pt x="7041" y="6324"/>
                    </a:moveTo>
                    <a:cubicBezTo>
                      <a:pt x="8115" y="6696"/>
                      <a:pt x="9260" y="6913"/>
                      <a:pt x="10451" y="6950"/>
                    </a:cubicBezTo>
                    <a:lnTo>
                      <a:pt x="10451" y="10451"/>
                    </a:lnTo>
                    <a:lnTo>
                      <a:pt x="6285" y="10451"/>
                    </a:lnTo>
                    <a:cubicBezTo>
                      <a:pt x="6324" y="8992"/>
                      <a:pt x="6581" y="7598"/>
                      <a:pt x="7041" y="6324"/>
                    </a:cubicBezTo>
                    <a:moveTo>
                      <a:pt x="6651" y="5442"/>
                    </a:moveTo>
                    <a:cubicBezTo>
                      <a:pt x="5790" y="5084"/>
                      <a:pt x="4993" y="4609"/>
                      <a:pt x="4263" y="4050"/>
                    </a:cubicBezTo>
                    <a:cubicBezTo>
                      <a:pt x="5606" y="2749"/>
                      <a:pt x="7332" y="1851"/>
                      <a:pt x="9255" y="1531"/>
                    </a:cubicBezTo>
                    <a:cubicBezTo>
                      <a:pt x="8175" y="2610"/>
                      <a:pt x="7286" y="3939"/>
                      <a:pt x="6651" y="5442"/>
                    </a:cubicBezTo>
                    <a:moveTo>
                      <a:pt x="10451" y="1411"/>
                    </a:moveTo>
                    <a:lnTo>
                      <a:pt x="10451" y="6253"/>
                    </a:lnTo>
                    <a:cubicBezTo>
                      <a:pt x="9352" y="6217"/>
                      <a:pt x="8296" y="6021"/>
                      <a:pt x="7303" y="5681"/>
                    </a:cubicBezTo>
                    <a:cubicBezTo>
                      <a:pt x="8029" y="3972"/>
                      <a:pt x="9101" y="2507"/>
                      <a:pt x="10415" y="1413"/>
                    </a:cubicBezTo>
                    <a:cubicBezTo>
                      <a:pt x="10427" y="1412"/>
                      <a:pt x="10439" y="1411"/>
                      <a:pt x="10451" y="1411"/>
                    </a:cubicBezTo>
                    <a:moveTo>
                      <a:pt x="12344" y="1531"/>
                    </a:moveTo>
                    <a:cubicBezTo>
                      <a:pt x="14267" y="1851"/>
                      <a:pt x="15993" y="2749"/>
                      <a:pt x="17336" y="4050"/>
                    </a:cubicBezTo>
                    <a:cubicBezTo>
                      <a:pt x="16606" y="4609"/>
                      <a:pt x="15809" y="5084"/>
                      <a:pt x="14948" y="5442"/>
                    </a:cubicBezTo>
                    <a:cubicBezTo>
                      <a:pt x="14313" y="3939"/>
                      <a:pt x="13424" y="2610"/>
                      <a:pt x="12344" y="1531"/>
                    </a:cubicBezTo>
                    <a:moveTo>
                      <a:pt x="11184" y="1413"/>
                    </a:moveTo>
                    <a:cubicBezTo>
                      <a:pt x="12498" y="2507"/>
                      <a:pt x="13570" y="3972"/>
                      <a:pt x="14296" y="5681"/>
                    </a:cubicBezTo>
                    <a:cubicBezTo>
                      <a:pt x="13303" y="6021"/>
                      <a:pt x="12247" y="6217"/>
                      <a:pt x="11148" y="6253"/>
                    </a:cubicBezTo>
                    <a:lnTo>
                      <a:pt x="11148" y="1411"/>
                    </a:lnTo>
                    <a:cubicBezTo>
                      <a:pt x="11160" y="1411"/>
                      <a:pt x="11172" y="1412"/>
                      <a:pt x="11184" y="1413"/>
                    </a:cubicBezTo>
                    <a:moveTo>
                      <a:pt x="10414" y="20186"/>
                    </a:moveTo>
                    <a:cubicBezTo>
                      <a:pt x="9256" y="19223"/>
                      <a:pt x="8285" y="17970"/>
                      <a:pt x="7574" y="16516"/>
                    </a:cubicBezTo>
                    <a:cubicBezTo>
                      <a:pt x="8486" y="16231"/>
                      <a:pt x="9453" y="16075"/>
                      <a:pt x="10451" y="16043"/>
                    </a:cubicBezTo>
                    <a:lnTo>
                      <a:pt x="10451" y="20188"/>
                    </a:lnTo>
                    <a:cubicBezTo>
                      <a:pt x="10451" y="20188"/>
                      <a:pt x="10414" y="20186"/>
                      <a:pt x="10414" y="20186"/>
                    </a:cubicBezTo>
                    <a:close/>
                    <a:moveTo>
                      <a:pt x="20188" y="10451"/>
                    </a:moveTo>
                    <a:lnTo>
                      <a:pt x="16010" y="10451"/>
                    </a:lnTo>
                    <a:cubicBezTo>
                      <a:pt x="15972" y="8908"/>
                      <a:pt x="15698" y="7433"/>
                      <a:pt x="15211" y="6084"/>
                    </a:cubicBezTo>
                    <a:cubicBezTo>
                      <a:pt x="16151" y="5691"/>
                      <a:pt x="17020" y="5170"/>
                      <a:pt x="17814" y="4553"/>
                    </a:cubicBezTo>
                    <a:cubicBezTo>
                      <a:pt x="19223" y="6135"/>
                      <a:pt x="20105" y="8190"/>
                      <a:pt x="20188" y="10451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4" y="21600"/>
                      <a:pt x="21600" y="16764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8" name="Group 53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65320" y="3956400"/>
                <a:ext cx="24120" cy="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AutoShape 12"/>
              <p:cNvSpPr/>
              <p:nvPr/>
            </p:nvSpPr>
            <p:spPr>
              <a:xfrm>
                <a:off x="7464960" y="3835440"/>
                <a:ext cx="23760" cy="248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767" y="5419"/>
                    </a:moveTo>
                    <a:cubicBezTo>
                      <a:pt x="4051" y="5419"/>
                      <a:pt x="4271" y="5505"/>
                      <a:pt x="4427" y="5687"/>
                    </a:cubicBezTo>
                    <a:cubicBezTo>
                      <a:pt x="4586" y="5865"/>
                      <a:pt x="4701" y="6078"/>
                      <a:pt x="4766" y="6326"/>
                    </a:cubicBezTo>
                    <a:cubicBezTo>
                      <a:pt x="4835" y="6574"/>
                      <a:pt x="4879" y="6836"/>
                      <a:pt x="4893" y="7106"/>
                    </a:cubicBezTo>
                    <a:cubicBezTo>
                      <a:pt x="4910" y="7377"/>
                      <a:pt x="4917" y="7596"/>
                      <a:pt x="4917" y="7760"/>
                    </a:cubicBezTo>
                    <a:lnTo>
                      <a:pt x="4917" y="9856"/>
                    </a:lnTo>
                    <a:cubicBezTo>
                      <a:pt x="4809" y="9928"/>
                      <a:pt x="4720" y="10015"/>
                      <a:pt x="4646" y="10110"/>
                    </a:cubicBezTo>
                    <a:cubicBezTo>
                      <a:pt x="4574" y="10208"/>
                      <a:pt x="4468" y="10257"/>
                      <a:pt x="4329" y="10257"/>
                    </a:cubicBezTo>
                    <a:lnTo>
                      <a:pt x="561" y="10257"/>
                    </a:lnTo>
                    <a:cubicBezTo>
                      <a:pt x="439" y="10257"/>
                      <a:pt x="338" y="10208"/>
                      <a:pt x="256" y="10110"/>
                    </a:cubicBezTo>
                    <a:cubicBezTo>
                      <a:pt x="177" y="10015"/>
                      <a:pt x="93" y="9928"/>
                      <a:pt x="0" y="9856"/>
                    </a:cubicBezTo>
                    <a:lnTo>
                      <a:pt x="0" y="7760"/>
                    </a:lnTo>
                    <a:cubicBezTo>
                      <a:pt x="0" y="7596"/>
                      <a:pt x="4" y="7377"/>
                      <a:pt x="12" y="7106"/>
                    </a:cubicBezTo>
                    <a:cubicBezTo>
                      <a:pt x="19" y="6836"/>
                      <a:pt x="57" y="6574"/>
                      <a:pt x="124" y="6326"/>
                    </a:cubicBezTo>
                    <a:cubicBezTo>
                      <a:pt x="196" y="6078"/>
                      <a:pt x="309" y="5865"/>
                      <a:pt x="465" y="5687"/>
                    </a:cubicBezTo>
                    <a:cubicBezTo>
                      <a:pt x="624" y="5508"/>
                      <a:pt x="842" y="5419"/>
                      <a:pt x="1123" y="5419"/>
                    </a:cubicBezTo>
                    <a:cubicBezTo>
                      <a:pt x="782" y="5151"/>
                      <a:pt x="508" y="4803"/>
                      <a:pt x="304" y="4377"/>
                    </a:cubicBezTo>
                    <a:cubicBezTo>
                      <a:pt x="103" y="3950"/>
                      <a:pt x="0" y="3469"/>
                      <a:pt x="0" y="2937"/>
                    </a:cubicBezTo>
                    <a:cubicBezTo>
                      <a:pt x="0" y="2539"/>
                      <a:pt x="64" y="2162"/>
                      <a:pt x="189" y="1805"/>
                    </a:cubicBezTo>
                    <a:cubicBezTo>
                      <a:pt x="316" y="1448"/>
                      <a:pt x="491" y="1134"/>
                      <a:pt x="717" y="861"/>
                    </a:cubicBezTo>
                    <a:cubicBezTo>
                      <a:pt x="943" y="590"/>
                      <a:pt x="1207" y="380"/>
                      <a:pt x="1504" y="227"/>
                    </a:cubicBezTo>
                    <a:cubicBezTo>
                      <a:pt x="1804" y="77"/>
                      <a:pt x="2119" y="0"/>
                      <a:pt x="2445" y="0"/>
                    </a:cubicBezTo>
                    <a:cubicBezTo>
                      <a:pt x="2793" y="0"/>
                      <a:pt x="3115" y="77"/>
                      <a:pt x="3412" y="227"/>
                    </a:cubicBezTo>
                    <a:cubicBezTo>
                      <a:pt x="3712" y="380"/>
                      <a:pt x="3969" y="590"/>
                      <a:pt x="4188" y="861"/>
                    </a:cubicBezTo>
                    <a:cubicBezTo>
                      <a:pt x="4406" y="1134"/>
                      <a:pt x="4584" y="1448"/>
                      <a:pt x="4716" y="1805"/>
                    </a:cubicBezTo>
                    <a:cubicBezTo>
                      <a:pt x="4850" y="2162"/>
                      <a:pt x="4917" y="2539"/>
                      <a:pt x="4917" y="2937"/>
                    </a:cubicBezTo>
                    <a:cubicBezTo>
                      <a:pt x="4917" y="3458"/>
                      <a:pt x="4814" y="3939"/>
                      <a:pt x="4603" y="4371"/>
                    </a:cubicBezTo>
                    <a:cubicBezTo>
                      <a:pt x="4391" y="4800"/>
                      <a:pt x="4115" y="5151"/>
                      <a:pt x="3767" y="5419"/>
                    </a:cubicBezTo>
                    <a:moveTo>
                      <a:pt x="18165" y="12062"/>
                    </a:moveTo>
                    <a:cubicBezTo>
                      <a:pt x="18672" y="12604"/>
                      <a:pt x="19070" y="13142"/>
                      <a:pt x="19356" y="13669"/>
                    </a:cubicBezTo>
                    <a:cubicBezTo>
                      <a:pt x="19641" y="14196"/>
                      <a:pt x="19788" y="14801"/>
                      <a:pt x="19788" y="15480"/>
                    </a:cubicBezTo>
                    <a:lnTo>
                      <a:pt x="19788" y="20816"/>
                    </a:lnTo>
                    <a:cubicBezTo>
                      <a:pt x="19694" y="20868"/>
                      <a:pt x="19620" y="20931"/>
                      <a:pt x="19557" y="20995"/>
                    </a:cubicBezTo>
                    <a:cubicBezTo>
                      <a:pt x="19497" y="21061"/>
                      <a:pt x="19425" y="21122"/>
                      <a:pt x="19344" y="21191"/>
                    </a:cubicBezTo>
                    <a:cubicBezTo>
                      <a:pt x="19262" y="21251"/>
                      <a:pt x="19173" y="21317"/>
                      <a:pt x="19075" y="21386"/>
                    </a:cubicBezTo>
                    <a:cubicBezTo>
                      <a:pt x="18976" y="21455"/>
                      <a:pt x="18835" y="21528"/>
                      <a:pt x="18662" y="21600"/>
                    </a:cubicBezTo>
                    <a:lnTo>
                      <a:pt x="2942" y="21600"/>
                    </a:lnTo>
                    <a:cubicBezTo>
                      <a:pt x="2675" y="21600"/>
                      <a:pt x="2467" y="21499"/>
                      <a:pt x="2318" y="21291"/>
                    </a:cubicBezTo>
                    <a:cubicBezTo>
                      <a:pt x="2167" y="21081"/>
                      <a:pt x="2003" y="20926"/>
                      <a:pt x="1819" y="20816"/>
                    </a:cubicBezTo>
                    <a:lnTo>
                      <a:pt x="1819" y="15480"/>
                    </a:lnTo>
                    <a:cubicBezTo>
                      <a:pt x="1819" y="14763"/>
                      <a:pt x="1989" y="14127"/>
                      <a:pt x="2335" y="13571"/>
                    </a:cubicBezTo>
                    <a:cubicBezTo>
                      <a:pt x="2678" y="13018"/>
                      <a:pt x="3052" y="12511"/>
                      <a:pt x="3460" y="12062"/>
                    </a:cubicBezTo>
                    <a:cubicBezTo>
                      <a:pt x="3535" y="11970"/>
                      <a:pt x="3633" y="11869"/>
                      <a:pt x="3753" y="11766"/>
                    </a:cubicBezTo>
                    <a:cubicBezTo>
                      <a:pt x="3873" y="11659"/>
                      <a:pt x="4000" y="11590"/>
                      <a:pt x="4137" y="11553"/>
                    </a:cubicBezTo>
                    <a:cubicBezTo>
                      <a:pt x="4276" y="11495"/>
                      <a:pt x="4432" y="11466"/>
                      <a:pt x="4610" y="11455"/>
                    </a:cubicBezTo>
                    <a:cubicBezTo>
                      <a:pt x="4785" y="11446"/>
                      <a:pt x="4956" y="11423"/>
                      <a:pt x="5126" y="11388"/>
                    </a:cubicBezTo>
                    <a:cubicBezTo>
                      <a:pt x="5594" y="11299"/>
                      <a:pt x="6091" y="11210"/>
                      <a:pt x="6621" y="11121"/>
                    </a:cubicBezTo>
                    <a:cubicBezTo>
                      <a:pt x="7149" y="11034"/>
                      <a:pt x="7665" y="10945"/>
                      <a:pt x="8172" y="10853"/>
                    </a:cubicBezTo>
                    <a:cubicBezTo>
                      <a:pt x="7483" y="10326"/>
                      <a:pt x="6928" y="9632"/>
                      <a:pt x="6513" y="8762"/>
                    </a:cubicBezTo>
                    <a:cubicBezTo>
                      <a:pt x="6093" y="7896"/>
                      <a:pt x="5884" y="6940"/>
                      <a:pt x="5884" y="5903"/>
                    </a:cubicBezTo>
                    <a:cubicBezTo>
                      <a:pt x="5884" y="5097"/>
                      <a:pt x="6016" y="4331"/>
                      <a:pt x="6275" y="3608"/>
                    </a:cubicBezTo>
                    <a:cubicBezTo>
                      <a:pt x="6535" y="2885"/>
                      <a:pt x="6887" y="2260"/>
                      <a:pt x="7331" y="1733"/>
                    </a:cubicBezTo>
                    <a:cubicBezTo>
                      <a:pt x="7778" y="1203"/>
                      <a:pt x="8299" y="786"/>
                      <a:pt x="8894" y="472"/>
                    </a:cubicBezTo>
                    <a:cubicBezTo>
                      <a:pt x="9494" y="158"/>
                      <a:pt x="10125" y="3"/>
                      <a:pt x="10802" y="3"/>
                    </a:cubicBezTo>
                    <a:cubicBezTo>
                      <a:pt x="11476" y="3"/>
                      <a:pt x="12112" y="158"/>
                      <a:pt x="12710" y="472"/>
                    </a:cubicBezTo>
                    <a:cubicBezTo>
                      <a:pt x="13307" y="786"/>
                      <a:pt x="13826" y="1203"/>
                      <a:pt x="14272" y="1733"/>
                    </a:cubicBezTo>
                    <a:cubicBezTo>
                      <a:pt x="14716" y="2260"/>
                      <a:pt x="15067" y="2885"/>
                      <a:pt x="15328" y="3608"/>
                    </a:cubicBezTo>
                    <a:cubicBezTo>
                      <a:pt x="15590" y="4331"/>
                      <a:pt x="15719" y="5097"/>
                      <a:pt x="15719" y="5903"/>
                    </a:cubicBezTo>
                    <a:cubicBezTo>
                      <a:pt x="15719" y="6939"/>
                      <a:pt x="15513" y="7890"/>
                      <a:pt x="15100" y="8756"/>
                    </a:cubicBezTo>
                    <a:cubicBezTo>
                      <a:pt x="14685" y="9620"/>
                      <a:pt x="14128" y="10320"/>
                      <a:pt x="13432" y="10853"/>
                    </a:cubicBezTo>
                    <a:cubicBezTo>
                      <a:pt x="13936" y="10945"/>
                      <a:pt x="14452" y="11031"/>
                      <a:pt x="14978" y="11115"/>
                    </a:cubicBezTo>
                    <a:cubicBezTo>
                      <a:pt x="15503" y="11198"/>
                      <a:pt x="16005" y="11288"/>
                      <a:pt x="16478" y="11388"/>
                    </a:cubicBezTo>
                    <a:cubicBezTo>
                      <a:pt x="16653" y="11426"/>
                      <a:pt x="16826" y="11449"/>
                      <a:pt x="16994" y="11455"/>
                    </a:cubicBezTo>
                    <a:cubicBezTo>
                      <a:pt x="17162" y="11466"/>
                      <a:pt x="17323" y="11495"/>
                      <a:pt x="17467" y="11553"/>
                    </a:cubicBezTo>
                    <a:cubicBezTo>
                      <a:pt x="17603" y="11590"/>
                      <a:pt x="17731" y="11659"/>
                      <a:pt x="17851" y="11766"/>
                    </a:cubicBezTo>
                    <a:cubicBezTo>
                      <a:pt x="17966" y="11869"/>
                      <a:pt x="18074" y="11970"/>
                      <a:pt x="18165" y="12062"/>
                    </a:cubicBezTo>
                    <a:moveTo>
                      <a:pt x="20474" y="5419"/>
                    </a:moveTo>
                    <a:cubicBezTo>
                      <a:pt x="20757" y="5419"/>
                      <a:pt x="20973" y="5505"/>
                      <a:pt x="21124" y="5687"/>
                    </a:cubicBezTo>
                    <a:cubicBezTo>
                      <a:pt x="21271" y="5865"/>
                      <a:pt x="21381" y="6078"/>
                      <a:pt x="21448" y="6326"/>
                    </a:cubicBezTo>
                    <a:cubicBezTo>
                      <a:pt x="21520" y="6574"/>
                      <a:pt x="21561" y="6836"/>
                      <a:pt x="21576" y="7106"/>
                    </a:cubicBezTo>
                    <a:cubicBezTo>
                      <a:pt x="21592" y="7377"/>
                      <a:pt x="21600" y="7596"/>
                      <a:pt x="21600" y="7760"/>
                    </a:cubicBezTo>
                    <a:lnTo>
                      <a:pt x="21600" y="9856"/>
                    </a:lnTo>
                    <a:cubicBezTo>
                      <a:pt x="21508" y="9928"/>
                      <a:pt x="21422" y="10015"/>
                      <a:pt x="21340" y="10110"/>
                    </a:cubicBezTo>
                    <a:cubicBezTo>
                      <a:pt x="21261" y="10208"/>
                      <a:pt x="21158" y="10257"/>
                      <a:pt x="21035" y="10257"/>
                    </a:cubicBezTo>
                    <a:lnTo>
                      <a:pt x="17267" y="10257"/>
                    </a:lnTo>
                    <a:cubicBezTo>
                      <a:pt x="17131" y="10257"/>
                      <a:pt x="17023" y="10208"/>
                      <a:pt x="16953" y="10110"/>
                    </a:cubicBezTo>
                    <a:cubicBezTo>
                      <a:pt x="16879" y="10015"/>
                      <a:pt x="16790" y="9928"/>
                      <a:pt x="16682" y="9856"/>
                    </a:cubicBezTo>
                    <a:lnTo>
                      <a:pt x="16682" y="7760"/>
                    </a:lnTo>
                    <a:cubicBezTo>
                      <a:pt x="16682" y="7596"/>
                      <a:pt x="16692" y="7377"/>
                      <a:pt x="16706" y="7106"/>
                    </a:cubicBezTo>
                    <a:cubicBezTo>
                      <a:pt x="16720" y="6836"/>
                      <a:pt x="16766" y="6574"/>
                      <a:pt x="16835" y="6326"/>
                    </a:cubicBezTo>
                    <a:cubicBezTo>
                      <a:pt x="16912" y="6078"/>
                      <a:pt x="17023" y="5865"/>
                      <a:pt x="17183" y="5687"/>
                    </a:cubicBezTo>
                    <a:cubicBezTo>
                      <a:pt x="17337" y="5508"/>
                      <a:pt x="17555" y="5419"/>
                      <a:pt x="17829" y="5419"/>
                    </a:cubicBezTo>
                    <a:cubicBezTo>
                      <a:pt x="17488" y="5151"/>
                      <a:pt x="17210" y="4803"/>
                      <a:pt x="16999" y="4377"/>
                    </a:cubicBezTo>
                    <a:cubicBezTo>
                      <a:pt x="16787" y="3950"/>
                      <a:pt x="16682" y="3469"/>
                      <a:pt x="16682" y="2937"/>
                    </a:cubicBezTo>
                    <a:cubicBezTo>
                      <a:pt x="16682" y="2539"/>
                      <a:pt x="16744" y="2162"/>
                      <a:pt x="16871" y="1805"/>
                    </a:cubicBezTo>
                    <a:cubicBezTo>
                      <a:pt x="16999" y="1448"/>
                      <a:pt x="17174" y="1134"/>
                      <a:pt x="17399" y="861"/>
                    </a:cubicBezTo>
                    <a:cubicBezTo>
                      <a:pt x="17625" y="590"/>
                      <a:pt x="17889" y="380"/>
                      <a:pt x="18187" y="227"/>
                    </a:cubicBezTo>
                    <a:cubicBezTo>
                      <a:pt x="18487" y="77"/>
                      <a:pt x="18808" y="0"/>
                      <a:pt x="19151" y="0"/>
                    </a:cubicBezTo>
                    <a:cubicBezTo>
                      <a:pt x="19480" y="0"/>
                      <a:pt x="19795" y="77"/>
                      <a:pt x="20095" y="227"/>
                    </a:cubicBezTo>
                    <a:cubicBezTo>
                      <a:pt x="20395" y="380"/>
                      <a:pt x="20656" y="590"/>
                      <a:pt x="20882" y="861"/>
                    </a:cubicBezTo>
                    <a:cubicBezTo>
                      <a:pt x="21108" y="1134"/>
                      <a:pt x="21285" y="1448"/>
                      <a:pt x="21412" y="1805"/>
                    </a:cubicBezTo>
                    <a:cubicBezTo>
                      <a:pt x="21537" y="2162"/>
                      <a:pt x="21600" y="2539"/>
                      <a:pt x="21600" y="2937"/>
                    </a:cubicBezTo>
                    <a:cubicBezTo>
                      <a:pt x="21600" y="3458"/>
                      <a:pt x="21499" y="3939"/>
                      <a:pt x="21295" y="4371"/>
                    </a:cubicBezTo>
                    <a:cubicBezTo>
                      <a:pt x="21093" y="4800"/>
                      <a:pt x="20820" y="5151"/>
                      <a:pt x="20474" y="541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Shape 486"/>
              <p:cNvSpPr/>
              <p:nvPr/>
            </p:nvSpPr>
            <p:spPr>
              <a:xfrm>
                <a:off x="7494120" y="3836880"/>
                <a:ext cx="161640" cy="1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" spc="-1" strike="noStrike">
                    <a:solidFill>
                      <a:srgbClr val="ffffff"/>
                    </a:solidFill>
                    <a:latin typeface="Arial"/>
                    <a:ea typeface="Open Sans Condensed Light"/>
                  </a:rPr>
                  <a:t>Подсистема аккредитация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Shape 486"/>
              <p:cNvSpPr/>
              <p:nvPr/>
            </p:nvSpPr>
            <p:spPr>
              <a:xfrm>
                <a:off x="7494120" y="3898800"/>
                <a:ext cx="183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" spc="-1" strike="noStrike">
                    <a:solidFill>
                      <a:srgbClr val="ffffff"/>
                    </a:solidFill>
                    <a:latin typeface="Arial"/>
                    <a:ea typeface="Open Sans Condensed Light"/>
                  </a:rPr>
                  <a:t>Подсистема подтверждения соответствия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2" name="Group 466"/>
              <p:cNvGrpSpPr/>
              <p:nvPr/>
            </p:nvGrpSpPr>
            <p:grpSpPr>
              <a:xfrm>
                <a:off x="7309440" y="4006440"/>
                <a:ext cx="204120" cy="91080"/>
                <a:chOff x="7309440" y="4006440"/>
                <a:chExt cx="204120" cy="91080"/>
              </a:xfrm>
            </p:grpSpPr>
            <p:sp>
              <p:nvSpPr>
                <p:cNvPr id="703" name="Shape 462"/>
                <p:cNvSpPr/>
                <p:nvPr/>
              </p:nvSpPr>
              <p:spPr>
                <a:xfrm>
                  <a:off x="7309440" y="4006440"/>
                  <a:ext cx="190080" cy="55800"/>
                </a:xfrm>
                <a:prstGeom prst="rect">
                  <a:avLst/>
                </a:prstGeom>
                <a:solidFill>
                  <a:srgbClr val="a5a5a5"/>
                </a:solidFill>
                <a:ln w="25560">
                  <a:solidFill>
                    <a:srgbClr val="000000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219240"/>
                      <a:tab algn="l" pos="438120"/>
                      <a:tab algn="l" pos="657360"/>
                      <a:tab algn="l" pos="876240"/>
                      <a:tab algn="l" pos="1095480"/>
                      <a:tab algn="l" pos="1314360"/>
                      <a:tab algn="l" pos="1533600"/>
                      <a:tab algn="l" pos="1752480"/>
                      <a:tab algn="l" pos="1971720"/>
                      <a:tab algn="l" pos="2190600"/>
                      <a:tab algn="l" pos="2409840"/>
                      <a:tab algn="l" pos="2629080"/>
                      <a:tab algn="l" pos="2847960"/>
                      <a:tab algn="l" pos="3067200"/>
                      <a:tab algn="l" pos="3286080"/>
                      <a:tab algn="l" pos="3505320"/>
                      <a:tab algn="l" pos="3724200"/>
                      <a:tab algn="l" pos="3943440"/>
                      <a:tab algn="l" pos="4162320"/>
                      <a:tab algn="l" pos="43815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Shape 463"/>
                <p:cNvSpPr/>
                <p:nvPr/>
              </p:nvSpPr>
              <p:spPr>
                <a:xfrm>
                  <a:off x="7332840" y="4020840"/>
                  <a:ext cx="180720" cy="7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5560" rIns="25560" tIns="25560" bIns="25560" anchor="ctr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AutoShape 130"/>
              <p:cNvSpPr/>
              <p:nvPr/>
            </p:nvSpPr>
            <p:spPr>
              <a:xfrm>
                <a:off x="7313040" y="401652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21373" h="21600">
                    <a:moveTo>
                      <a:pt x="1336" y="20249"/>
                    </a:moveTo>
                    <a:cubicBezTo>
                      <a:pt x="1428" y="20188"/>
                      <a:pt x="3691" y="18688"/>
                      <a:pt x="7070" y="17950"/>
                    </a:cubicBezTo>
                    <a:lnTo>
                      <a:pt x="8729" y="17587"/>
                    </a:lnTo>
                    <a:cubicBezTo>
                      <a:pt x="9321" y="17980"/>
                      <a:pt x="9972" y="18225"/>
                      <a:pt x="10686" y="18225"/>
                    </a:cubicBezTo>
                    <a:cubicBezTo>
                      <a:pt x="11401" y="18225"/>
                      <a:pt x="12052" y="17980"/>
                      <a:pt x="12644" y="17587"/>
                    </a:cubicBezTo>
                    <a:lnTo>
                      <a:pt x="14303" y="17950"/>
                    </a:lnTo>
                    <a:cubicBezTo>
                      <a:pt x="17656" y="18682"/>
                      <a:pt x="19911" y="20165"/>
                      <a:pt x="20037" y="20249"/>
                    </a:cubicBezTo>
                    <a:cubicBezTo>
                      <a:pt x="20037" y="20249"/>
                      <a:pt x="1336" y="20249"/>
                      <a:pt x="1336" y="20249"/>
                    </a:cubicBezTo>
                    <a:close/>
                    <a:moveTo>
                      <a:pt x="13537" y="15793"/>
                    </a:moveTo>
                    <a:lnTo>
                      <a:pt x="13317" y="16073"/>
                    </a:lnTo>
                    <a:cubicBezTo>
                      <a:pt x="11725" y="17923"/>
                      <a:pt x="9648" y="17923"/>
                      <a:pt x="8056" y="16073"/>
                    </a:cubicBezTo>
                    <a:lnTo>
                      <a:pt x="7836" y="15793"/>
                    </a:lnTo>
                    <a:cubicBezTo>
                      <a:pt x="5977" y="13411"/>
                      <a:pt x="5053" y="10261"/>
                      <a:pt x="5451" y="7255"/>
                    </a:cubicBezTo>
                    <a:cubicBezTo>
                      <a:pt x="5815" y="4367"/>
                      <a:pt x="7453" y="1350"/>
                      <a:pt x="10686" y="1350"/>
                    </a:cubicBezTo>
                    <a:cubicBezTo>
                      <a:pt x="13920" y="1350"/>
                      <a:pt x="15558" y="4367"/>
                      <a:pt x="15922" y="7255"/>
                    </a:cubicBezTo>
                    <a:cubicBezTo>
                      <a:pt x="16318" y="10262"/>
                      <a:pt x="15398" y="13411"/>
                      <a:pt x="13537" y="15793"/>
                    </a:cubicBezTo>
                    <a:moveTo>
                      <a:pt x="20778" y="19126"/>
                    </a:moveTo>
                    <a:cubicBezTo>
                      <a:pt x="20644" y="19037"/>
                      <a:pt x="18209" y="17422"/>
                      <a:pt x="14585" y="16630"/>
                    </a:cubicBezTo>
                    <a:cubicBezTo>
                      <a:pt x="15914" y="14927"/>
                      <a:pt x="16767" y="12639"/>
                      <a:pt x="17130" y="11115"/>
                    </a:cubicBezTo>
                    <a:cubicBezTo>
                      <a:pt x="17633" y="9004"/>
                      <a:pt x="17438" y="4873"/>
                      <a:pt x="15431" y="2299"/>
                    </a:cubicBezTo>
                    <a:cubicBezTo>
                      <a:pt x="14259" y="795"/>
                      <a:pt x="12618" y="0"/>
                      <a:pt x="10686" y="0"/>
                    </a:cubicBezTo>
                    <a:cubicBezTo>
                      <a:pt x="8755" y="0"/>
                      <a:pt x="7114" y="795"/>
                      <a:pt x="5942" y="2299"/>
                    </a:cubicBezTo>
                    <a:cubicBezTo>
                      <a:pt x="3935" y="4873"/>
                      <a:pt x="3740" y="9004"/>
                      <a:pt x="4243" y="11115"/>
                    </a:cubicBezTo>
                    <a:cubicBezTo>
                      <a:pt x="4606" y="12639"/>
                      <a:pt x="5459" y="14927"/>
                      <a:pt x="6788" y="16630"/>
                    </a:cubicBezTo>
                    <a:cubicBezTo>
                      <a:pt x="3164" y="17422"/>
                      <a:pt x="729" y="19037"/>
                      <a:pt x="595" y="19126"/>
                    </a:cubicBezTo>
                    <a:cubicBezTo>
                      <a:pt x="105" y="19457"/>
                      <a:pt x="-113" y="20071"/>
                      <a:pt x="57" y="20640"/>
                    </a:cubicBezTo>
                    <a:cubicBezTo>
                      <a:pt x="228" y="21210"/>
                      <a:pt x="747" y="21599"/>
                      <a:pt x="1336" y="21599"/>
                    </a:cubicBezTo>
                    <a:lnTo>
                      <a:pt x="20037" y="21599"/>
                    </a:lnTo>
                    <a:cubicBezTo>
                      <a:pt x="20626" y="21599"/>
                      <a:pt x="21145" y="21210"/>
                      <a:pt x="21316" y="20640"/>
                    </a:cubicBezTo>
                    <a:cubicBezTo>
                      <a:pt x="21487" y="20071"/>
                      <a:pt x="21268" y="19457"/>
                      <a:pt x="20778" y="1912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200" rIns="252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Группа 48"/>
              <p:cNvGrpSpPr/>
              <p:nvPr/>
            </p:nvGrpSpPr>
            <p:grpSpPr>
              <a:xfrm>
                <a:off x="7504920" y="4007160"/>
                <a:ext cx="145800" cy="79920"/>
                <a:chOff x="7504920" y="4007160"/>
                <a:chExt cx="145800" cy="79920"/>
              </a:xfrm>
            </p:grpSpPr>
            <p:grpSp>
              <p:nvGrpSpPr>
                <p:cNvPr id="707" name="Group 466"/>
                <p:cNvGrpSpPr/>
                <p:nvPr/>
              </p:nvGrpSpPr>
              <p:grpSpPr>
                <a:xfrm>
                  <a:off x="7504920" y="4007160"/>
                  <a:ext cx="145800" cy="79920"/>
                  <a:chOff x="7504920" y="4007160"/>
                  <a:chExt cx="145800" cy="79920"/>
                </a:xfrm>
              </p:grpSpPr>
              <p:sp>
                <p:nvSpPr>
                  <p:cNvPr id="708" name="Shape 462"/>
                  <p:cNvSpPr/>
                  <p:nvPr/>
                </p:nvSpPr>
                <p:spPr>
                  <a:xfrm>
                    <a:off x="7504920" y="4007160"/>
                    <a:ext cx="144360" cy="57240"/>
                  </a:xfrm>
                  <a:prstGeom prst="rect">
                    <a:avLst/>
                  </a:prstGeom>
                  <a:solidFill>
                    <a:srgbClr val="a5a5a5"/>
                  </a:solidFill>
                  <a:ln w="25560">
                    <a:solidFill>
                      <a:srgbClr val="000000">
                        <a:alpha val="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>
                      <a:tabLst>
                        <a:tab algn="l" pos="0"/>
                        <a:tab algn="l" pos="219240"/>
                        <a:tab algn="l" pos="438120"/>
                        <a:tab algn="l" pos="657360"/>
                        <a:tab algn="l" pos="876240"/>
                        <a:tab algn="l" pos="1095480"/>
                        <a:tab algn="l" pos="1314360"/>
                        <a:tab algn="l" pos="1533600"/>
                        <a:tab algn="l" pos="1752480"/>
                        <a:tab algn="l" pos="1971720"/>
                        <a:tab algn="l" pos="2190600"/>
                        <a:tab algn="l" pos="2409840"/>
                        <a:tab algn="l" pos="2629080"/>
                        <a:tab algn="l" pos="2847960"/>
                        <a:tab algn="l" pos="3067200"/>
                        <a:tab algn="l" pos="3286080"/>
                        <a:tab algn="l" pos="3505320"/>
                        <a:tab algn="l" pos="3724200"/>
                        <a:tab algn="l" pos="3943440"/>
                        <a:tab algn="l" pos="4162320"/>
                        <a:tab algn="l" pos="438156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Shape 463"/>
                  <p:cNvSpPr/>
                  <p:nvPr/>
                </p:nvSpPr>
                <p:spPr>
                  <a:xfrm>
                    <a:off x="7536600" y="4011840"/>
                    <a:ext cx="114120" cy="75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25560" rIns="25560" tIns="25560" bIns="25560" anchor="ctr">
                    <a:sp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0" name="Группа 67"/>
                <p:cNvGrpSpPr/>
                <p:nvPr/>
              </p:nvGrpSpPr>
              <p:grpSpPr>
                <a:xfrm>
                  <a:off x="7509240" y="4018680"/>
                  <a:ext cx="23040" cy="29520"/>
                  <a:chOff x="7509240" y="4018680"/>
                  <a:chExt cx="23040" cy="29520"/>
                </a:xfrm>
              </p:grpSpPr>
              <p:sp>
                <p:nvSpPr>
                  <p:cNvPr id="711" name="AutoShape 56"/>
                  <p:cNvSpPr/>
                  <p:nvPr/>
                </p:nvSpPr>
                <p:spPr>
                  <a:xfrm>
                    <a:off x="7509240" y="4018680"/>
                    <a:ext cx="75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6988" y="7316"/>
                        </a:moveTo>
                        <a:cubicBezTo>
                          <a:pt x="16954" y="7352"/>
                          <a:pt x="16923" y="7387"/>
                          <a:pt x="16883" y="7423"/>
                        </a:cubicBezTo>
                        <a:cubicBezTo>
                          <a:pt x="16677" y="7601"/>
                          <a:pt x="16414" y="7770"/>
                          <a:pt x="16066" y="7920"/>
                        </a:cubicBezTo>
                        <a:cubicBezTo>
                          <a:pt x="16057" y="7924"/>
                          <a:pt x="16044" y="7927"/>
                          <a:pt x="16038" y="7931"/>
                        </a:cubicBezTo>
                        <a:cubicBezTo>
                          <a:pt x="15662" y="8092"/>
                          <a:pt x="15214" y="8234"/>
                          <a:pt x="14705" y="8354"/>
                        </a:cubicBezTo>
                        <a:cubicBezTo>
                          <a:pt x="14697" y="8357"/>
                          <a:pt x="14692" y="8358"/>
                          <a:pt x="14686" y="8359"/>
                        </a:cubicBezTo>
                        <a:cubicBezTo>
                          <a:pt x="14163" y="8482"/>
                          <a:pt x="13584" y="8581"/>
                          <a:pt x="12960" y="8649"/>
                        </a:cubicBezTo>
                        <a:cubicBezTo>
                          <a:pt x="12279" y="8726"/>
                          <a:pt x="11560" y="8774"/>
                          <a:pt x="10800" y="8774"/>
                        </a:cubicBezTo>
                        <a:cubicBezTo>
                          <a:pt x="10037" y="8774"/>
                          <a:pt x="9318" y="8726"/>
                          <a:pt x="8640" y="8649"/>
                        </a:cubicBezTo>
                        <a:cubicBezTo>
                          <a:pt x="8016" y="8581"/>
                          <a:pt x="7435" y="8482"/>
                          <a:pt x="6914" y="8359"/>
                        </a:cubicBezTo>
                        <a:cubicBezTo>
                          <a:pt x="6908" y="8358"/>
                          <a:pt x="6901" y="8357"/>
                          <a:pt x="6893" y="8354"/>
                        </a:cubicBezTo>
                        <a:cubicBezTo>
                          <a:pt x="6385" y="8234"/>
                          <a:pt x="5937" y="8092"/>
                          <a:pt x="5562" y="7931"/>
                        </a:cubicBezTo>
                        <a:cubicBezTo>
                          <a:pt x="5553" y="7927"/>
                          <a:pt x="5541" y="7924"/>
                          <a:pt x="5531" y="7920"/>
                        </a:cubicBezTo>
                        <a:cubicBezTo>
                          <a:pt x="5184" y="7770"/>
                          <a:pt x="4921" y="7601"/>
                          <a:pt x="4715" y="7423"/>
                        </a:cubicBezTo>
                        <a:cubicBezTo>
                          <a:pt x="4676" y="7387"/>
                          <a:pt x="4644" y="7352"/>
                          <a:pt x="4612" y="7316"/>
                        </a:cubicBezTo>
                        <a:cubicBezTo>
                          <a:pt x="4437" y="7136"/>
                          <a:pt x="4320" y="6947"/>
                          <a:pt x="4320" y="6750"/>
                        </a:cubicBezTo>
                        <a:cubicBezTo>
                          <a:pt x="4320" y="6550"/>
                          <a:pt x="4437" y="6362"/>
                          <a:pt x="4612" y="6181"/>
                        </a:cubicBezTo>
                        <a:cubicBezTo>
                          <a:pt x="4644" y="6146"/>
                          <a:pt x="4676" y="6110"/>
                          <a:pt x="4715" y="6076"/>
                        </a:cubicBezTo>
                        <a:cubicBezTo>
                          <a:pt x="4921" y="5898"/>
                          <a:pt x="5184" y="5729"/>
                          <a:pt x="5531" y="5577"/>
                        </a:cubicBezTo>
                        <a:cubicBezTo>
                          <a:pt x="5541" y="5574"/>
                          <a:pt x="5553" y="5571"/>
                          <a:pt x="5562" y="5567"/>
                        </a:cubicBezTo>
                        <a:cubicBezTo>
                          <a:pt x="5937" y="5407"/>
                          <a:pt x="6385" y="5264"/>
                          <a:pt x="6893" y="5144"/>
                        </a:cubicBezTo>
                        <a:cubicBezTo>
                          <a:pt x="6901" y="5142"/>
                          <a:pt x="6908" y="5140"/>
                          <a:pt x="6914" y="5138"/>
                        </a:cubicBezTo>
                        <a:cubicBezTo>
                          <a:pt x="7435" y="5017"/>
                          <a:pt x="8016" y="4918"/>
                          <a:pt x="8640" y="4848"/>
                        </a:cubicBezTo>
                        <a:cubicBezTo>
                          <a:pt x="9318" y="4773"/>
                          <a:pt x="10037" y="4725"/>
                          <a:pt x="10800" y="4725"/>
                        </a:cubicBezTo>
                        <a:cubicBezTo>
                          <a:pt x="11560" y="4725"/>
                          <a:pt x="12279" y="4773"/>
                          <a:pt x="12960" y="4848"/>
                        </a:cubicBezTo>
                        <a:cubicBezTo>
                          <a:pt x="13584" y="4918"/>
                          <a:pt x="14163" y="5017"/>
                          <a:pt x="14686" y="5138"/>
                        </a:cubicBezTo>
                        <a:cubicBezTo>
                          <a:pt x="14692" y="5140"/>
                          <a:pt x="14697" y="5142"/>
                          <a:pt x="14705" y="5144"/>
                        </a:cubicBezTo>
                        <a:cubicBezTo>
                          <a:pt x="15214" y="5264"/>
                          <a:pt x="15662" y="5407"/>
                          <a:pt x="16038" y="5567"/>
                        </a:cubicBezTo>
                        <a:cubicBezTo>
                          <a:pt x="16044" y="5571"/>
                          <a:pt x="16057" y="5574"/>
                          <a:pt x="16066" y="5577"/>
                        </a:cubicBezTo>
                        <a:cubicBezTo>
                          <a:pt x="16414" y="5729"/>
                          <a:pt x="16677" y="5898"/>
                          <a:pt x="16883" y="6076"/>
                        </a:cubicBezTo>
                        <a:cubicBezTo>
                          <a:pt x="16923" y="6110"/>
                          <a:pt x="16954" y="6146"/>
                          <a:pt x="16988" y="6181"/>
                        </a:cubicBezTo>
                        <a:cubicBezTo>
                          <a:pt x="17161" y="6362"/>
                          <a:pt x="17280" y="6550"/>
                          <a:pt x="17280" y="6750"/>
                        </a:cubicBezTo>
                        <a:cubicBezTo>
                          <a:pt x="17280" y="6947"/>
                          <a:pt x="17161" y="7136"/>
                          <a:pt x="16988" y="7316"/>
                        </a:cubicBezTo>
                        <a:moveTo>
                          <a:pt x="12960" y="19575"/>
                        </a:moveTo>
                        <a:cubicBezTo>
                          <a:pt x="12960" y="19948"/>
                          <a:pt x="11992" y="20249"/>
                          <a:pt x="10800" y="20249"/>
                        </a:cubicBezTo>
                        <a:cubicBezTo>
                          <a:pt x="9606" y="20249"/>
                          <a:pt x="8640" y="19948"/>
                          <a:pt x="8640" y="19575"/>
                        </a:cubicBezTo>
                        <a:lnTo>
                          <a:pt x="8640" y="10056"/>
                        </a:lnTo>
                        <a:cubicBezTo>
                          <a:pt x="9338" y="10101"/>
                          <a:pt x="10059" y="10124"/>
                          <a:pt x="10800" y="10124"/>
                        </a:cubicBezTo>
                        <a:cubicBezTo>
                          <a:pt x="11541" y="10124"/>
                          <a:pt x="12262" y="10101"/>
                          <a:pt x="12960" y="10056"/>
                        </a:cubicBezTo>
                        <a:cubicBezTo>
                          <a:pt x="12960" y="10056"/>
                          <a:pt x="12960" y="19575"/>
                          <a:pt x="12960" y="19575"/>
                        </a:cubicBezTo>
                        <a:close/>
                        <a:moveTo>
                          <a:pt x="8640" y="2025"/>
                        </a:moveTo>
                        <a:cubicBezTo>
                          <a:pt x="8640" y="1651"/>
                          <a:pt x="9606" y="1350"/>
                          <a:pt x="10800" y="1350"/>
                        </a:cubicBezTo>
                        <a:cubicBezTo>
                          <a:pt x="11992" y="1350"/>
                          <a:pt x="12960" y="1651"/>
                          <a:pt x="12960" y="2025"/>
                        </a:cubicBezTo>
                        <a:lnTo>
                          <a:pt x="12960" y="3442"/>
                        </a:lnTo>
                        <a:cubicBezTo>
                          <a:pt x="12262" y="3398"/>
                          <a:pt x="11541" y="3375"/>
                          <a:pt x="10800" y="3375"/>
                        </a:cubicBezTo>
                        <a:cubicBezTo>
                          <a:pt x="10059" y="3375"/>
                          <a:pt x="9338" y="3398"/>
                          <a:pt x="8640" y="3442"/>
                        </a:cubicBezTo>
                        <a:cubicBezTo>
                          <a:pt x="8640" y="3442"/>
                          <a:pt x="8640" y="2025"/>
                          <a:pt x="8640" y="2025"/>
                        </a:cubicBezTo>
                        <a:close/>
                        <a:moveTo>
                          <a:pt x="17280" y="4064"/>
                        </a:moveTo>
                        <a:lnTo>
                          <a:pt x="17280" y="2025"/>
                        </a:lnTo>
                        <a:cubicBezTo>
                          <a:pt x="17280" y="908"/>
                          <a:pt x="14373" y="0"/>
                          <a:pt x="10800" y="0"/>
                        </a:cubicBezTo>
                        <a:cubicBezTo>
                          <a:pt x="7225" y="0"/>
                          <a:pt x="4320" y="908"/>
                          <a:pt x="4320" y="2025"/>
                        </a:cubicBezTo>
                        <a:lnTo>
                          <a:pt x="4320" y="4064"/>
                        </a:lnTo>
                        <a:cubicBezTo>
                          <a:pt x="1710" y="4681"/>
                          <a:pt x="0" y="5649"/>
                          <a:pt x="0" y="6750"/>
                        </a:cubicBezTo>
                        <a:cubicBezTo>
                          <a:pt x="0" y="7850"/>
                          <a:pt x="1710" y="8818"/>
                          <a:pt x="4320" y="9434"/>
                        </a:cubicBezTo>
                        <a:lnTo>
                          <a:pt x="4320" y="19575"/>
                        </a:lnTo>
                        <a:cubicBezTo>
                          <a:pt x="4320" y="20691"/>
                          <a:pt x="7225" y="21599"/>
                          <a:pt x="10800" y="21599"/>
                        </a:cubicBezTo>
                        <a:cubicBezTo>
                          <a:pt x="14373" y="21599"/>
                          <a:pt x="17280" y="20691"/>
                          <a:pt x="17280" y="19575"/>
                        </a:cubicBezTo>
                        <a:lnTo>
                          <a:pt x="17280" y="9434"/>
                        </a:lnTo>
                        <a:cubicBezTo>
                          <a:pt x="19889" y="8818"/>
                          <a:pt x="21600" y="7850"/>
                          <a:pt x="21600" y="6750"/>
                        </a:cubicBezTo>
                        <a:cubicBezTo>
                          <a:pt x="21600" y="5649"/>
                          <a:pt x="19889" y="4681"/>
                          <a:pt x="17280" y="4064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AutoShape 57"/>
                  <p:cNvSpPr/>
                  <p:nvPr/>
                </p:nvSpPr>
                <p:spPr>
                  <a:xfrm>
                    <a:off x="7524720" y="4018680"/>
                    <a:ext cx="75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6988" y="7316"/>
                        </a:moveTo>
                        <a:cubicBezTo>
                          <a:pt x="16954" y="7352"/>
                          <a:pt x="16923" y="7387"/>
                          <a:pt x="16883" y="7423"/>
                        </a:cubicBezTo>
                        <a:cubicBezTo>
                          <a:pt x="16677" y="7601"/>
                          <a:pt x="16414" y="7770"/>
                          <a:pt x="16066" y="7920"/>
                        </a:cubicBezTo>
                        <a:cubicBezTo>
                          <a:pt x="16057" y="7924"/>
                          <a:pt x="16044" y="7927"/>
                          <a:pt x="16038" y="7931"/>
                        </a:cubicBezTo>
                        <a:cubicBezTo>
                          <a:pt x="15662" y="8092"/>
                          <a:pt x="15214" y="8234"/>
                          <a:pt x="14705" y="8354"/>
                        </a:cubicBezTo>
                        <a:cubicBezTo>
                          <a:pt x="14697" y="8357"/>
                          <a:pt x="14692" y="8358"/>
                          <a:pt x="14686" y="8359"/>
                        </a:cubicBezTo>
                        <a:cubicBezTo>
                          <a:pt x="14163" y="8482"/>
                          <a:pt x="13584" y="8581"/>
                          <a:pt x="12960" y="8649"/>
                        </a:cubicBezTo>
                        <a:cubicBezTo>
                          <a:pt x="12279" y="8726"/>
                          <a:pt x="11560" y="8774"/>
                          <a:pt x="10800" y="8774"/>
                        </a:cubicBezTo>
                        <a:cubicBezTo>
                          <a:pt x="10037" y="8774"/>
                          <a:pt x="9318" y="8726"/>
                          <a:pt x="8640" y="8649"/>
                        </a:cubicBezTo>
                        <a:cubicBezTo>
                          <a:pt x="8016" y="8581"/>
                          <a:pt x="7435" y="8482"/>
                          <a:pt x="6914" y="8359"/>
                        </a:cubicBezTo>
                        <a:cubicBezTo>
                          <a:pt x="6908" y="8358"/>
                          <a:pt x="6901" y="8357"/>
                          <a:pt x="6893" y="8354"/>
                        </a:cubicBezTo>
                        <a:cubicBezTo>
                          <a:pt x="6385" y="8234"/>
                          <a:pt x="5937" y="8092"/>
                          <a:pt x="5562" y="7931"/>
                        </a:cubicBezTo>
                        <a:cubicBezTo>
                          <a:pt x="5553" y="7927"/>
                          <a:pt x="5541" y="7924"/>
                          <a:pt x="5531" y="7920"/>
                        </a:cubicBezTo>
                        <a:cubicBezTo>
                          <a:pt x="5184" y="7770"/>
                          <a:pt x="4921" y="7601"/>
                          <a:pt x="4715" y="7423"/>
                        </a:cubicBezTo>
                        <a:cubicBezTo>
                          <a:pt x="4676" y="7387"/>
                          <a:pt x="4644" y="7352"/>
                          <a:pt x="4612" y="7316"/>
                        </a:cubicBezTo>
                        <a:cubicBezTo>
                          <a:pt x="4437" y="7136"/>
                          <a:pt x="4320" y="6947"/>
                          <a:pt x="4320" y="6750"/>
                        </a:cubicBezTo>
                        <a:cubicBezTo>
                          <a:pt x="4320" y="6550"/>
                          <a:pt x="4437" y="6362"/>
                          <a:pt x="4612" y="6181"/>
                        </a:cubicBezTo>
                        <a:cubicBezTo>
                          <a:pt x="4644" y="6146"/>
                          <a:pt x="4676" y="6110"/>
                          <a:pt x="4715" y="6076"/>
                        </a:cubicBezTo>
                        <a:cubicBezTo>
                          <a:pt x="4921" y="5898"/>
                          <a:pt x="5184" y="5729"/>
                          <a:pt x="5531" y="5577"/>
                        </a:cubicBezTo>
                        <a:cubicBezTo>
                          <a:pt x="5541" y="5574"/>
                          <a:pt x="5553" y="5571"/>
                          <a:pt x="5562" y="5567"/>
                        </a:cubicBezTo>
                        <a:cubicBezTo>
                          <a:pt x="5937" y="5407"/>
                          <a:pt x="6385" y="5264"/>
                          <a:pt x="6893" y="5144"/>
                        </a:cubicBezTo>
                        <a:cubicBezTo>
                          <a:pt x="6901" y="5142"/>
                          <a:pt x="6908" y="5140"/>
                          <a:pt x="6914" y="5138"/>
                        </a:cubicBezTo>
                        <a:cubicBezTo>
                          <a:pt x="7435" y="5017"/>
                          <a:pt x="8016" y="4918"/>
                          <a:pt x="8640" y="4848"/>
                        </a:cubicBezTo>
                        <a:cubicBezTo>
                          <a:pt x="9318" y="4773"/>
                          <a:pt x="10037" y="4725"/>
                          <a:pt x="10800" y="4725"/>
                        </a:cubicBezTo>
                        <a:cubicBezTo>
                          <a:pt x="11560" y="4725"/>
                          <a:pt x="12279" y="4773"/>
                          <a:pt x="12960" y="4848"/>
                        </a:cubicBezTo>
                        <a:cubicBezTo>
                          <a:pt x="13584" y="4918"/>
                          <a:pt x="14163" y="5017"/>
                          <a:pt x="14686" y="5138"/>
                        </a:cubicBezTo>
                        <a:cubicBezTo>
                          <a:pt x="14692" y="5140"/>
                          <a:pt x="14697" y="5142"/>
                          <a:pt x="14705" y="5144"/>
                        </a:cubicBezTo>
                        <a:cubicBezTo>
                          <a:pt x="15214" y="5264"/>
                          <a:pt x="15662" y="5407"/>
                          <a:pt x="16038" y="5567"/>
                        </a:cubicBezTo>
                        <a:cubicBezTo>
                          <a:pt x="16044" y="5571"/>
                          <a:pt x="16057" y="5574"/>
                          <a:pt x="16066" y="5577"/>
                        </a:cubicBezTo>
                        <a:cubicBezTo>
                          <a:pt x="16414" y="5729"/>
                          <a:pt x="16677" y="5898"/>
                          <a:pt x="16883" y="6076"/>
                        </a:cubicBezTo>
                        <a:cubicBezTo>
                          <a:pt x="16923" y="6110"/>
                          <a:pt x="16954" y="6146"/>
                          <a:pt x="16988" y="6181"/>
                        </a:cubicBezTo>
                        <a:cubicBezTo>
                          <a:pt x="17161" y="6362"/>
                          <a:pt x="17280" y="6550"/>
                          <a:pt x="17280" y="6750"/>
                        </a:cubicBezTo>
                        <a:cubicBezTo>
                          <a:pt x="17280" y="6947"/>
                          <a:pt x="17161" y="7136"/>
                          <a:pt x="16988" y="7316"/>
                        </a:cubicBezTo>
                        <a:moveTo>
                          <a:pt x="12960" y="19575"/>
                        </a:moveTo>
                        <a:cubicBezTo>
                          <a:pt x="12960" y="19948"/>
                          <a:pt x="11992" y="20249"/>
                          <a:pt x="10800" y="20249"/>
                        </a:cubicBezTo>
                        <a:cubicBezTo>
                          <a:pt x="9606" y="20249"/>
                          <a:pt x="8640" y="19948"/>
                          <a:pt x="8640" y="19575"/>
                        </a:cubicBezTo>
                        <a:lnTo>
                          <a:pt x="8640" y="10056"/>
                        </a:lnTo>
                        <a:cubicBezTo>
                          <a:pt x="9338" y="10101"/>
                          <a:pt x="10059" y="10124"/>
                          <a:pt x="10800" y="10124"/>
                        </a:cubicBezTo>
                        <a:cubicBezTo>
                          <a:pt x="11541" y="10124"/>
                          <a:pt x="12262" y="10101"/>
                          <a:pt x="12960" y="10056"/>
                        </a:cubicBezTo>
                        <a:cubicBezTo>
                          <a:pt x="12960" y="10056"/>
                          <a:pt x="12960" y="19575"/>
                          <a:pt x="12960" y="19575"/>
                        </a:cubicBezTo>
                        <a:close/>
                        <a:moveTo>
                          <a:pt x="8640" y="2025"/>
                        </a:moveTo>
                        <a:cubicBezTo>
                          <a:pt x="8640" y="1651"/>
                          <a:pt x="9606" y="1350"/>
                          <a:pt x="10800" y="1350"/>
                        </a:cubicBezTo>
                        <a:cubicBezTo>
                          <a:pt x="11992" y="1350"/>
                          <a:pt x="12960" y="1651"/>
                          <a:pt x="12960" y="2025"/>
                        </a:cubicBezTo>
                        <a:lnTo>
                          <a:pt x="12960" y="3442"/>
                        </a:lnTo>
                        <a:cubicBezTo>
                          <a:pt x="12262" y="3398"/>
                          <a:pt x="11541" y="3375"/>
                          <a:pt x="10800" y="3375"/>
                        </a:cubicBezTo>
                        <a:cubicBezTo>
                          <a:pt x="10059" y="3375"/>
                          <a:pt x="9338" y="3398"/>
                          <a:pt x="8640" y="3442"/>
                        </a:cubicBezTo>
                        <a:cubicBezTo>
                          <a:pt x="8640" y="3442"/>
                          <a:pt x="8640" y="2025"/>
                          <a:pt x="8640" y="2025"/>
                        </a:cubicBezTo>
                        <a:close/>
                        <a:moveTo>
                          <a:pt x="17280" y="4064"/>
                        </a:moveTo>
                        <a:lnTo>
                          <a:pt x="17280" y="2025"/>
                        </a:lnTo>
                        <a:cubicBezTo>
                          <a:pt x="17280" y="908"/>
                          <a:pt x="14373" y="0"/>
                          <a:pt x="10800" y="0"/>
                        </a:cubicBezTo>
                        <a:cubicBezTo>
                          <a:pt x="7225" y="0"/>
                          <a:pt x="4320" y="908"/>
                          <a:pt x="4320" y="2025"/>
                        </a:cubicBezTo>
                        <a:lnTo>
                          <a:pt x="4320" y="4064"/>
                        </a:lnTo>
                        <a:cubicBezTo>
                          <a:pt x="1710" y="4681"/>
                          <a:pt x="0" y="5649"/>
                          <a:pt x="0" y="6750"/>
                        </a:cubicBezTo>
                        <a:cubicBezTo>
                          <a:pt x="0" y="7850"/>
                          <a:pt x="1710" y="8818"/>
                          <a:pt x="4320" y="9434"/>
                        </a:cubicBezTo>
                        <a:lnTo>
                          <a:pt x="4320" y="19575"/>
                        </a:lnTo>
                        <a:cubicBezTo>
                          <a:pt x="4320" y="20691"/>
                          <a:pt x="7225" y="21599"/>
                          <a:pt x="10800" y="21599"/>
                        </a:cubicBezTo>
                        <a:cubicBezTo>
                          <a:pt x="14373" y="21599"/>
                          <a:pt x="17280" y="20691"/>
                          <a:pt x="17280" y="19575"/>
                        </a:cubicBezTo>
                        <a:lnTo>
                          <a:pt x="17280" y="9434"/>
                        </a:lnTo>
                        <a:cubicBezTo>
                          <a:pt x="19889" y="8818"/>
                          <a:pt x="21600" y="7850"/>
                          <a:pt x="21600" y="6750"/>
                        </a:cubicBezTo>
                        <a:cubicBezTo>
                          <a:pt x="21600" y="5649"/>
                          <a:pt x="19889" y="4681"/>
                          <a:pt x="17280" y="4064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AutoShape 58"/>
                  <p:cNvSpPr/>
                  <p:nvPr/>
                </p:nvSpPr>
                <p:spPr>
                  <a:xfrm>
                    <a:off x="7516800" y="4018680"/>
                    <a:ext cx="75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6988" y="15416"/>
                        </a:moveTo>
                        <a:cubicBezTo>
                          <a:pt x="16954" y="15452"/>
                          <a:pt x="16923" y="15487"/>
                          <a:pt x="16883" y="15523"/>
                        </a:cubicBezTo>
                        <a:cubicBezTo>
                          <a:pt x="16677" y="15701"/>
                          <a:pt x="16414" y="15870"/>
                          <a:pt x="16066" y="16020"/>
                        </a:cubicBezTo>
                        <a:cubicBezTo>
                          <a:pt x="16057" y="16024"/>
                          <a:pt x="16044" y="16027"/>
                          <a:pt x="16038" y="16031"/>
                        </a:cubicBezTo>
                        <a:cubicBezTo>
                          <a:pt x="15662" y="16192"/>
                          <a:pt x="15214" y="16334"/>
                          <a:pt x="14705" y="16454"/>
                        </a:cubicBezTo>
                        <a:cubicBezTo>
                          <a:pt x="14697" y="16457"/>
                          <a:pt x="14692" y="16458"/>
                          <a:pt x="14686" y="16459"/>
                        </a:cubicBezTo>
                        <a:cubicBezTo>
                          <a:pt x="14163" y="16582"/>
                          <a:pt x="13584" y="16681"/>
                          <a:pt x="12960" y="16749"/>
                        </a:cubicBezTo>
                        <a:cubicBezTo>
                          <a:pt x="12279" y="16826"/>
                          <a:pt x="11560" y="16875"/>
                          <a:pt x="10800" y="16875"/>
                        </a:cubicBezTo>
                        <a:cubicBezTo>
                          <a:pt x="10037" y="16875"/>
                          <a:pt x="9318" y="16826"/>
                          <a:pt x="8640" y="16749"/>
                        </a:cubicBezTo>
                        <a:cubicBezTo>
                          <a:pt x="8016" y="16681"/>
                          <a:pt x="7435" y="16582"/>
                          <a:pt x="6914" y="16459"/>
                        </a:cubicBezTo>
                        <a:cubicBezTo>
                          <a:pt x="6908" y="16458"/>
                          <a:pt x="6901" y="16457"/>
                          <a:pt x="6893" y="16454"/>
                        </a:cubicBezTo>
                        <a:cubicBezTo>
                          <a:pt x="6385" y="16334"/>
                          <a:pt x="5937" y="16192"/>
                          <a:pt x="5562" y="16031"/>
                        </a:cubicBezTo>
                        <a:cubicBezTo>
                          <a:pt x="5553" y="16027"/>
                          <a:pt x="5541" y="16024"/>
                          <a:pt x="5531" y="16020"/>
                        </a:cubicBezTo>
                        <a:cubicBezTo>
                          <a:pt x="5184" y="15870"/>
                          <a:pt x="4921" y="15701"/>
                          <a:pt x="4715" y="15523"/>
                        </a:cubicBezTo>
                        <a:cubicBezTo>
                          <a:pt x="4676" y="15487"/>
                          <a:pt x="4644" y="15452"/>
                          <a:pt x="4612" y="15416"/>
                        </a:cubicBezTo>
                        <a:cubicBezTo>
                          <a:pt x="4437" y="15236"/>
                          <a:pt x="4320" y="15047"/>
                          <a:pt x="4320" y="14850"/>
                        </a:cubicBezTo>
                        <a:cubicBezTo>
                          <a:pt x="4320" y="14650"/>
                          <a:pt x="4437" y="14462"/>
                          <a:pt x="4612" y="14281"/>
                        </a:cubicBezTo>
                        <a:cubicBezTo>
                          <a:pt x="4644" y="14246"/>
                          <a:pt x="4676" y="14210"/>
                          <a:pt x="4715" y="14176"/>
                        </a:cubicBezTo>
                        <a:cubicBezTo>
                          <a:pt x="4921" y="13998"/>
                          <a:pt x="5184" y="13829"/>
                          <a:pt x="5531" y="13677"/>
                        </a:cubicBezTo>
                        <a:cubicBezTo>
                          <a:pt x="5541" y="13674"/>
                          <a:pt x="5553" y="13671"/>
                          <a:pt x="5562" y="13667"/>
                        </a:cubicBezTo>
                        <a:cubicBezTo>
                          <a:pt x="5937" y="13507"/>
                          <a:pt x="6385" y="13364"/>
                          <a:pt x="6893" y="13244"/>
                        </a:cubicBezTo>
                        <a:cubicBezTo>
                          <a:pt x="6901" y="13242"/>
                          <a:pt x="6908" y="13240"/>
                          <a:pt x="6914" y="13238"/>
                        </a:cubicBezTo>
                        <a:cubicBezTo>
                          <a:pt x="7435" y="13117"/>
                          <a:pt x="8016" y="13018"/>
                          <a:pt x="8640" y="12948"/>
                        </a:cubicBezTo>
                        <a:cubicBezTo>
                          <a:pt x="9318" y="12873"/>
                          <a:pt x="10037" y="12825"/>
                          <a:pt x="10800" y="12825"/>
                        </a:cubicBezTo>
                        <a:cubicBezTo>
                          <a:pt x="11560" y="12825"/>
                          <a:pt x="12279" y="12873"/>
                          <a:pt x="12960" y="12948"/>
                        </a:cubicBezTo>
                        <a:cubicBezTo>
                          <a:pt x="13584" y="13018"/>
                          <a:pt x="14163" y="13117"/>
                          <a:pt x="14686" y="13238"/>
                        </a:cubicBezTo>
                        <a:cubicBezTo>
                          <a:pt x="14692" y="13240"/>
                          <a:pt x="14697" y="13242"/>
                          <a:pt x="14705" y="13244"/>
                        </a:cubicBezTo>
                        <a:cubicBezTo>
                          <a:pt x="15214" y="13364"/>
                          <a:pt x="15662" y="13507"/>
                          <a:pt x="16038" y="13667"/>
                        </a:cubicBezTo>
                        <a:cubicBezTo>
                          <a:pt x="16044" y="13671"/>
                          <a:pt x="16057" y="13674"/>
                          <a:pt x="16066" y="13677"/>
                        </a:cubicBezTo>
                        <a:cubicBezTo>
                          <a:pt x="16414" y="13829"/>
                          <a:pt x="16677" y="13998"/>
                          <a:pt x="16883" y="14176"/>
                        </a:cubicBezTo>
                        <a:cubicBezTo>
                          <a:pt x="16923" y="14210"/>
                          <a:pt x="16954" y="14246"/>
                          <a:pt x="16988" y="14281"/>
                        </a:cubicBezTo>
                        <a:cubicBezTo>
                          <a:pt x="17161" y="14462"/>
                          <a:pt x="17280" y="14650"/>
                          <a:pt x="17280" y="14850"/>
                        </a:cubicBezTo>
                        <a:cubicBezTo>
                          <a:pt x="17280" y="15047"/>
                          <a:pt x="17161" y="15236"/>
                          <a:pt x="16988" y="15416"/>
                        </a:cubicBezTo>
                        <a:moveTo>
                          <a:pt x="12960" y="19575"/>
                        </a:moveTo>
                        <a:cubicBezTo>
                          <a:pt x="12960" y="19948"/>
                          <a:pt x="11992" y="20249"/>
                          <a:pt x="10800" y="20249"/>
                        </a:cubicBezTo>
                        <a:cubicBezTo>
                          <a:pt x="9606" y="20249"/>
                          <a:pt x="8640" y="19948"/>
                          <a:pt x="8640" y="19575"/>
                        </a:cubicBezTo>
                        <a:lnTo>
                          <a:pt x="8640" y="18156"/>
                        </a:lnTo>
                        <a:cubicBezTo>
                          <a:pt x="9338" y="18201"/>
                          <a:pt x="10059" y="18225"/>
                          <a:pt x="10800" y="18225"/>
                        </a:cubicBezTo>
                        <a:cubicBezTo>
                          <a:pt x="11541" y="18225"/>
                          <a:pt x="12262" y="18201"/>
                          <a:pt x="12960" y="18156"/>
                        </a:cubicBezTo>
                        <a:cubicBezTo>
                          <a:pt x="12960" y="18156"/>
                          <a:pt x="12960" y="19575"/>
                          <a:pt x="12960" y="19575"/>
                        </a:cubicBezTo>
                        <a:close/>
                        <a:moveTo>
                          <a:pt x="8640" y="2025"/>
                        </a:moveTo>
                        <a:cubicBezTo>
                          <a:pt x="8640" y="1651"/>
                          <a:pt x="9606" y="1350"/>
                          <a:pt x="10800" y="1350"/>
                        </a:cubicBezTo>
                        <a:cubicBezTo>
                          <a:pt x="11992" y="1350"/>
                          <a:pt x="12960" y="1651"/>
                          <a:pt x="12960" y="2025"/>
                        </a:cubicBezTo>
                        <a:lnTo>
                          <a:pt x="12960" y="11542"/>
                        </a:lnTo>
                        <a:cubicBezTo>
                          <a:pt x="12262" y="11498"/>
                          <a:pt x="11541" y="11475"/>
                          <a:pt x="10800" y="11475"/>
                        </a:cubicBezTo>
                        <a:cubicBezTo>
                          <a:pt x="10059" y="11475"/>
                          <a:pt x="9338" y="11498"/>
                          <a:pt x="8640" y="11542"/>
                        </a:cubicBezTo>
                        <a:cubicBezTo>
                          <a:pt x="8640" y="11542"/>
                          <a:pt x="8640" y="2025"/>
                          <a:pt x="8640" y="2025"/>
                        </a:cubicBezTo>
                        <a:close/>
                        <a:moveTo>
                          <a:pt x="17280" y="12164"/>
                        </a:moveTo>
                        <a:lnTo>
                          <a:pt x="17280" y="2025"/>
                        </a:lnTo>
                        <a:cubicBezTo>
                          <a:pt x="17280" y="908"/>
                          <a:pt x="14373" y="0"/>
                          <a:pt x="10800" y="0"/>
                        </a:cubicBezTo>
                        <a:cubicBezTo>
                          <a:pt x="7225" y="0"/>
                          <a:pt x="4320" y="908"/>
                          <a:pt x="4320" y="2025"/>
                        </a:cubicBezTo>
                        <a:lnTo>
                          <a:pt x="4320" y="12164"/>
                        </a:lnTo>
                        <a:cubicBezTo>
                          <a:pt x="1710" y="12781"/>
                          <a:pt x="0" y="13749"/>
                          <a:pt x="0" y="14850"/>
                        </a:cubicBezTo>
                        <a:cubicBezTo>
                          <a:pt x="0" y="15950"/>
                          <a:pt x="1710" y="16918"/>
                          <a:pt x="4320" y="17534"/>
                        </a:cubicBezTo>
                        <a:lnTo>
                          <a:pt x="4320" y="19575"/>
                        </a:lnTo>
                        <a:cubicBezTo>
                          <a:pt x="4320" y="20691"/>
                          <a:pt x="7225" y="21599"/>
                          <a:pt x="10800" y="21599"/>
                        </a:cubicBezTo>
                        <a:cubicBezTo>
                          <a:pt x="14373" y="21599"/>
                          <a:pt x="17280" y="20691"/>
                          <a:pt x="17280" y="19575"/>
                        </a:cubicBezTo>
                        <a:lnTo>
                          <a:pt x="17280" y="17534"/>
                        </a:lnTo>
                        <a:cubicBezTo>
                          <a:pt x="19889" y="16918"/>
                          <a:pt x="21600" y="15950"/>
                          <a:pt x="21600" y="14850"/>
                        </a:cubicBezTo>
                        <a:cubicBezTo>
                          <a:pt x="21600" y="13749"/>
                          <a:pt x="19889" y="12781"/>
                          <a:pt x="17280" y="12164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4" name="Shape 472"/>
              <p:cNvSpPr/>
              <p:nvPr/>
            </p:nvSpPr>
            <p:spPr>
              <a:xfrm>
                <a:off x="7384680" y="3757320"/>
                <a:ext cx="68040" cy="243000"/>
              </a:xfrm>
              <a:prstGeom prst="rect">
                <a:avLst/>
              </a:prstGeom>
              <a:solidFill>
                <a:srgbClr val="5b9bd5"/>
              </a:solidFill>
              <a:ln w="255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tabLst>
                    <a:tab algn="l" pos="0"/>
                    <a:tab algn="l" pos="219240"/>
                    <a:tab algn="l" pos="438120"/>
                    <a:tab algn="l" pos="657360"/>
                    <a:tab algn="l" pos="876240"/>
                    <a:tab algn="l" pos="1095480"/>
                    <a:tab algn="l" pos="1314360"/>
                    <a:tab algn="l" pos="1533600"/>
                    <a:tab algn="l" pos="1752480"/>
                    <a:tab algn="l" pos="1971720"/>
                    <a:tab algn="l" pos="2190600"/>
                    <a:tab algn="l" pos="2409840"/>
                    <a:tab algn="l" pos="2629080"/>
                    <a:tab algn="l" pos="2847960"/>
                    <a:tab algn="l" pos="3067200"/>
                    <a:tab algn="l" pos="3286080"/>
                    <a:tab algn="l" pos="3505320"/>
                    <a:tab algn="l" pos="3724200"/>
                    <a:tab algn="l" pos="3943440"/>
                    <a:tab algn="l" pos="4162320"/>
                    <a:tab algn="l" pos="438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Shape 473"/>
              <p:cNvSpPr/>
              <p:nvPr/>
            </p:nvSpPr>
            <p:spPr>
              <a:xfrm>
                <a:off x="7378200" y="3876480"/>
                <a:ext cx="838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46"/>
              <p:cNvSpPr/>
              <p:nvPr/>
            </p:nvSpPr>
            <p:spPr>
              <a:xfrm>
                <a:off x="7322760" y="370656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874" y="17549"/>
                    </a:moveTo>
                    <a:cubicBezTo>
                      <a:pt x="15513" y="17549"/>
                      <a:pt x="14343" y="15612"/>
                      <a:pt x="13809" y="12825"/>
                    </a:cubicBezTo>
                    <a:lnTo>
                      <a:pt x="15524" y="12825"/>
                    </a:lnTo>
                    <a:cubicBezTo>
                      <a:pt x="17038" y="12825"/>
                      <a:pt x="18224" y="11343"/>
                      <a:pt x="18224" y="9450"/>
                    </a:cubicBezTo>
                    <a:cubicBezTo>
                      <a:pt x="18224" y="7558"/>
                      <a:pt x="17038" y="6075"/>
                      <a:pt x="15524" y="6075"/>
                    </a:cubicBezTo>
                    <a:lnTo>
                      <a:pt x="13809" y="6075"/>
                    </a:lnTo>
                    <a:cubicBezTo>
                      <a:pt x="14343" y="3289"/>
                      <a:pt x="15513" y="1350"/>
                      <a:pt x="16874" y="1350"/>
                    </a:cubicBezTo>
                    <a:cubicBezTo>
                      <a:pt x="18739" y="1350"/>
                      <a:pt x="20249" y="4976"/>
                      <a:pt x="20249" y="9450"/>
                    </a:cubicBezTo>
                    <a:cubicBezTo>
                      <a:pt x="20249" y="13923"/>
                      <a:pt x="18739" y="17549"/>
                      <a:pt x="16874" y="17549"/>
                    </a:cubicBezTo>
                    <a:moveTo>
                      <a:pt x="8926" y="11482"/>
                    </a:moveTo>
                    <a:lnTo>
                      <a:pt x="8774" y="11482"/>
                    </a:lnTo>
                    <a:lnTo>
                      <a:pt x="8774" y="11475"/>
                    </a:lnTo>
                    <a:cubicBezTo>
                      <a:pt x="8028" y="11475"/>
                      <a:pt x="7424" y="10569"/>
                      <a:pt x="7424" y="9450"/>
                    </a:cubicBezTo>
                    <a:cubicBezTo>
                      <a:pt x="7424" y="8332"/>
                      <a:pt x="8028" y="7425"/>
                      <a:pt x="8774" y="7425"/>
                    </a:cubicBezTo>
                    <a:lnTo>
                      <a:pt x="8926" y="7425"/>
                    </a:lnTo>
                    <a:cubicBezTo>
                      <a:pt x="10200" y="7425"/>
                      <a:pt x="11391" y="6924"/>
                      <a:pt x="12441" y="6063"/>
                    </a:cubicBezTo>
                    <a:cubicBezTo>
                      <a:pt x="12248" y="7149"/>
                      <a:pt x="12149" y="8300"/>
                      <a:pt x="12149" y="9450"/>
                    </a:cubicBezTo>
                    <a:cubicBezTo>
                      <a:pt x="12149" y="10603"/>
                      <a:pt x="12248" y="11758"/>
                      <a:pt x="12442" y="12846"/>
                    </a:cubicBezTo>
                    <a:cubicBezTo>
                      <a:pt x="11393" y="11983"/>
                      <a:pt x="10200" y="11482"/>
                      <a:pt x="8926" y="11482"/>
                    </a:cubicBezTo>
                    <a:moveTo>
                      <a:pt x="8096" y="20249"/>
                    </a:moveTo>
                    <a:lnTo>
                      <a:pt x="5396" y="20249"/>
                    </a:lnTo>
                    <a:lnTo>
                      <a:pt x="5396" y="14175"/>
                    </a:lnTo>
                    <a:cubicBezTo>
                      <a:pt x="5396" y="13683"/>
                      <a:pt x="5264" y="13223"/>
                      <a:pt x="5033" y="12825"/>
                    </a:cubicBezTo>
                    <a:lnTo>
                      <a:pt x="5505" y="12825"/>
                    </a:lnTo>
                    <a:lnTo>
                      <a:pt x="5505" y="12832"/>
                    </a:lnTo>
                    <a:lnTo>
                      <a:pt x="7535" y="12832"/>
                    </a:lnTo>
                    <a:cubicBezTo>
                      <a:pt x="7463" y="13042"/>
                      <a:pt x="7421" y="13265"/>
                      <a:pt x="7421" y="13500"/>
                    </a:cubicBezTo>
                    <a:lnTo>
                      <a:pt x="7421" y="18225"/>
                    </a:lnTo>
                    <a:cubicBezTo>
                      <a:pt x="7421" y="18874"/>
                      <a:pt x="7784" y="19307"/>
                      <a:pt x="8001" y="19565"/>
                    </a:cubicBezTo>
                    <a:cubicBezTo>
                      <a:pt x="8031" y="19601"/>
                      <a:pt x="8065" y="19638"/>
                      <a:pt x="8096" y="19677"/>
                    </a:cubicBezTo>
                    <a:cubicBezTo>
                      <a:pt x="8096" y="19677"/>
                      <a:pt x="8096" y="20249"/>
                      <a:pt x="8096" y="20249"/>
                    </a:cubicBezTo>
                    <a:close/>
                    <a:moveTo>
                      <a:pt x="1349" y="9450"/>
                    </a:moveTo>
                    <a:cubicBezTo>
                      <a:pt x="1349" y="8332"/>
                      <a:pt x="1953" y="7425"/>
                      <a:pt x="2699" y="7425"/>
                    </a:cubicBezTo>
                    <a:lnTo>
                      <a:pt x="7434" y="7425"/>
                    </a:lnTo>
                    <a:cubicBezTo>
                      <a:pt x="7014" y="7916"/>
                      <a:pt x="6749" y="8631"/>
                      <a:pt x="6749" y="9450"/>
                    </a:cubicBezTo>
                    <a:cubicBezTo>
                      <a:pt x="6749" y="10270"/>
                      <a:pt x="7014" y="10984"/>
                      <a:pt x="7434" y="11475"/>
                    </a:cubicBezTo>
                    <a:lnTo>
                      <a:pt x="2699" y="11475"/>
                    </a:lnTo>
                    <a:cubicBezTo>
                      <a:pt x="1953" y="11475"/>
                      <a:pt x="1349" y="10569"/>
                      <a:pt x="1349" y="9450"/>
                    </a:cubicBezTo>
                    <a:moveTo>
                      <a:pt x="13499" y="9450"/>
                    </a:moveTo>
                    <a:cubicBezTo>
                      <a:pt x="13499" y="8749"/>
                      <a:pt x="13540" y="8073"/>
                      <a:pt x="13610" y="7425"/>
                    </a:cubicBezTo>
                    <a:lnTo>
                      <a:pt x="15524" y="7425"/>
                    </a:lnTo>
                    <a:cubicBezTo>
                      <a:pt x="16269" y="7425"/>
                      <a:pt x="16874" y="8332"/>
                      <a:pt x="16874" y="9450"/>
                    </a:cubicBezTo>
                    <a:cubicBezTo>
                      <a:pt x="16874" y="10569"/>
                      <a:pt x="16269" y="11475"/>
                      <a:pt x="15524" y="11475"/>
                    </a:cubicBezTo>
                    <a:lnTo>
                      <a:pt x="13610" y="11475"/>
                    </a:lnTo>
                    <a:cubicBezTo>
                      <a:pt x="13540" y="10826"/>
                      <a:pt x="13499" y="10151"/>
                      <a:pt x="13499" y="9450"/>
                    </a:cubicBezTo>
                    <a:moveTo>
                      <a:pt x="16874" y="0"/>
                    </a:moveTo>
                    <a:cubicBezTo>
                      <a:pt x="15489" y="0"/>
                      <a:pt x="14400" y="951"/>
                      <a:pt x="13618" y="2420"/>
                    </a:cubicBezTo>
                    <a:lnTo>
                      <a:pt x="13604" y="2412"/>
                    </a:lnTo>
                    <a:cubicBezTo>
                      <a:pt x="12469" y="4635"/>
                      <a:pt x="10778" y="6075"/>
                      <a:pt x="8926" y="6075"/>
                    </a:cubicBezTo>
                    <a:lnTo>
                      <a:pt x="8479" y="6075"/>
                    </a:lnTo>
                    <a:lnTo>
                      <a:pt x="5505" y="6075"/>
                    </a:lnTo>
                    <a:lnTo>
                      <a:pt x="2699" y="6075"/>
                    </a:lnTo>
                    <a:cubicBezTo>
                      <a:pt x="1185" y="6075"/>
                      <a:pt x="0" y="7558"/>
                      <a:pt x="0" y="9450"/>
                    </a:cubicBezTo>
                    <a:cubicBezTo>
                      <a:pt x="0" y="11343"/>
                      <a:pt x="1185" y="12825"/>
                      <a:pt x="2699" y="12825"/>
                    </a:cubicBezTo>
                    <a:cubicBezTo>
                      <a:pt x="3443" y="12827"/>
                      <a:pt x="4046" y="13430"/>
                      <a:pt x="4046" y="14175"/>
                    </a:cubicBezTo>
                    <a:lnTo>
                      <a:pt x="4046" y="20249"/>
                    </a:lnTo>
                    <a:cubicBezTo>
                      <a:pt x="4046" y="20996"/>
                      <a:pt x="4651" y="21599"/>
                      <a:pt x="5396" y="21599"/>
                    </a:cubicBezTo>
                    <a:lnTo>
                      <a:pt x="8096" y="21599"/>
                    </a:lnTo>
                    <a:cubicBezTo>
                      <a:pt x="8842" y="21599"/>
                      <a:pt x="9446" y="20996"/>
                      <a:pt x="9446" y="20249"/>
                    </a:cubicBezTo>
                    <a:lnTo>
                      <a:pt x="9446" y="19575"/>
                    </a:lnTo>
                    <a:cubicBezTo>
                      <a:pt x="9446" y="18900"/>
                      <a:pt x="8771" y="18598"/>
                      <a:pt x="8771" y="18225"/>
                    </a:cubicBezTo>
                    <a:lnTo>
                      <a:pt x="8771" y="13500"/>
                    </a:lnTo>
                    <a:cubicBezTo>
                      <a:pt x="8771" y="13484"/>
                      <a:pt x="8781" y="13473"/>
                      <a:pt x="8782" y="13458"/>
                    </a:cubicBezTo>
                    <a:cubicBezTo>
                      <a:pt x="8789" y="13361"/>
                      <a:pt x="8815" y="13271"/>
                      <a:pt x="8859" y="13191"/>
                    </a:cubicBezTo>
                    <a:cubicBezTo>
                      <a:pt x="8871" y="13169"/>
                      <a:pt x="8884" y="13151"/>
                      <a:pt x="8898" y="13132"/>
                    </a:cubicBezTo>
                    <a:cubicBezTo>
                      <a:pt x="8952" y="13051"/>
                      <a:pt x="9020" y="12985"/>
                      <a:pt x="9103" y="12934"/>
                    </a:cubicBezTo>
                    <a:cubicBezTo>
                      <a:pt x="9107" y="12931"/>
                      <a:pt x="9108" y="12927"/>
                      <a:pt x="9112" y="12925"/>
                    </a:cubicBezTo>
                    <a:cubicBezTo>
                      <a:pt x="9115" y="12925"/>
                      <a:pt x="9117" y="12922"/>
                      <a:pt x="9120" y="12922"/>
                    </a:cubicBezTo>
                    <a:cubicBezTo>
                      <a:pt x="9174" y="12892"/>
                      <a:pt x="9238" y="12885"/>
                      <a:pt x="9299" y="12868"/>
                    </a:cubicBezTo>
                    <a:cubicBezTo>
                      <a:pt x="11003" y="13049"/>
                      <a:pt x="12545" y="14424"/>
                      <a:pt x="13604" y="16495"/>
                    </a:cubicBezTo>
                    <a:lnTo>
                      <a:pt x="13621" y="16487"/>
                    </a:lnTo>
                    <a:cubicBezTo>
                      <a:pt x="14404" y="17950"/>
                      <a:pt x="15490" y="18900"/>
                      <a:pt x="16874" y="18900"/>
                    </a:cubicBezTo>
                    <a:cubicBezTo>
                      <a:pt x="19977" y="18900"/>
                      <a:pt x="21600" y="14145"/>
                      <a:pt x="21600" y="9450"/>
                    </a:cubicBezTo>
                    <a:cubicBezTo>
                      <a:pt x="21600" y="4754"/>
                      <a:pt x="19977" y="0"/>
                      <a:pt x="1687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7"/>
              <p:cNvSpPr/>
              <p:nvPr/>
            </p:nvSpPr>
            <p:spPr>
              <a:xfrm flipH="1">
                <a:off x="7467120" y="3894120"/>
                <a:ext cx="26640" cy="3312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0" y="4"/>
                      <a:pt x="10" y="10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8"/>
                      <a:pt x="13" y="17"/>
                      <a:pt x="14" y="17"/>
                    </a:cubicBezTo>
                    <a:cubicBezTo>
                      <a:pt x="24" y="17"/>
                      <a:pt x="33" y="26"/>
                      <a:pt x="33" y="37"/>
                    </a:cubicBezTo>
                    <a:cubicBezTo>
                      <a:pt x="33" y="41"/>
                      <a:pt x="32" y="45"/>
                      <a:pt x="29" y="48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53" y="64"/>
                      <a:pt x="53" y="64"/>
                      <a:pt x="53" y="64"/>
                    </a:cubicBezTo>
                    <a:cubicBezTo>
                      <a:pt x="58" y="64"/>
                      <a:pt x="63" y="59"/>
                      <a:pt x="63" y="54"/>
                    </a:cubicBezTo>
                    <a:cubicBezTo>
                      <a:pt x="63" y="20"/>
                      <a:pt x="63" y="20"/>
                      <a:pt x="63" y="20"/>
                    </a:cubicBezTo>
                    <a:lnTo>
                      <a:pt x="43" y="0"/>
                    </a:lnTo>
                    <a:close/>
                    <a:moveTo>
                      <a:pt x="50" y="24"/>
                    </a:moveTo>
                    <a:cubicBezTo>
                      <a:pt x="44" y="24"/>
                      <a:pt x="39" y="19"/>
                      <a:pt x="39" y="13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6"/>
                      <a:pt x="47" y="20"/>
                      <a:pt x="53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62" y="24"/>
                      <a:pt x="62" y="24"/>
                      <a:pt x="62" y="24"/>
                    </a:cubicBezTo>
                    <a:lnTo>
                      <a:pt x="50" y="24"/>
                    </a:lnTo>
                    <a:close/>
                    <a:moveTo>
                      <a:pt x="4" y="52"/>
                    </a:moveTo>
                    <a:cubicBezTo>
                      <a:pt x="4" y="73"/>
                      <a:pt x="4" y="73"/>
                      <a:pt x="4" y="73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21" y="54"/>
                      <a:pt x="17" y="55"/>
                      <a:pt x="14" y="55"/>
                    </a:cubicBezTo>
                    <a:cubicBezTo>
                      <a:pt x="10" y="55"/>
                      <a:pt x="7" y="54"/>
                      <a:pt x="4" y="52"/>
                    </a:cubicBezTo>
                    <a:close/>
                    <a:moveTo>
                      <a:pt x="14" y="23"/>
                    </a:moveTo>
                    <a:cubicBezTo>
                      <a:pt x="6" y="23"/>
                      <a:pt x="0" y="29"/>
                      <a:pt x="0" y="37"/>
                    </a:cubicBezTo>
                    <a:cubicBezTo>
                      <a:pt x="0" y="44"/>
                      <a:pt x="6" y="50"/>
                      <a:pt x="14" y="50"/>
                    </a:cubicBezTo>
                    <a:cubicBezTo>
                      <a:pt x="21" y="50"/>
                      <a:pt x="27" y="44"/>
                      <a:pt x="27" y="37"/>
                    </a:cubicBezTo>
                    <a:cubicBezTo>
                      <a:pt x="27" y="29"/>
                      <a:pt x="21" y="23"/>
                      <a:pt x="14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Shape 1490"/>
              <p:cNvSpPr/>
              <p:nvPr/>
            </p:nvSpPr>
            <p:spPr>
              <a:xfrm>
                <a:off x="7405200" y="38336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817" y="0"/>
                    </a:lnTo>
                    <a:lnTo>
                      <a:pt x="9817" y="9816"/>
                    </a:lnTo>
                    <a:lnTo>
                      <a:pt x="0" y="9816"/>
                    </a:lnTo>
                    <a:lnTo>
                      <a:pt x="0" y="0"/>
                    </a:lnTo>
                    <a:close/>
                    <a:moveTo>
                      <a:pt x="0" y="11784"/>
                    </a:moveTo>
                    <a:lnTo>
                      <a:pt x="9817" y="11784"/>
                    </a:lnTo>
                    <a:lnTo>
                      <a:pt x="9817" y="21600"/>
                    </a:lnTo>
                    <a:lnTo>
                      <a:pt x="0" y="21600"/>
                    </a:lnTo>
                    <a:lnTo>
                      <a:pt x="0" y="11784"/>
                    </a:lnTo>
                    <a:close/>
                    <a:moveTo>
                      <a:pt x="1956" y="7859"/>
                    </a:moveTo>
                    <a:lnTo>
                      <a:pt x="7861" y="7859"/>
                    </a:lnTo>
                    <a:lnTo>
                      <a:pt x="7861" y="1951"/>
                    </a:lnTo>
                    <a:lnTo>
                      <a:pt x="1956" y="1951"/>
                    </a:lnTo>
                    <a:lnTo>
                      <a:pt x="1956" y="7859"/>
                    </a:lnTo>
                    <a:close/>
                    <a:moveTo>
                      <a:pt x="1956" y="19646"/>
                    </a:moveTo>
                    <a:lnTo>
                      <a:pt x="7861" y="19646"/>
                    </a:lnTo>
                    <a:lnTo>
                      <a:pt x="7861" y="13738"/>
                    </a:lnTo>
                    <a:lnTo>
                      <a:pt x="1956" y="13738"/>
                    </a:lnTo>
                    <a:lnTo>
                      <a:pt x="1956" y="19646"/>
                    </a:lnTo>
                    <a:close/>
                    <a:moveTo>
                      <a:pt x="3925" y="3949"/>
                    </a:moveTo>
                    <a:lnTo>
                      <a:pt x="5907" y="3949"/>
                    </a:lnTo>
                    <a:lnTo>
                      <a:pt x="5907" y="5905"/>
                    </a:lnTo>
                    <a:lnTo>
                      <a:pt x="3925" y="5905"/>
                    </a:lnTo>
                    <a:lnTo>
                      <a:pt x="3925" y="3949"/>
                    </a:lnTo>
                    <a:close/>
                    <a:moveTo>
                      <a:pt x="3925" y="15695"/>
                    </a:moveTo>
                    <a:lnTo>
                      <a:pt x="5907" y="15695"/>
                    </a:lnTo>
                    <a:lnTo>
                      <a:pt x="5907" y="17678"/>
                    </a:lnTo>
                    <a:lnTo>
                      <a:pt x="3925" y="17678"/>
                    </a:lnTo>
                    <a:lnTo>
                      <a:pt x="3925" y="15695"/>
                    </a:lnTo>
                    <a:close/>
                    <a:moveTo>
                      <a:pt x="21600" y="9816"/>
                    </a:moveTo>
                    <a:lnTo>
                      <a:pt x="11783" y="9816"/>
                    </a:lnTo>
                    <a:lnTo>
                      <a:pt x="11783" y="0"/>
                    </a:lnTo>
                    <a:lnTo>
                      <a:pt x="21600" y="0"/>
                    </a:lnTo>
                    <a:lnTo>
                      <a:pt x="21600" y="9816"/>
                    </a:lnTo>
                    <a:close/>
                    <a:moveTo>
                      <a:pt x="19644" y="11784"/>
                    </a:moveTo>
                    <a:lnTo>
                      <a:pt x="21600" y="11784"/>
                    </a:lnTo>
                    <a:lnTo>
                      <a:pt x="21600" y="17678"/>
                    </a:lnTo>
                    <a:lnTo>
                      <a:pt x="15693" y="17678"/>
                    </a:lnTo>
                    <a:lnTo>
                      <a:pt x="15693" y="15724"/>
                    </a:lnTo>
                    <a:lnTo>
                      <a:pt x="13739" y="15724"/>
                    </a:lnTo>
                    <a:lnTo>
                      <a:pt x="13739" y="21600"/>
                    </a:lnTo>
                    <a:lnTo>
                      <a:pt x="11783" y="21600"/>
                    </a:lnTo>
                    <a:lnTo>
                      <a:pt x="11783" y="11784"/>
                    </a:lnTo>
                    <a:lnTo>
                      <a:pt x="17646" y="11784"/>
                    </a:lnTo>
                    <a:lnTo>
                      <a:pt x="17646" y="13738"/>
                    </a:lnTo>
                    <a:lnTo>
                      <a:pt x="19644" y="13738"/>
                    </a:lnTo>
                    <a:lnTo>
                      <a:pt x="19644" y="11784"/>
                    </a:lnTo>
                    <a:close/>
                    <a:moveTo>
                      <a:pt x="19644" y="1954"/>
                    </a:moveTo>
                    <a:lnTo>
                      <a:pt x="13739" y="1954"/>
                    </a:lnTo>
                    <a:lnTo>
                      <a:pt x="13739" y="7862"/>
                    </a:lnTo>
                    <a:lnTo>
                      <a:pt x="19644" y="7862"/>
                    </a:lnTo>
                    <a:lnTo>
                      <a:pt x="19644" y="1954"/>
                    </a:lnTo>
                    <a:close/>
                    <a:moveTo>
                      <a:pt x="17646" y="5905"/>
                    </a:moveTo>
                    <a:lnTo>
                      <a:pt x="15693" y="5905"/>
                    </a:lnTo>
                    <a:lnTo>
                      <a:pt x="15693" y="3949"/>
                    </a:lnTo>
                    <a:lnTo>
                      <a:pt x="17646" y="3949"/>
                    </a:lnTo>
                    <a:lnTo>
                      <a:pt x="17646" y="5905"/>
                    </a:lnTo>
                    <a:close/>
                    <a:moveTo>
                      <a:pt x="15693" y="19646"/>
                    </a:moveTo>
                    <a:lnTo>
                      <a:pt x="17646" y="19646"/>
                    </a:lnTo>
                    <a:lnTo>
                      <a:pt x="17646" y="21600"/>
                    </a:lnTo>
                    <a:lnTo>
                      <a:pt x="15693" y="21600"/>
                    </a:lnTo>
                    <a:lnTo>
                      <a:pt x="15693" y="19646"/>
                    </a:lnTo>
                    <a:close/>
                    <a:moveTo>
                      <a:pt x="19644" y="19646"/>
                    </a:moveTo>
                    <a:lnTo>
                      <a:pt x="21600" y="19646"/>
                    </a:lnTo>
                    <a:lnTo>
                      <a:pt x="21600" y="21600"/>
                    </a:lnTo>
                    <a:lnTo>
                      <a:pt x="19644" y="21600"/>
                    </a:lnTo>
                    <a:lnTo>
                      <a:pt x="19644" y="196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Группа 54"/>
              <p:cNvGrpSpPr/>
              <p:nvPr/>
            </p:nvGrpSpPr>
            <p:grpSpPr>
              <a:xfrm>
                <a:off x="7651080" y="3996000"/>
                <a:ext cx="313920" cy="91800"/>
                <a:chOff x="7651080" y="3996000"/>
                <a:chExt cx="313920" cy="91800"/>
              </a:xfrm>
            </p:grpSpPr>
            <p:grpSp>
              <p:nvGrpSpPr>
                <p:cNvPr id="720" name="Group 466"/>
                <p:cNvGrpSpPr/>
                <p:nvPr/>
              </p:nvGrpSpPr>
              <p:grpSpPr>
                <a:xfrm>
                  <a:off x="7651080" y="3996000"/>
                  <a:ext cx="181080" cy="91800"/>
                  <a:chOff x="7651080" y="3996000"/>
                  <a:chExt cx="181080" cy="91800"/>
                </a:xfrm>
              </p:grpSpPr>
              <p:sp>
                <p:nvSpPr>
                  <p:cNvPr id="721" name="Shape 462"/>
                  <p:cNvSpPr/>
                  <p:nvPr/>
                </p:nvSpPr>
                <p:spPr>
                  <a:xfrm>
                    <a:off x="7651080" y="3996000"/>
                    <a:ext cx="181080" cy="66600"/>
                  </a:xfrm>
                  <a:prstGeom prst="rect">
                    <a:avLst/>
                  </a:prstGeom>
                  <a:solidFill>
                    <a:srgbClr val="a5a5a5"/>
                  </a:solidFill>
                  <a:ln w="25560">
                    <a:solidFill>
                      <a:srgbClr val="000000">
                        <a:alpha val="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>
                      <a:tabLst>
                        <a:tab algn="l" pos="0"/>
                        <a:tab algn="l" pos="219240"/>
                        <a:tab algn="l" pos="438120"/>
                        <a:tab algn="l" pos="657360"/>
                        <a:tab algn="l" pos="876240"/>
                        <a:tab algn="l" pos="1095480"/>
                        <a:tab algn="l" pos="1314360"/>
                        <a:tab algn="l" pos="1533600"/>
                        <a:tab algn="l" pos="1752480"/>
                        <a:tab algn="l" pos="1971720"/>
                        <a:tab algn="l" pos="2190600"/>
                        <a:tab algn="l" pos="2409840"/>
                        <a:tab algn="l" pos="2629080"/>
                        <a:tab algn="l" pos="2847960"/>
                        <a:tab algn="l" pos="3067200"/>
                        <a:tab algn="l" pos="3286080"/>
                        <a:tab algn="l" pos="3505320"/>
                        <a:tab algn="l" pos="3724200"/>
                        <a:tab algn="l" pos="3943440"/>
                        <a:tab algn="l" pos="4162320"/>
                        <a:tab algn="l" pos="438156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Shape 463"/>
                  <p:cNvSpPr/>
                  <p:nvPr/>
                </p:nvSpPr>
                <p:spPr>
                  <a:xfrm>
                    <a:off x="7674840" y="4011840"/>
                    <a:ext cx="15732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25560" rIns="25560" tIns="25560" bIns="25560" anchor="ctr">
                    <a:sp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Shape 465"/>
                  <p:cNvSpPr/>
                  <p:nvPr/>
                </p:nvSpPr>
                <p:spPr>
                  <a:xfrm>
                    <a:off x="7655760" y="4011840"/>
                    <a:ext cx="205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6302" y="0"/>
                        </a:moveTo>
                        <a:cubicBezTo>
                          <a:pt x="16819" y="0"/>
                          <a:pt x="17289" y="191"/>
                          <a:pt x="17720" y="567"/>
                        </a:cubicBezTo>
                        <a:cubicBezTo>
                          <a:pt x="18151" y="943"/>
                          <a:pt x="18442" y="1424"/>
                          <a:pt x="18599" y="2015"/>
                        </a:cubicBezTo>
                        <a:lnTo>
                          <a:pt x="21387" y="12236"/>
                        </a:lnTo>
                        <a:cubicBezTo>
                          <a:pt x="21436" y="12454"/>
                          <a:pt x="21483" y="12665"/>
                          <a:pt x="21531" y="12874"/>
                        </a:cubicBezTo>
                        <a:cubicBezTo>
                          <a:pt x="21576" y="13088"/>
                          <a:pt x="21600" y="13299"/>
                          <a:pt x="21600" y="13517"/>
                        </a:cubicBezTo>
                        <a:lnTo>
                          <a:pt x="21600" y="18886"/>
                        </a:lnTo>
                        <a:cubicBezTo>
                          <a:pt x="21600" y="19271"/>
                          <a:pt x="21541" y="19626"/>
                          <a:pt x="21419" y="19955"/>
                        </a:cubicBezTo>
                        <a:cubicBezTo>
                          <a:pt x="21296" y="20284"/>
                          <a:pt x="21140" y="20566"/>
                          <a:pt x="20939" y="20807"/>
                        </a:cubicBezTo>
                        <a:cubicBezTo>
                          <a:pt x="20736" y="21045"/>
                          <a:pt x="20501" y="21239"/>
                          <a:pt x="20224" y="21383"/>
                        </a:cubicBezTo>
                        <a:cubicBezTo>
                          <a:pt x="19945" y="21529"/>
                          <a:pt x="19654" y="21600"/>
                          <a:pt x="19350" y="21600"/>
                        </a:cubicBezTo>
                        <a:lnTo>
                          <a:pt x="2262" y="21600"/>
                        </a:lnTo>
                        <a:cubicBezTo>
                          <a:pt x="1638" y="21600"/>
                          <a:pt x="1104" y="21336"/>
                          <a:pt x="663" y="20807"/>
                        </a:cubicBezTo>
                        <a:cubicBezTo>
                          <a:pt x="220" y="20278"/>
                          <a:pt x="0" y="19638"/>
                          <a:pt x="0" y="18886"/>
                        </a:cubicBezTo>
                        <a:lnTo>
                          <a:pt x="0" y="13517"/>
                        </a:lnTo>
                        <a:cubicBezTo>
                          <a:pt x="0" y="13300"/>
                          <a:pt x="24" y="13088"/>
                          <a:pt x="71" y="12874"/>
                        </a:cubicBezTo>
                        <a:cubicBezTo>
                          <a:pt x="120" y="12665"/>
                          <a:pt x="164" y="12451"/>
                          <a:pt x="211" y="12236"/>
                        </a:cubicBezTo>
                        <a:lnTo>
                          <a:pt x="2999" y="2015"/>
                        </a:lnTo>
                        <a:cubicBezTo>
                          <a:pt x="3156" y="1425"/>
                          <a:pt x="3452" y="943"/>
                          <a:pt x="3888" y="567"/>
                        </a:cubicBezTo>
                        <a:cubicBezTo>
                          <a:pt x="4316" y="191"/>
                          <a:pt x="4796" y="0"/>
                          <a:pt x="5310" y="0"/>
                        </a:cubicBezTo>
                        <a:lnTo>
                          <a:pt x="16302" y="0"/>
                        </a:lnTo>
                        <a:close/>
                        <a:moveTo>
                          <a:pt x="19808" y="13517"/>
                        </a:moveTo>
                        <a:cubicBezTo>
                          <a:pt x="19808" y="13367"/>
                          <a:pt x="19761" y="13235"/>
                          <a:pt x="19671" y="13129"/>
                        </a:cubicBezTo>
                        <a:cubicBezTo>
                          <a:pt x="19583" y="13020"/>
                          <a:pt x="19475" y="12968"/>
                          <a:pt x="19350" y="12968"/>
                        </a:cubicBezTo>
                        <a:lnTo>
                          <a:pt x="2262" y="12968"/>
                        </a:lnTo>
                        <a:cubicBezTo>
                          <a:pt x="2137" y="12968"/>
                          <a:pt x="2030" y="13017"/>
                          <a:pt x="1941" y="13120"/>
                        </a:cubicBezTo>
                        <a:cubicBezTo>
                          <a:pt x="1851" y="13223"/>
                          <a:pt x="1804" y="13355"/>
                          <a:pt x="1804" y="13517"/>
                        </a:cubicBezTo>
                        <a:lnTo>
                          <a:pt x="1804" y="18886"/>
                        </a:lnTo>
                        <a:cubicBezTo>
                          <a:pt x="1804" y="19036"/>
                          <a:pt x="1848" y="19168"/>
                          <a:pt x="1934" y="19274"/>
                        </a:cubicBezTo>
                        <a:cubicBezTo>
                          <a:pt x="2020" y="19382"/>
                          <a:pt x="2130" y="19438"/>
                          <a:pt x="2262" y="19438"/>
                        </a:cubicBezTo>
                        <a:lnTo>
                          <a:pt x="19350" y="19438"/>
                        </a:lnTo>
                        <a:cubicBezTo>
                          <a:pt x="19475" y="19438"/>
                          <a:pt x="19583" y="19385"/>
                          <a:pt x="19671" y="19282"/>
                        </a:cubicBezTo>
                        <a:cubicBezTo>
                          <a:pt x="19761" y="19180"/>
                          <a:pt x="19808" y="19047"/>
                          <a:pt x="19808" y="18886"/>
                        </a:cubicBezTo>
                        <a:lnTo>
                          <a:pt x="19808" y="13517"/>
                        </a:lnTo>
                        <a:close/>
                        <a:moveTo>
                          <a:pt x="5312" y="2168"/>
                        </a:moveTo>
                        <a:cubicBezTo>
                          <a:pt x="5185" y="2168"/>
                          <a:pt x="5063" y="2212"/>
                          <a:pt x="4940" y="2306"/>
                        </a:cubicBezTo>
                        <a:cubicBezTo>
                          <a:pt x="4823" y="2403"/>
                          <a:pt x="4740" y="2523"/>
                          <a:pt x="4703" y="2673"/>
                        </a:cubicBezTo>
                        <a:lnTo>
                          <a:pt x="2497" y="10800"/>
                        </a:lnTo>
                        <a:lnTo>
                          <a:pt x="19105" y="10800"/>
                        </a:lnTo>
                        <a:lnTo>
                          <a:pt x="16902" y="2673"/>
                        </a:lnTo>
                        <a:cubicBezTo>
                          <a:pt x="16870" y="2523"/>
                          <a:pt x="16794" y="2403"/>
                          <a:pt x="16674" y="2306"/>
                        </a:cubicBezTo>
                        <a:cubicBezTo>
                          <a:pt x="16554" y="2212"/>
                          <a:pt x="16432" y="2168"/>
                          <a:pt x="16305" y="2168"/>
                        </a:cubicBezTo>
                        <a:lnTo>
                          <a:pt x="5312" y="2168"/>
                        </a:lnTo>
                        <a:close/>
                        <a:moveTo>
                          <a:pt x="13511" y="14865"/>
                        </a:moveTo>
                        <a:cubicBezTo>
                          <a:pt x="13817" y="14865"/>
                          <a:pt x="14077" y="14994"/>
                          <a:pt x="14292" y="15253"/>
                        </a:cubicBezTo>
                        <a:cubicBezTo>
                          <a:pt x="14508" y="15511"/>
                          <a:pt x="14613" y="15822"/>
                          <a:pt x="14613" y="16187"/>
                        </a:cubicBezTo>
                        <a:cubicBezTo>
                          <a:pt x="14613" y="16571"/>
                          <a:pt x="14508" y="16891"/>
                          <a:pt x="14292" y="17150"/>
                        </a:cubicBezTo>
                        <a:cubicBezTo>
                          <a:pt x="14077" y="17408"/>
                          <a:pt x="13817" y="17538"/>
                          <a:pt x="13511" y="17538"/>
                        </a:cubicBezTo>
                        <a:cubicBezTo>
                          <a:pt x="13191" y="17538"/>
                          <a:pt x="12924" y="17408"/>
                          <a:pt x="12708" y="17150"/>
                        </a:cubicBezTo>
                        <a:cubicBezTo>
                          <a:pt x="12493" y="16891"/>
                          <a:pt x="12388" y="16571"/>
                          <a:pt x="12388" y="16187"/>
                        </a:cubicBezTo>
                        <a:cubicBezTo>
                          <a:pt x="12388" y="15822"/>
                          <a:pt x="12493" y="15511"/>
                          <a:pt x="12708" y="15253"/>
                        </a:cubicBezTo>
                        <a:cubicBezTo>
                          <a:pt x="12924" y="14994"/>
                          <a:pt x="13191" y="14865"/>
                          <a:pt x="13511" y="14865"/>
                        </a:cubicBezTo>
                        <a:moveTo>
                          <a:pt x="17113" y="14865"/>
                        </a:moveTo>
                        <a:cubicBezTo>
                          <a:pt x="17416" y="14865"/>
                          <a:pt x="17676" y="14994"/>
                          <a:pt x="17891" y="15253"/>
                        </a:cubicBezTo>
                        <a:cubicBezTo>
                          <a:pt x="18104" y="15511"/>
                          <a:pt x="18212" y="15822"/>
                          <a:pt x="18212" y="16187"/>
                        </a:cubicBezTo>
                        <a:cubicBezTo>
                          <a:pt x="18212" y="16571"/>
                          <a:pt x="18104" y="16891"/>
                          <a:pt x="17891" y="17150"/>
                        </a:cubicBezTo>
                        <a:cubicBezTo>
                          <a:pt x="17676" y="17408"/>
                          <a:pt x="17416" y="17538"/>
                          <a:pt x="17113" y="17538"/>
                        </a:cubicBezTo>
                        <a:cubicBezTo>
                          <a:pt x="16792" y="17538"/>
                          <a:pt x="16525" y="17408"/>
                          <a:pt x="16310" y="17150"/>
                        </a:cubicBezTo>
                        <a:cubicBezTo>
                          <a:pt x="16094" y="16891"/>
                          <a:pt x="15986" y="16571"/>
                          <a:pt x="15986" y="16187"/>
                        </a:cubicBezTo>
                        <a:cubicBezTo>
                          <a:pt x="15986" y="15822"/>
                          <a:pt x="16094" y="15511"/>
                          <a:pt x="16310" y="15253"/>
                        </a:cubicBezTo>
                        <a:cubicBezTo>
                          <a:pt x="16527" y="14994"/>
                          <a:pt x="16794" y="14865"/>
                          <a:pt x="17113" y="14865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720" rIns="18720" tIns="0" bIns="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Группа 56"/>
                <p:cNvGrpSpPr/>
                <p:nvPr/>
              </p:nvGrpSpPr>
              <p:grpSpPr>
                <a:xfrm>
                  <a:off x="7837200" y="4001400"/>
                  <a:ext cx="127800" cy="75960"/>
                  <a:chOff x="7837200" y="4001400"/>
                  <a:chExt cx="127800" cy="75960"/>
                </a:xfrm>
              </p:grpSpPr>
              <p:grpSp>
                <p:nvGrpSpPr>
                  <p:cNvPr id="725" name="Group 466"/>
                  <p:cNvGrpSpPr/>
                  <p:nvPr/>
                </p:nvGrpSpPr>
                <p:grpSpPr>
                  <a:xfrm>
                    <a:off x="7837200" y="4001400"/>
                    <a:ext cx="127800" cy="75960"/>
                    <a:chOff x="7837200" y="4001400"/>
                    <a:chExt cx="127800" cy="75960"/>
                  </a:xfrm>
                </p:grpSpPr>
                <p:sp>
                  <p:nvSpPr>
                    <p:cNvPr id="726" name="Shape 462"/>
                    <p:cNvSpPr/>
                    <p:nvPr/>
                  </p:nvSpPr>
                  <p:spPr>
                    <a:xfrm>
                      <a:off x="7837200" y="4005360"/>
                      <a:ext cx="119160" cy="59040"/>
                    </a:xfrm>
                    <a:prstGeom prst="rect">
                      <a:avLst/>
                    </a:prstGeom>
                    <a:solidFill>
                      <a:srgbClr val="a5a5a5"/>
                    </a:solidFill>
                    <a:ln w="25560">
                      <a:solidFill>
                        <a:srgbClr val="000000">
                          <a:alpha val="0"/>
                        </a:srgbClr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19240"/>
                          <a:tab algn="l" pos="438120"/>
                          <a:tab algn="l" pos="657360"/>
                          <a:tab algn="l" pos="876240"/>
                          <a:tab algn="l" pos="1095480"/>
                          <a:tab algn="l" pos="1314360"/>
                          <a:tab algn="l" pos="1533600"/>
                          <a:tab algn="l" pos="1752480"/>
                          <a:tab algn="l" pos="1971720"/>
                          <a:tab algn="l" pos="2190600"/>
                          <a:tab algn="l" pos="2409840"/>
                          <a:tab algn="l" pos="2629080"/>
                          <a:tab algn="l" pos="2847960"/>
                          <a:tab algn="l" pos="3067200"/>
                          <a:tab algn="l" pos="3286080"/>
                          <a:tab algn="l" pos="3505320"/>
                          <a:tab algn="l" pos="3724200"/>
                          <a:tab algn="l" pos="3943440"/>
                          <a:tab algn="l" pos="4162320"/>
                          <a:tab algn="l" pos="4381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Shape 463"/>
                    <p:cNvSpPr/>
                    <p:nvPr/>
                  </p:nvSpPr>
                  <p:spPr>
                    <a:xfrm>
                      <a:off x="7857720" y="4001400"/>
                      <a:ext cx="107280" cy="7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25560" rIns="25560" tIns="25560" bIns="25560" anchor="ctr">
                      <a:sp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728" name="Group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49440" y="4017240"/>
                    <a:ext cx="18000" cy="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729" name="TextBox 400"/>
            <p:cNvSpPr/>
            <p:nvPr/>
          </p:nvSpPr>
          <p:spPr>
            <a:xfrm>
              <a:off x="5506920" y="3220920"/>
              <a:ext cx="1107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Arial"/>
                </a:rPr>
                <a:t>онлайн запро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401"/>
            <p:cNvSpPr/>
            <p:nvPr/>
          </p:nvSpPr>
          <p:spPr>
            <a:xfrm>
              <a:off x="7224480" y="2195640"/>
              <a:ext cx="8586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ffffff"/>
                  </a:solidFill>
                  <a:latin typeface="Arial"/>
                </a:rPr>
                <a:t>Техническое регулировани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Box 402"/>
            <p:cNvSpPr/>
            <p:nvPr/>
          </p:nvSpPr>
          <p:spPr>
            <a:xfrm>
              <a:off x="8249400" y="2840040"/>
              <a:ext cx="986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ffffff"/>
                  </a:solidFill>
                  <a:latin typeface="Arial"/>
                </a:rPr>
                <a:t>Стандартизаци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Box 403"/>
            <p:cNvSpPr/>
            <p:nvPr/>
          </p:nvSpPr>
          <p:spPr>
            <a:xfrm>
              <a:off x="7134120" y="4570920"/>
              <a:ext cx="986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ffffff"/>
                  </a:solidFill>
                  <a:latin typeface="Arial"/>
                </a:rPr>
                <a:t>Аккредитаци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Box 404"/>
            <p:cNvSpPr/>
            <p:nvPr/>
          </p:nvSpPr>
          <p:spPr>
            <a:xfrm>
              <a:off x="6202440" y="2765160"/>
              <a:ext cx="876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ffffff"/>
                  </a:solidFill>
                  <a:latin typeface="Arial"/>
                </a:rPr>
                <a:t>Технические комитеты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Box 405"/>
            <p:cNvSpPr/>
            <p:nvPr/>
          </p:nvSpPr>
          <p:spPr>
            <a:xfrm>
              <a:off x="6141960" y="3961080"/>
              <a:ext cx="98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П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Box 406"/>
            <p:cNvSpPr/>
            <p:nvPr/>
          </p:nvSpPr>
          <p:spPr>
            <a:xfrm>
              <a:off x="8287920" y="3983760"/>
              <a:ext cx="986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ffffff"/>
                  </a:solidFill>
                  <a:latin typeface="Arial"/>
                </a:rPr>
                <a:t>Метрологи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Прямоугольник 407"/>
            <p:cNvSpPr/>
            <p:nvPr/>
          </p:nvSpPr>
          <p:spPr>
            <a:xfrm>
              <a:off x="5643000" y="4830840"/>
              <a:ext cx="2570400" cy="214200"/>
            </a:xfrm>
            <a:prstGeom prst="rect">
              <a:avLst/>
            </a:prstGeom>
            <a:solidFill>
              <a:srgbClr val="c0504d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Получение онлайн ответа от 5 минут до 2 дне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Рисунок 408" descr="monitoring-icon.png"/>
            <p:cNvPicPr/>
            <p:nvPr/>
          </p:nvPicPr>
          <p:blipFill>
            <a:blip r:embed="rId19"/>
            <a:stretch/>
          </p:blipFill>
          <p:spPr>
            <a:xfrm>
              <a:off x="4594320" y="3473280"/>
              <a:ext cx="255600" cy="2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Рисунок 409" descr="reports-icon-92b5d0e7b696dcf32e35a297d875a8e1.png"/>
            <p:cNvPicPr/>
            <p:nvPr/>
          </p:nvPicPr>
          <p:blipFill>
            <a:blip r:embed="rId20"/>
            <a:stretch/>
          </p:blipFill>
          <p:spPr>
            <a:xfrm>
              <a:off x="4599360" y="4565160"/>
              <a:ext cx="2250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Box 410"/>
            <p:cNvSpPr/>
            <p:nvPr/>
          </p:nvSpPr>
          <p:spPr>
            <a:xfrm>
              <a:off x="4762080" y="4535640"/>
              <a:ext cx="17182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Open Sans Condensed Light"/>
                </a:rPr>
                <a:t>Получение развернутог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Open Sans Condensed Light"/>
                </a:rPr>
                <a:t>отчета о  продукци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Box 411"/>
            <p:cNvSpPr/>
            <p:nvPr/>
          </p:nvSpPr>
          <p:spPr>
            <a:xfrm>
              <a:off x="4756680" y="3721680"/>
              <a:ext cx="131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бращение в режиме 24/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Box 413"/>
            <p:cNvSpPr/>
            <p:nvPr/>
          </p:nvSpPr>
          <p:spPr>
            <a:xfrm>
              <a:off x="4732560" y="4287600"/>
              <a:ext cx="166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Интеграция с ЕЭК и МГ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Рисунок 415" descr=""/>
            <p:cNvPicPr/>
            <p:nvPr/>
          </p:nvPicPr>
          <p:blipFill>
            <a:blip r:embed="rId21"/>
            <a:stretch/>
          </p:blipFill>
          <p:spPr>
            <a:xfrm>
              <a:off x="5586120" y="2463120"/>
              <a:ext cx="259920" cy="26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3" name="Группа 134"/>
            <p:cNvGrpSpPr/>
            <p:nvPr/>
          </p:nvGrpSpPr>
          <p:grpSpPr>
            <a:xfrm>
              <a:off x="7486920" y="1962000"/>
              <a:ext cx="292320" cy="292320"/>
              <a:chOff x="7486920" y="1962000"/>
              <a:chExt cx="292320" cy="292320"/>
            </a:xfrm>
          </p:grpSpPr>
          <p:sp>
            <p:nvSpPr>
              <p:cNvPr id="744" name="椭圆 146"/>
              <p:cNvSpPr/>
              <p:nvPr/>
            </p:nvSpPr>
            <p:spPr>
              <a:xfrm>
                <a:off x="7486920" y="1962000"/>
                <a:ext cx="292320" cy="292320"/>
              </a:xfrm>
              <a:prstGeom prst="ellipse">
                <a:avLst/>
              </a:prstGeom>
              <a:solidFill>
                <a:srgbClr val="ff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5" name="Group 6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533000" y="2035440"/>
                <a:ext cx="195120" cy="15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6" name="Группа 131"/>
            <p:cNvGrpSpPr/>
            <p:nvPr/>
          </p:nvGrpSpPr>
          <p:grpSpPr>
            <a:xfrm>
              <a:off x="8505000" y="2584080"/>
              <a:ext cx="292320" cy="292320"/>
              <a:chOff x="8505000" y="2584080"/>
              <a:chExt cx="292320" cy="292320"/>
            </a:xfrm>
          </p:grpSpPr>
          <p:sp>
            <p:nvSpPr>
              <p:cNvPr id="747" name="椭圆 149"/>
              <p:cNvSpPr/>
              <p:nvPr/>
            </p:nvSpPr>
            <p:spPr>
              <a:xfrm>
                <a:off x="8505000" y="2584080"/>
                <a:ext cx="292320" cy="292320"/>
              </a:xfrm>
              <a:prstGeom prst="ellipse">
                <a:avLst/>
              </a:prstGeom>
              <a:solidFill>
                <a:srgbClr val="ff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4"/>
              <p:cNvSpPr/>
              <p:nvPr/>
            </p:nvSpPr>
            <p:spPr>
              <a:xfrm>
                <a:off x="8554320" y="2630160"/>
                <a:ext cx="193680" cy="199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428" y="17466"/>
                    </a:moveTo>
                    <a:cubicBezTo>
                      <a:pt x="16669" y="16923"/>
                      <a:pt x="15846" y="16465"/>
                      <a:pt x="14963" y="16121"/>
                    </a:cubicBezTo>
                    <a:cubicBezTo>
                      <a:pt x="15595" y="14609"/>
                      <a:pt x="15967" y="12928"/>
                      <a:pt x="16010" y="11148"/>
                    </a:cubicBezTo>
                    <a:lnTo>
                      <a:pt x="20188" y="11148"/>
                    </a:lnTo>
                    <a:cubicBezTo>
                      <a:pt x="20097" y="13612"/>
                      <a:pt x="19065" y="15838"/>
                      <a:pt x="17428" y="17466"/>
                    </a:cubicBezTo>
                    <a:moveTo>
                      <a:pt x="1411" y="11148"/>
                    </a:moveTo>
                    <a:lnTo>
                      <a:pt x="5589" y="11148"/>
                    </a:lnTo>
                    <a:cubicBezTo>
                      <a:pt x="5632" y="12928"/>
                      <a:pt x="6004" y="14609"/>
                      <a:pt x="6636" y="16121"/>
                    </a:cubicBezTo>
                    <a:cubicBezTo>
                      <a:pt x="5753" y="16465"/>
                      <a:pt x="4931" y="16923"/>
                      <a:pt x="4171" y="17466"/>
                    </a:cubicBezTo>
                    <a:cubicBezTo>
                      <a:pt x="2534" y="15838"/>
                      <a:pt x="1502" y="13612"/>
                      <a:pt x="1411" y="11148"/>
                    </a:cubicBezTo>
                    <a:moveTo>
                      <a:pt x="3785" y="4553"/>
                    </a:moveTo>
                    <a:cubicBezTo>
                      <a:pt x="4579" y="5170"/>
                      <a:pt x="5448" y="5691"/>
                      <a:pt x="6388" y="6084"/>
                    </a:cubicBezTo>
                    <a:cubicBezTo>
                      <a:pt x="5901" y="7433"/>
                      <a:pt x="5627" y="8908"/>
                      <a:pt x="5589" y="10451"/>
                    </a:cubicBezTo>
                    <a:lnTo>
                      <a:pt x="1411" y="10451"/>
                    </a:lnTo>
                    <a:cubicBezTo>
                      <a:pt x="1494" y="8190"/>
                      <a:pt x="2376" y="6135"/>
                      <a:pt x="3785" y="4553"/>
                    </a:cubicBezTo>
                    <a:moveTo>
                      <a:pt x="11148" y="10451"/>
                    </a:moveTo>
                    <a:lnTo>
                      <a:pt x="11148" y="6950"/>
                    </a:lnTo>
                    <a:cubicBezTo>
                      <a:pt x="12339" y="6913"/>
                      <a:pt x="13484" y="6696"/>
                      <a:pt x="14558" y="6324"/>
                    </a:cubicBezTo>
                    <a:cubicBezTo>
                      <a:pt x="15018" y="7598"/>
                      <a:pt x="15276" y="8992"/>
                      <a:pt x="15314" y="10451"/>
                    </a:cubicBezTo>
                    <a:cubicBezTo>
                      <a:pt x="15314" y="10451"/>
                      <a:pt x="11148" y="10451"/>
                      <a:pt x="11148" y="10451"/>
                    </a:cubicBezTo>
                    <a:close/>
                    <a:moveTo>
                      <a:pt x="14311" y="15882"/>
                    </a:moveTo>
                    <a:cubicBezTo>
                      <a:pt x="13309" y="15559"/>
                      <a:pt x="12247" y="15380"/>
                      <a:pt x="11148" y="15346"/>
                    </a:cubicBezTo>
                    <a:lnTo>
                      <a:pt x="11148" y="11148"/>
                    </a:lnTo>
                    <a:lnTo>
                      <a:pt x="15314" y="11148"/>
                    </a:lnTo>
                    <a:cubicBezTo>
                      <a:pt x="15270" y="12844"/>
                      <a:pt x="14914" y="14445"/>
                      <a:pt x="14311" y="15882"/>
                    </a:cubicBezTo>
                    <a:moveTo>
                      <a:pt x="14683" y="16757"/>
                    </a:moveTo>
                    <a:cubicBezTo>
                      <a:pt x="15476" y="17063"/>
                      <a:pt x="16218" y="17466"/>
                      <a:pt x="16904" y="17941"/>
                    </a:cubicBezTo>
                    <a:cubicBezTo>
                      <a:pt x="15632" y="19031"/>
                      <a:pt x="14067" y="19781"/>
                      <a:pt x="12344" y="20068"/>
                    </a:cubicBezTo>
                    <a:cubicBezTo>
                      <a:pt x="13280" y="19136"/>
                      <a:pt x="14076" y="18017"/>
                      <a:pt x="14683" y="16757"/>
                    </a:cubicBezTo>
                    <a:moveTo>
                      <a:pt x="11148" y="20188"/>
                    </a:moveTo>
                    <a:lnTo>
                      <a:pt x="11148" y="16043"/>
                    </a:lnTo>
                    <a:cubicBezTo>
                      <a:pt x="12146" y="16075"/>
                      <a:pt x="13113" y="16231"/>
                      <a:pt x="14025" y="16516"/>
                    </a:cubicBezTo>
                    <a:cubicBezTo>
                      <a:pt x="13314" y="17970"/>
                      <a:pt x="12343" y="19223"/>
                      <a:pt x="11185" y="20186"/>
                    </a:cubicBezTo>
                    <a:cubicBezTo>
                      <a:pt x="11185" y="20186"/>
                      <a:pt x="11148" y="20188"/>
                      <a:pt x="11148" y="20188"/>
                    </a:cubicBezTo>
                    <a:close/>
                    <a:moveTo>
                      <a:pt x="9255" y="20068"/>
                    </a:moveTo>
                    <a:cubicBezTo>
                      <a:pt x="7532" y="19781"/>
                      <a:pt x="5967" y="19031"/>
                      <a:pt x="4695" y="17941"/>
                    </a:cubicBezTo>
                    <a:cubicBezTo>
                      <a:pt x="5381" y="17466"/>
                      <a:pt x="6123" y="17063"/>
                      <a:pt x="6916" y="16757"/>
                    </a:cubicBezTo>
                    <a:cubicBezTo>
                      <a:pt x="7523" y="18017"/>
                      <a:pt x="8319" y="19136"/>
                      <a:pt x="9255" y="20068"/>
                    </a:cubicBezTo>
                    <a:moveTo>
                      <a:pt x="10451" y="11148"/>
                    </a:moveTo>
                    <a:lnTo>
                      <a:pt x="10451" y="15346"/>
                    </a:lnTo>
                    <a:cubicBezTo>
                      <a:pt x="9352" y="15380"/>
                      <a:pt x="8290" y="15559"/>
                      <a:pt x="7288" y="15882"/>
                    </a:cubicBezTo>
                    <a:cubicBezTo>
                      <a:pt x="6685" y="14445"/>
                      <a:pt x="6329" y="12844"/>
                      <a:pt x="6285" y="11148"/>
                    </a:cubicBezTo>
                    <a:cubicBezTo>
                      <a:pt x="6285" y="11148"/>
                      <a:pt x="10451" y="11148"/>
                      <a:pt x="10451" y="11148"/>
                    </a:cubicBezTo>
                    <a:close/>
                    <a:moveTo>
                      <a:pt x="7041" y="6324"/>
                    </a:moveTo>
                    <a:cubicBezTo>
                      <a:pt x="8115" y="6696"/>
                      <a:pt x="9260" y="6913"/>
                      <a:pt x="10451" y="6950"/>
                    </a:cubicBezTo>
                    <a:lnTo>
                      <a:pt x="10451" y="10451"/>
                    </a:lnTo>
                    <a:lnTo>
                      <a:pt x="6285" y="10451"/>
                    </a:lnTo>
                    <a:cubicBezTo>
                      <a:pt x="6324" y="8992"/>
                      <a:pt x="6581" y="7598"/>
                      <a:pt x="7041" y="6324"/>
                    </a:cubicBezTo>
                    <a:moveTo>
                      <a:pt x="6651" y="5442"/>
                    </a:moveTo>
                    <a:cubicBezTo>
                      <a:pt x="5790" y="5084"/>
                      <a:pt x="4993" y="4609"/>
                      <a:pt x="4263" y="4050"/>
                    </a:cubicBezTo>
                    <a:cubicBezTo>
                      <a:pt x="5606" y="2749"/>
                      <a:pt x="7332" y="1851"/>
                      <a:pt x="9255" y="1531"/>
                    </a:cubicBezTo>
                    <a:cubicBezTo>
                      <a:pt x="8175" y="2610"/>
                      <a:pt x="7286" y="3939"/>
                      <a:pt x="6651" y="5442"/>
                    </a:cubicBezTo>
                    <a:moveTo>
                      <a:pt x="10451" y="1411"/>
                    </a:moveTo>
                    <a:lnTo>
                      <a:pt x="10451" y="6253"/>
                    </a:lnTo>
                    <a:cubicBezTo>
                      <a:pt x="9352" y="6217"/>
                      <a:pt x="8296" y="6021"/>
                      <a:pt x="7303" y="5681"/>
                    </a:cubicBezTo>
                    <a:cubicBezTo>
                      <a:pt x="8029" y="3972"/>
                      <a:pt x="9101" y="2507"/>
                      <a:pt x="10415" y="1413"/>
                    </a:cubicBezTo>
                    <a:cubicBezTo>
                      <a:pt x="10427" y="1412"/>
                      <a:pt x="10439" y="1411"/>
                      <a:pt x="10451" y="1411"/>
                    </a:cubicBezTo>
                    <a:moveTo>
                      <a:pt x="12344" y="1531"/>
                    </a:moveTo>
                    <a:cubicBezTo>
                      <a:pt x="14267" y="1851"/>
                      <a:pt x="15993" y="2749"/>
                      <a:pt x="17336" y="4050"/>
                    </a:cubicBezTo>
                    <a:cubicBezTo>
                      <a:pt x="16606" y="4609"/>
                      <a:pt x="15809" y="5084"/>
                      <a:pt x="14948" y="5442"/>
                    </a:cubicBezTo>
                    <a:cubicBezTo>
                      <a:pt x="14313" y="3939"/>
                      <a:pt x="13424" y="2610"/>
                      <a:pt x="12344" y="1531"/>
                    </a:cubicBezTo>
                    <a:moveTo>
                      <a:pt x="11184" y="1413"/>
                    </a:moveTo>
                    <a:cubicBezTo>
                      <a:pt x="12498" y="2507"/>
                      <a:pt x="13570" y="3972"/>
                      <a:pt x="14296" y="5681"/>
                    </a:cubicBezTo>
                    <a:cubicBezTo>
                      <a:pt x="13303" y="6021"/>
                      <a:pt x="12247" y="6217"/>
                      <a:pt x="11148" y="6253"/>
                    </a:cubicBezTo>
                    <a:lnTo>
                      <a:pt x="11148" y="1411"/>
                    </a:lnTo>
                    <a:cubicBezTo>
                      <a:pt x="11160" y="1411"/>
                      <a:pt x="11172" y="1412"/>
                      <a:pt x="11184" y="1413"/>
                    </a:cubicBezTo>
                    <a:moveTo>
                      <a:pt x="10414" y="20186"/>
                    </a:moveTo>
                    <a:cubicBezTo>
                      <a:pt x="9256" y="19223"/>
                      <a:pt x="8285" y="17970"/>
                      <a:pt x="7574" y="16516"/>
                    </a:cubicBezTo>
                    <a:cubicBezTo>
                      <a:pt x="8486" y="16231"/>
                      <a:pt x="9453" y="16075"/>
                      <a:pt x="10451" y="16043"/>
                    </a:cubicBezTo>
                    <a:lnTo>
                      <a:pt x="10451" y="20188"/>
                    </a:lnTo>
                    <a:cubicBezTo>
                      <a:pt x="10451" y="20188"/>
                      <a:pt x="10414" y="20186"/>
                      <a:pt x="10414" y="20186"/>
                    </a:cubicBezTo>
                    <a:close/>
                    <a:moveTo>
                      <a:pt x="20188" y="10451"/>
                    </a:moveTo>
                    <a:lnTo>
                      <a:pt x="16010" y="10451"/>
                    </a:lnTo>
                    <a:cubicBezTo>
                      <a:pt x="15972" y="8908"/>
                      <a:pt x="15698" y="7433"/>
                      <a:pt x="15211" y="6084"/>
                    </a:cubicBezTo>
                    <a:cubicBezTo>
                      <a:pt x="16151" y="5691"/>
                      <a:pt x="17020" y="5170"/>
                      <a:pt x="17814" y="4553"/>
                    </a:cubicBezTo>
                    <a:cubicBezTo>
                      <a:pt x="19223" y="6135"/>
                      <a:pt x="20105" y="8190"/>
                      <a:pt x="20188" y="10451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4" y="21600"/>
                      <a:pt x="21600" y="16764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</a:path>
                </a:pathLst>
              </a:cu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Группа 145"/>
            <p:cNvGrpSpPr/>
            <p:nvPr/>
          </p:nvGrpSpPr>
          <p:grpSpPr>
            <a:xfrm>
              <a:off x="8468640" y="3717720"/>
              <a:ext cx="292320" cy="292320"/>
              <a:chOff x="8468640" y="3717720"/>
              <a:chExt cx="292320" cy="292320"/>
            </a:xfrm>
          </p:grpSpPr>
          <p:sp>
            <p:nvSpPr>
              <p:cNvPr id="750" name="椭圆 147"/>
              <p:cNvSpPr/>
              <p:nvPr/>
            </p:nvSpPr>
            <p:spPr>
              <a:xfrm>
                <a:off x="8468640" y="3717720"/>
                <a:ext cx="292320" cy="292320"/>
              </a:xfrm>
              <a:prstGeom prst="ellipse">
                <a:avLst/>
              </a:prstGeom>
              <a:solidFill>
                <a:srgbClr val="ff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1" name="Group 5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507880" y="3754800"/>
                <a:ext cx="219240" cy="22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2" name="Группа 152"/>
            <p:cNvGrpSpPr/>
            <p:nvPr/>
          </p:nvGrpSpPr>
          <p:grpSpPr>
            <a:xfrm>
              <a:off x="7481880" y="4303080"/>
              <a:ext cx="292320" cy="292320"/>
              <a:chOff x="7481880" y="4303080"/>
              <a:chExt cx="292320" cy="292320"/>
            </a:xfrm>
          </p:grpSpPr>
          <p:sp>
            <p:nvSpPr>
              <p:cNvPr id="753" name="椭圆 148"/>
              <p:cNvSpPr/>
              <p:nvPr/>
            </p:nvSpPr>
            <p:spPr>
              <a:xfrm>
                <a:off x="7481880" y="4303080"/>
                <a:ext cx="292320" cy="292320"/>
              </a:xfrm>
              <a:prstGeom prst="ellipse">
                <a:avLst/>
              </a:prstGeom>
              <a:solidFill>
                <a:srgbClr val="ff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12"/>
              <p:cNvSpPr/>
              <p:nvPr/>
            </p:nvSpPr>
            <p:spPr>
              <a:xfrm>
                <a:off x="7552440" y="4374360"/>
                <a:ext cx="154440" cy="15552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155520"/>
                  <a:gd name="textAreaBottom" fmla="*/ 155520 h 1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767" y="5419"/>
                    </a:moveTo>
                    <a:cubicBezTo>
                      <a:pt x="4051" y="5419"/>
                      <a:pt x="4271" y="5505"/>
                      <a:pt x="4427" y="5687"/>
                    </a:cubicBezTo>
                    <a:cubicBezTo>
                      <a:pt x="4586" y="5865"/>
                      <a:pt x="4701" y="6078"/>
                      <a:pt x="4766" y="6326"/>
                    </a:cubicBezTo>
                    <a:cubicBezTo>
                      <a:pt x="4835" y="6574"/>
                      <a:pt x="4879" y="6836"/>
                      <a:pt x="4893" y="7106"/>
                    </a:cubicBezTo>
                    <a:cubicBezTo>
                      <a:pt x="4910" y="7377"/>
                      <a:pt x="4917" y="7596"/>
                      <a:pt x="4917" y="7760"/>
                    </a:cubicBezTo>
                    <a:lnTo>
                      <a:pt x="4917" y="9856"/>
                    </a:lnTo>
                    <a:cubicBezTo>
                      <a:pt x="4809" y="9928"/>
                      <a:pt x="4720" y="10015"/>
                      <a:pt x="4646" y="10110"/>
                    </a:cubicBezTo>
                    <a:cubicBezTo>
                      <a:pt x="4574" y="10208"/>
                      <a:pt x="4468" y="10257"/>
                      <a:pt x="4329" y="10257"/>
                    </a:cubicBezTo>
                    <a:lnTo>
                      <a:pt x="561" y="10257"/>
                    </a:lnTo>
                    <a:cubicBezTo>
                      <a:pt x="439" y="10257"/>
                      <a:pt x="338" y="10208"/>
                      <a:pt x="256" y="10110"/>
                    </a:cubicBezTo>
                    <a:cubicBezTo>
                      <a:pt x="177" y="10015"/>
                      <a:pt x="93" y="9928"/>
                      <a:pt x="0" y="9856"/>
                    </a:cubicBezTo>
                    <a:lnTo>
                      <a:pt x="0" y="7760"/>
                    </a:lnTo>
                    <a:cubicBezTo>
                      <a:pt x="0" y="7596"/>
                      <a:pt x="4" y="7377"/>
                      <a:pt x="12" y="7106"/>
                    </a:cubicBezTo>
                    <a:cubicBezTo>
                      <a:pt x="19" y="6836"/>
                      <a:pt x="57" y="6574"/>
                      <a:pt x="124" y="6326"/>
                    </a:cubicBezTo>
                    <a:cubicBezTo>
                      <a:pt x="196" y="6078"/>
                      <a:pt x="309" y="5865"/>
                      <a:pt x="465" y="5687"/>
                    </a:cubicBezTo>
                    <a:cubicBezTo>
                      <a:pt x="624" y="5508"/>
                      <a:pt x="842" y="5419"/>
                      <a:pt x="1123" y="5419"/>
                    </a:cubicBezTo>
                    <a:cubicBezTo>
                      <a:pt x="782" y="5151"/>
                      <a:pt x="508" y="4803"/>
                      <a:pt x="304" y="4377"/>
                    </a:cubicBezTo>
                    <a:cubicBezTo>
                      <a:pt x="103" y="3950"/>
                      <a:pt x="0" y="3469"/>
                      <a:pt x="0" y="2937"/>
                    </a:cubicBezTo>
                    <a:cubicBezTo>
                      <a:pt x="0" y="2539"/>
                      <a:pt x="64" y="2162"/>
                      <a:pt x="189" y="1805"/>
                    </a:cubicBezTo>
                    <a:cubicBezTo>
                      <a:pt x="316" y="1448"/>
                      <a:pt x="491" y="1134"/>
                      <a:pt x="717" y="861"/>
                    </a:cubicBezTo>
                    <a:cubicBezTo>
                      <a:pt x="943" y="590"/>
                      <a:pt x="1207" y="380"/>
                      <a:pt x="1504" y="227"/>
                    </a:cubicBezTo>
                    <a:cubicBezTo>
                      <a:pt x="1804" y="77"/>
                      <a:pt x="2119" y="0"/>
                      <a:pt x="2445" y="0"/>
                    </a:cubicBezTo>
                    <a:cubicBezTo>
                      <a:pt x="2793" y="0"/>
                      <a:pt x="3115" y="77"/>
                      <a:pt x="3412" y="227"/>
                    </a:cubicBezTo>
                    <a:cubicBezTo>
                      <a:pt x="3712" y="380"/>
                      <a:pt x="3969" y="590"/>
                      <a:pt x="4188" y="861"/>
                    </a:cubicBezTo>
                    <a:cubicBezTo>
                      <a:pt x="4406" y="1134"/>
                      <a:pt x="4584" y="1448"/>
                      <a:pt x="4716" y="1805"/>
                    </a:cubicBezTo>
                    <a:cubicBezTo>
                      <a:pt x="4850" y="2162"/>
                      <a:pt x="4917" y="2539"/>
                      <a:pt x="4917" y="2937"/>
                    </a:cubicBezTo>
                    <a:cubicBezTo>
                      <a:pt x="4917" y="3458"/>
                      <a:pt x="4814" y="3939"/>
                      <a:pt x="4603" y="4371"/>
                    </a:cubicBezTo>
                    <a:cubicBezTo>
                      <a:pt x="4391" y="4800"/>
                      <a:pt x="4115" y="5151"/>
                      <a:pt x="3767" y="5419"/>
                    </a:cubicBezTo>
                    <a:moveTo>
                      <a:pt x="18165" y="12062"/>
                    </a:moveTo>
                    <a:cubicBezTo>
                      <a:pt x="18672" y="12604"/>
                      <a:pt x="19070" y="13142"/>
                      <a:pt x="19356" y="13669"/>
                    </a:cubicBezTo>
                    <a:cubicBezTo>
                      <a:pt x="19641" y="14196"/>
                      <a:pt x="19788" y="14801"/>
                      <a:pt x="19788" y="15480"/>
                    </a:cubicBezTo>
                    <a:lnTo>
                      <a:pt x="19788" y="20816"/>
                    </a:lnTo>
                    <a:cubicBezTo>
                      <a:pt x="19694" y="20868"/>
                      <a:pt x="19620" y="20931"/>
                      <a:pt x="19557" y="20995"/>
                    </a:cubicBezTo>
                    <a:cubicBezTo>
                      <a:pt x="19497" y="21061"/>
                      <a:pt x="19425" y="21122"/>
                      <a:pt x="19344" y="21191"/>
                    </a:cubicBezTo>
                    <a:cubicBezTo>
                      <a:pt x="19262" y="21251"/>
                      <a:pt x="19173" y="21317"/>
                      <a:pt x="19075" y="21386"/>
                    </a:cubicBezTo>
                    <a:cubicBezTo>
                      <a:pt x="18976" y="21455"/>
                      <a:pt x="18835" y="21528"/>
                      <a:pt x="18662" y="21600"/>
                    </a:cubicBezTo>
                    <a:lnTo>
                      <a:pt x="2942" y="21600"/>
                    </a:lnTo>
                    <a:cubicBezTo>
                      <a:pt x="2675" y="21600"/>
                      <a:pt x="2467" y="21499"/>
                      <a:pt x="2318" y="21291"/>
                    </a:cubicBezTo>
                    <a:cubicBezTo>
                      <a:pt x="2167" y="21081"/>
                      <a:pt x="2003" y="20926"/>
                      <a:pt x="1819" y="20816"/>
                    </a:cubicBezTo>
                    <a:lnTo>
                      <a:pt x="1819" y="15480"/>
                    </a:lnTo>
                    <a:cubicBezTo>
                      <a:pt x="1819" y="14763"/>
                      <a:pt x="1989" y="14127"/>
                      <a:pt x="2335" y="13571"/>
                    </a:cubicBezTo>
                    <a:cubicBezTo>
                      <a:pt x="2678" y="13018"/>
                      <a:pt x="3052" y="12511"/>
                      <a:pt x="3460" y="12062"/>
                    </a:cubicBezTo>
                    <a:cubicBezTo>
                      <a:pt x="3535" y="11970"/>
                      <a:pt x="3633" y="11869"/>
                      <a:pt x="3753" y="11766"/>
                    </a:cubicBezTo>
                    <a:cubicBezTo>
                      <a:pt x="3873" y="11659"/>
                      <a:pt x="4000" y="11590"/>
                      <a:pt x="4137" y="11553"/>
                    </a:cubicBezTo>
                    <a:cubicBezTo>
                      <a:pt x="4276" y="11495"/>
                      <a:pt x="4432" y="11466"/>
                      <a:pt x="4610" y="11455"/>
                    </a:cubicBezTo>
                    <a:cubicBezTo>
                      <a:pt x="4785" y="11446"/>
                      <a:pt x="4956" y="11423"/>
                      <a:pt x="5126" y="11388"/>
                    </a:cubicBezTo>
                    <a:cubicBezTo>
                      <a:pt x="5594" y="11299"/>
                      <a:pt x="6091" y="11210"/>
                      <a:pt x="6621" y="11121"/>
                    </a:cubicBezTo>
                    <a:cubicBezTo>
                      <a:pt x="7149" y="11034"/>
                      <a:pt x="7665" y="10945"/>
                      <a:pt x="8172" y="10853"/>
                    </a:cubicBezTo>
                    <a:cubicBezTo>
                      <a:pt x="7483" y="10326"/>
                      <a:pt x="6928" y="9632"/>
                      <a:pt x="6513" y="8762"/>
                    </a:cubicBezTo>
                    <a:cubicBezTo>
                      <a:pt x="6093" y="7896"/>
                      <a:pt x="5884" y="6940"/>
                      <a:pt x="5884" y="5903"/>
                    </a:cubicBezTo>
                    <a:cubicBezTo>
                      <a:pt x="5884" y="5097"/>
                      <a:pt x="6016" y="4331"/>
                      <a:pt x="6275" y="3608"/>
                    </a:cubicBezTo>
                    <a:cubicBezTo>
                      <a:pt x="6535" y="2885"/>
                      <a:pt x="6887" y="2260"/>
                      <a:pt x="7331" y="1733"/>
                    </a:cubicBezTo>
                    <a:cubicBezTo>
                      <a:pt x="7778" y="1203"/>
                      <a:pt x="8299" y="786"/>
                      <a:pt x="8894" y="472"/>
                    </a:cubicBezTo>
                    <a:cubicBezTo>
                      <a:pt x="9494" y="158"/>
                      <a:pt x="10125" y="3"/>
                      <a:pt x="10802" y="3"/>
                    </a:cubicBezTo>
                    <a:cubicBezTo>
                      <a:pt x="11476" y="3"/>
                      <a:pt x="12112" y="158"/>
                      <a:pt x="12710" y="472"/>
                    </a:cubicBezTo>
                    <a:cubicBezTo>
                      <a:pt x="13307" y="786"/>
                      <a:pt x="13826" y="1203"/>
                      <a:pt x="14272" y="1733"/>
                    </a:cubicBezTo>
                    <a:cubicBezTo>
                      <a:pt x="14716" y="2260"/>
                      <a:pt x="15067" y="2885"/>
                      <a:pt x="15328" y="3608"/>
                    </a:cubicBezTo>
                    <a:cubicBezTo>
                      <a:pt x="15590" y="4331"/>
                      <a:pt x="15719" y="5097"/>
                      <a:pt x="15719" y="5903"/>
                    </a:cubicBezTo>
                    <a:cubicBezTo>
                      <a:pt x="15719" y="6939"/>
                      <a:pt x="15513" y="7890"/>
                      <a:pt x="15100" y="8756"/>
                    </a:cubicBezTo>
                    <a:cubicBezTo>
                      <a:pt x="14685" y="9620"/>
                      <a:pt x="14128" y="10320"/>
                      <a:pt x="13432" y="10853"/>
                    </a:cubicBezTo>
                    <a:cubicBezTo>
                      <a:pt x="13936" y="10945"/>
                      <a:pt x="14452" y="11031"/>
                      <a:pt x="14978" y="11115"/>
                    </a:cubicBezTo>
                    <a:cubicBezTo>
                      <a:pt x="15503" y="11198"/>
                      <a:pt x="16005" y="11288"/>
                      <a:pt x="16478" y="11388"/>
                    </a:cubicBezTo>
                    <a:cubicBezTo>
                      <a:pt x="16653" y="11426"/>
                      <a:pt x="16826" y="11449"/>
                      <a:pt x="16994" y="11455"/>
                    </a:cubicBezTo>
                    <a:cubicBezTo>
                      <a:pt x="17162" y="11466"/>
                      <a:pt x="17323" y="11495"/>
                      <a:pt x="17467" y="11553"/>
                    </a:cubicBezTo>
                    <a:cubicBezTo>
                      <a:pt x="17603" y="11590"/>
                      <a:pt x="17731" y="11659"/>
                      <a:pt x="17851" y="11766"/>
                    </a:cubicBezTo>
                    <a:cubicBezTo>
                      <a:pt x="17966" y="11869"/>
                      <a:pt x="18074" y="11970"/>
                      <a:pt x="18165" y="12062"/>
                    </a:cubicBezTo>
                    <a:moveTo>
                      <a:pt x="20474" y="5419"/>
                    </a:moveTo>
                    <a:cubicBezTo>
                      <a:pt x="20757" y="5419"/>
                      <a:pt x="20973" y="5505"/>
                      <a:pt x="21124" y="5687"/>
                    </a:cubicBezTo>
                    <a:cubicBezTo>
                      <a:pt x="21271" y="5865"/>
                      <a:pt x="21381" y="6078"/>
                      <a:pt x="21448" y="6326"/>
                    </a:cubicBezTo>
                    <a:cubicBezTo>
                      <a:pt x="21520" y="6574"/>
                      <a:pt x="21561" y="6836"/>
                      <a:pt x="21576" y="7106"/>
                    </a:cubicBezTo>
                    <a:cubicBezTo>
                      <a:pt x="21592" y="7377"/>
                      <a:pt x="21600" y="7596"/>
                      <a:pt x="21600" y="7760"/>
                    </a:cubicBezTo>
                    <a:lnTo>
                      <a:pt x="21600" y="9856"/>
                    </a:lnTo>
                    <a:cubicBezTo>
                      <a:pt x="21508" y="9928"/>
                      <a:pt x="21422" y="10015"/>
                      <a:pt x="21340" y="10110"/>
                    </a:cubicBezTo>
                    <a:cubicBezTo>
                      <a:pt x="21261" y="10208"/>
                      <a:pt x="21158" y="10257"/>
                      <a:pt x="21035" y="10257"/>
                    </a:cubicBezTo>
                    <a:lnTo>
                      <a:pt x="17267" y="10257"/>
                    </a:lnTo>
                    <a:cubicBezTo>
                      <a:pt x="17131" y="10257"/>
                      <a:pt x="17023" y="10208"/>
                      <a:pt x="16953" y="10110"/>
                    </a:cubicBezTo>
                    <a:cubicBezTo>
                      <a:pt x="16879" y="10015"/>
                      <a:pt x="16790" y="9928"/>
                      <a:pt x="16682" y="9856"/>
                    </a:cubicBezTo>
                    <a:lnTo>
                      <a:pt x="16682" y="7760"/>
                    </a:lnTo>
                    <a:cubicBezTo>
                      <a:pt x="16682" y="7596"/>
                      <a:pt x="16692" y="7377"/>
                      <a:pt x="16706" y="7106"/>
                    </a:cubicBezTo>
                    <a:cubicBezTo>
                      <a:pt x="16720" y="6836"/>
                      <a:pt x="16766" y="6574"/>
                      <a:pt x="16835" y="6326"/>
                    </a:cubicBezTo>
                    <a:cubicBezTo>
                      <a:pt x="16912" y="6078"/>
                      <a:pt x="17023" y="5865"/>
                      <a:pt x="17183" y="5687"/>
                    </a:cubicBezTo>
                    <a:cubicBezTo>
                      <a:pt x="17337" y="5508"/>
                      <a:pt x="17555" y="5419"/>
                      <a:pt x="17829" y="5419"/>
                    </a:cubicBezTo>
                    <a:cubicBezTo>
                      <a:pt x="17488" y="5151"/>
                      <a:pt x="17210" y="4803"/>
                      <a:pt x="16999" y="4377"/>
                    </a:cubicBezTo>
                    <a:cubicBezTo>
                      <a:pt x="16787" y="3950"/>
                      <a:pt x="16682" y="3469"/>
                      <a:pt x="16682" y="2937"/>
                    </a:cubicBezTo>
                    <a:cubicBezTo>
                      <a:pt x="16682" y="2539"/>
                      <a:pt x="16744" y="2162"/>
                      <a:pt x="16871" y="1805"/>
                    </a:cubicBezTo>
                    <a:cubicBezTo>
                      <a:pt x="16999" y="1448"/>
                      <a:pt x="17174" y="1134"/>
                      <a:pt x="17399" y="861"/>
                    </a:cubicBezTo>
                    <a:cubicBezTo>
                      <a:pt x="17625" y="590"/>
                      <a:pt x="17889" y="380"/>
                      <a:pt x="18187" y="227"/>
                    </a:cubicBezTo>
                    <a:cubicBezTo>
                      <a:pt x="18487" y="77"/>
                      <a:pt x="18808" y="0"/>
                      <a:pt x="19151" y="0"/>
                    </a:cubicBezTo>
                    <a:cubicBezTo>
                      <a:pt x="19480" y="0"/>
                      <a:pt x="19795" y="77"/>
                      <a:pt x="20095" y="227"/>
                    </a:cubicBezTo>
                    <a:cubicBezTo>
                      <a:pt x="20395" y="380"/>
                      <a:pt x="20656" y="590"/>
                      <a:pt x="20882" y="861"/>
                    </a:cubicBezTo>
                    <a:cubicBezTo>
                      <a:pt x="21108" y="1134"/>
                      <a:pt x="21285" y="1448"/>
                      <a:pt x="21412" y="1805"/>
                    </a:cubicBezTo>
                    <a:cubicBezTo>
                      <a:pt x="21537" y="2162"/>
                      <a:pt x="21600" y="2539"/>
                      <a:pt x="21600" y="2937"/>
                    </a:cubicBezTo>
                    <a:cubicBezTo>
                      <a:pt x="21600" y="3458"/>
                      <a:pt x="21499" y="3939"/>
                      <a:pt x="21295" y="4371"/>
                    </a:cubicBezTo>
                    <a:cubicBezTo>
                      <a:pt x="21093" y="4800"/>
                      <a:pt x="20820" y="5151"/>
                      <a:pt x="20474" y="5419"/>
                    </a:cubicBezTo>
                  </a:path>
                </a:pathLst>
              </a:custGeom>
              <a:solidFill>
                <a:srgbClr val="ee7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椭圆 147"/>
            <p:cNvSpPr/>
            <p:nvPr/>
          </p:nvSpPr>
          <p:spPr>
            <a:xfrm>
              <a:off x="6494760" y="3681360"/>
              <a:ext cx="300240" cy="300240"/>
            </a:xfrm>
            <a:prstGeom prst="ellipse">
              <a:avLst/>
            </a:prstGeom>
            <a:solidFill>
              <a:srgbClr val="ff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7"/>
            <p:cNvSpPr/>
            <p:nvPr/>
          </p:nvSpPr>
          <p:spPr>
            <a:xfrm flipH="1">
              <a:off x="6567840" y="3718080"/>
              <a:ext cx="188640" cy="22536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3" h="73">
                  <a:moveTo>
                    <a:pt x="43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5" y="0"/>
                    <a:pt x="10" y="4"/>
                    <a:pt x="10" y="1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8"/>
                    <a:pt x="13" y="17"/>
                    <a:pt x="14" y="17"/>
                  </a:cubicBezTo>
                  <a:cubicBezTo>
                    <a:pt x="24" y="17"/>
                    <a:pt x="33" y="26"/>
                    <a:pt x="33" y="37"/>
                  </a:cubicBezTo>
                  <a:cubicBezTo>
                    <a:pt x="33" y="41"/>
                    <a:pt x="32" y="45"/>
                    <a:pt x="29" y="48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8" y="64"/>
                    <a:pt x="63" y="59"/>
                    <a:pt x="63" y="54"/>
                  </a:cubicBezTo>
                  <a:cubicBezTo>
                    <a:pt x="63" y="20"/>
                    <a:pt x="63" y="20"/>
                    <a:pt x="63" y="20"/>
                  </a:cubicBezTo>
                  <a:lnTo>
                    <a:pt x="43" y="0"/>
                  </a:lnTo>
                  <a:close/>
                  <a:moveTo>
                    <a:pt x="50" y="24"/>
                  </a:moveTo>
                  <a:cubicBezTo>
                    <a:pt x="44" y="24"/>
                    <a:pt x="39" y="19"/>
                    <a:pt x="39" y="13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16"/>
                    <a:pt x="47" y="20"/>
                    <a:pt x="53" y="20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62" y="24"/>
                    <a:pt x="62" y="24"/>
                    <a:pt x="62" y="24"/>
                  </a:cubicBezTo>
                  <a:lnTo>
                    <a:pt x="50" y="24"/>
                  </a:lnTo>
                  <a:close/>
                  <a:moveTo>
                    <a:pt x="4" y="52"/>
                  </a:moveTo>
                  <a:cubicBezTo>
                    <a:pt x="4" y="73"/>
                    <a:pt x="4" y="73"/>
                    <a:pt x="4" y="73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1" y="54"/>
                    <a:pt x="17" y="55"/>
                    <a:pt x="14" y="55"/>
                  </a:cubicBezTo>
                  <a:cubicBezTo>
                    <a:pt x="10" y="55"/>
                    <a:pt x="7" y="54"/>
                    <a:pt x="4" y="52"/>
                  </a:cubicBezTo>
                  <a:close/>
                  <a:moveTo>
                    <a:pt x="14" y="23"/>
                  </a:moveTo>
                  <a:cubicBezTo>
                    <a:pt x="6" y="23"/>
                    <a:pt x="0" y="29"/>
                    <a:pt x="0" y="37"/>
                  </a:cubicBezTo>
                  <a:cubicBezTo>
                    <a:pt x="0" y="44"/>
                    <a:pt x="6" y="50"/>
                    <a:pt x="14" y="50"/>
                  </a:cubicBezTo>
                  <a:cubicBezTo>
                    <a:pt x="21" y="50"/>
                    <a:pt x="27" y="44"/>
                    <a:pt x="27" y="37"/>
                  </a:cubicBezTo>
                  <a:cubicBezTo>
                    <a:pt x="27" y="29"/>
                    <a:pt x="21" y="23"/>
                    <a:pt x="14" y="23"/>
                  </a:cubicBezTo>
                  <a:close/>
                </a:path>
              </a:pathLst>
            </a:custGeom>
            <a:solidFill>
              <a:srgbClr val="e39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148"/>
            <p:cNvSpPr/>
            <p:nvPr/>
          </p:nvSpPr>
          <p:spPr>
            <a:xfrm>
              <a:off x="6480360" y="2538720"/>
              <a:ext cx="292320" cy="292320"/>
            </a:xfrm>
            <a:prstGeom prst="ellipse">
              <a:avLst/>
            </a:prstGeom>
            <a:solidFill>
              <a:srgbClr val="fff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8" name="AutoShape 130" descr=""/>
            <p:cNvPicPr/>
            <p:nvPr/>
          </p:nvPicPr>
          <p:blipFill>
            <a:blip r:embed="rId24"/>
            <a:stretch/>
          </p:blipFill>
          <p:spPr>
            <a:xfrm>
              <a:off x="6527520" y="2572200"/>
              <a:ext cx="194760" cy="2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9" name="Группа 445"/>
            <p:cNvGrpSpPr/>
            <p:nvPr/>
          </p:nvGrpSpPr>
          <p:grpSpPr>
            <a:xfrm>
              <a:off x="5507640" y="3165480"/>
              <a:ext cx="1276560" cy="117360"/>
              <a:chOff x="5507640" y="3165480"/>
              <a:chExt cx="1276560" cy="117360"/>
            </a:xfrm>
          </p:grpSpPr>
          <p:sp>
            <p:nvSpPr>
              <p:cNvPr id="760" name="Стрелка вниз 446"/>
              <p:cNvSpPr/>
              <p:nvPr/>
            </p:nvSpPr>
            <p:spPr>
              <a:xfrm flipV="1" rot="16200000">
                <a:off x="6051960" y="2621160"/>
                <a:ext cx="117360" cy="1206000"/>
              </a:xfrm>
              <a:prstGeom prst="downArrow">
                <a:avLst>
                  <a:gd name="adj1" fmla="val 50000"/>
                  <a:gd name="adj2" fmla="val 172790"/>
                </a:avLst>
              </a:prstGeom>
              <a:solidFill>
                <a:srgbClr val="807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Стрелка вниз 447"/>
              <p:cNvSpPr/>
              <p:nvPr/>
            </p:nvSpPr>
            <p:spPr>
              <a:xfrm flipV="1" rot="5400000">
                <a:off x="6195240" y="2693880"/>
                <a:ext cx="117360" cy="1060200"/>
              </a:xfrm>
              <a:prstGeom prst="downArrow">
                <a:avLst>
                  <a:gd name="adj1" fmla="val 50000"/>
                  <a:gd name="adj2" fmla="val 172812"/>
                </a:avLst>
              </a:prstGeom>
              <a:solidFill>
                <a:srgbClr val="807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Группа 134"/>
            <p:cNvGrpSpPr/>
            <p:nvPr/>
          </p:nvGrpSpPr>
          <p:grpSpPr>
            <a:xfrm>
              <a:off x="7335360" y="2500200"/>
              <a:ext cx="584640" cy="585000"/>
              <a:chOff x="7335360" y="2500200"/>
              <a:chExt cx="584640" cy="585000"/>
            </a:xfrm>
          </p:grpSpPr>
          <p:sp>
            <p:nvSpPr>
              <p:cNvPr id="763" name="椭圆 146"/>
              <p:cNvSpPr/>
              <p:nvPr/>
            </p:nvSpPr>
            <p:spPr>
              <a:xfrm>
                <a:off x="7335360" y="2500200"/>
                <a:ext cx="584640" cy="585000"/>
              </a:xfrm>
              <a:prstGeom prst="ellipse">
                <a:avLst/>
              </a:prstGeom>
              <a:solidFill>
                <a:srgbClr val="fffb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4" name="Group 66" descr=""/>
              <p:cNvPicPr/>
              <p:nvPr/>
            </p:nvPicPr>
            <p:blipFill>
              <a:blip r:embed="rId25"/>
              <a:stretch/>
            </p:blipFill>
            <p:spPr>
              <a:xfrm>
                <a:off x="7428960" y="2639160"/>
                <a:ext cx="396000" cy="316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65" name="Рисунок 459" descr=""/>
            <p:cNvPicPr/>
            <p:nvPr/>
          </p:nvPicPr>
          <p:blipFill>
            <a:blip r:embed="rId26"/>
            <a:stretch/>
          </p:blipFill>
          <p:spPr>
            <a:xfrm>
              <a:off x="4631040" y="3988080"/>
              <a:ext cx="14616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2" descr="http://www.coetail.com/adamfox711/files/2013/09/1378708864_monotone_earth_world_transparent.png"/>
            <p:cNvPicPr/>
            <p:nvPr/>
          </p:nvPicPr>
          <p:blipFill>
            <a:blip r:embed="rId27">
              <a:lum bright="20000"/>
            </a:blip>
            <a:stretch/>
          </p:blipFill>
          <p:spPr>
            <a:xfrm>
              <a:off x="4576680" y="3756240"/>
              <a:ext cx="255600" cy="2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Picture 4" descr="http://www.memst.kz/bitrix/templates/memst/images/ee2.png"/>
            <p:cNvPicPr/>
            <p:nvPr/>
          </p:nvPicPr>
          <p:blipFill>
            <a:blip r:embed="rId28"/>
            <a:srcRect l="0" t="0" r="51869" b="0"/>
            <a:stretch/>
          </p:blipFill>
          <p:spPr>
            <a:xfrm>
              <a:off x="4556160" y="4282200"/>
              <a:ext cx="292320" cy="23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8" name="Группа 462"/>
            <p:cNvGrpSpPr/>
            <p:nvPr/>
          </p:nvGrpSpPr>
          <p:grpSpPr>
            <a:xfrm>
              <a:off x="4614120" y="4045680"/>
              <a:ext cx="182160" cy="182520"/>
              <a:chOff x="4614120" y="4045680"/>
              <a:chExt cx="182160" cy="182520"/>
            </a:xfrm>
          </p:grpSpPr>
          <p:sp>
            <p:nvSpPr>
              <p:cNvPr id="769" name="Овал 463"/>
              <p:cNvSpPr/>
              <p:nvPr/>
            </p:nvSpPr>
            <p:spPr>
              <a:xfrm>
                <a:off x="4614120" y="4045680"/>
                <a:ext cx="182160" cy="1825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Прямая соединительная линия 464"/>
              <p:cNvSpPr/>
              <p:nvPr/>
            </p:nvSpPr>
            <p:spPr>
              <a:xfrm>
                <a:off x="4640760" y="4072680"/>
                <a:ext cx="128520" cy="128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1" name="Picture 6" descr="http://www.selfrance.org/uploads/pics/man379.png"/>
            <p:cNvPicPr/>
            <p:nvPr/>
          </p:nvPicPr>
          <p:blipFill>
            <a:blip r:embed="rId29">
              <a:lum bright="50000"/>
            </a:blip>
            <a:stretch/>
          </p:blipFill>
          <p:spPr>
            <a:xfrm>
              <a:off x="4776840" y="2773800"/>
              <a:ext cx="511560" cy="51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2" name="Прямоугольник 100"/>
          <p:cNvSpPr/>
          <p:nvPr/>
        </p:nvSpPr>
        <p:spPr>
          <a:xfrm>
            <a:off x="1054080" y="1500120"/>
            <a:ext cx="212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  <a:ea typeface="Times New Roman"/>
              </a:rPr>
              <a:t>Текущие 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оугольник 100"/>
          <p:cNvSpPr/>
          <p:nvPr/>
        </p:nvSpPr>
        <p:spPr>
          <a:xfrm>
            <a:off x="5354640" y="1479600"/>
            <a:ext cx="3197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  <a:ea typeface="Times New Roman"/>
              </a:rPr>
              <a:t>Планируемые 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b7f"/>
                </a:solidFill>
                <a:latin typeface="Calibri"/>
              </a:rPr>
              <a:t>ЕДИНАЯ ИНФОРМАЦИОННАЯ СИСТЕМА </a:t>
            </a:r>
            <a:br>
              <a:rPr sz="2000"/>
            </a:br>
            <a:r>
              <a:rPr b="1" lang="ru-RU" sz="2000" spc="-1" strike="noStrike">
                <a:solidFill>
                  <a:srgbClr val="193b7f"/>
                </a:solidFill>
                <a:latin typeface="Calibri"/>
              </a:rPr>
              <a:t>ТЕХНИЧЕСКОГО РЕГУЛИРОВАНИЯ И МЕТРОЛОГИИ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28760" y="1571760"/>
            <a:ext cx="50292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b7f"/>
                </a:solidFill>
                <a:latin typeface="Calibri"/>
                <a:ea typeface="Arial"/>
              </a:rPr>
              <a:t>СПАСИБО ЗА ВНИМАНИЕ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grpSp>
        <p:nvGrpSpPr>
          <p:cNvPr id="776" name="Группа 1"/>
          <p:cNvGrpSpPr/>
          <p:nvPr/>
        </p:nvGrpSpPr>
        <p:grpSpPr>
          <a:xfrm>
            <a:off x="4572000" y="500040"/>
            <a:ext cx="4357800" cy="3543480"/>
            <a:chOff x="4572000" y="500040"/>
            <a:chExt cx="4357800" cy="3543480"/>
          </a:xfrm>
        </p:grpSpPr>
        <p:grpSp>
          <p:nvGrpSpPr>
            <p:cNvPr id="777" name="Группа 110"/>
            <p:cNvGrpSpPr/>
            <p:nvPr/>
          </p:nvGrpSpPr>
          <p:grpSpPr>
            <a:xfrm>
              <a:off x="4572000" y="500040"/>
              <a:ext cx="2786040" cy="3543480"/>
              <a:chOff x="4572000" y="500040"/>
              <a:chExt cx="2786040" cy="3543480"/>
            </a:xfrm>
          </p:grpSpPr>
          <p:grpSp>
            <p:nvGrpSpPr>
              <p:cNvPr id="778" name="Группа 104"/>
              <p:cNvGrpSpPr/>
              <p:nvPr/>
            </p:nvGrpSpPr>
            <p:grpSpPr>
              <a:xfrm>
                <a:off x="4572000" y="500040"/>
                <a:ext cx="2786040" cy="3543480"/>
                <a:chOff x="4572000" y="500040"/>
                <a:chExt cx="2786040" cy="3543480"/>
              </a:xfrm>
            </p:grpSpPr>
            <p:sp>
              <p:nvSpPr>
                <p:cNvPr id="779" name="Шестиугольник 13"/>
                <p:cNvSpPr/>
                <p:nvPr/>
              </p:nvSpPr>
              <p:spPr>
                <a:xfrm>
                  <a:off x="5597640" y="1776240"/>
                  <a:ext cx="1171440" cy="984240"/>
                </a:xfrm>
                <a:prstGeom prst="hexagon">
                  <a:avLst>
                    <a:gd name="adj" fmla="val 25655"/>
                    <a:gd name="vf" fmla="val 115470"/>
                  </a:avLst>
                </a:prstGeom>
                <a:noFill/>
                <a:ln w="324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1d3b7f"/>
                      </a:solidFill>
                      <a:latin typeface="Arial"/>
                    </a:rPr>
                    <a:t>Стратегия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Полилиния 14"/>
                <p:cNvSpPr/>
                <p:nvPr/>
              </p:nvSpPr>
              <p:spPr>
                <a:xfrm>
                  <a:off x="4991040" y="1114200"/>
                  <a:ext cx="1487520" cy="584280"/>
                </a:xfrm>
                <a:custGeom>
                  <a:avLst/>
                  <a:gdLst/>
                  <a:ahLst/>
                  <a:rect l="l" t="t" r="r" b="b"/>
                  <a:pathLst>
                    <a:path w="1346200" h="542925">
                      <a:moveTo>
                        <a:pt x="1346200" y="542925"/>
                      </a:moveTo>
                      <a:lnTo>
                        <a:pt x="1158875" y="165100"/>
                      </a:lnTo>
                      <a:lnTo>
                        <a:pt x="0" y="0"/>
                      </a:lnTo>
                      <a:lnTo>
                        <a:pt x="269875" y="539750"/>
                      </a:lnTo>
                      <a:lnTo>
                        <a:pt x="1346200" y="542925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Полилиния 15"/>
                <p:cNvSpPr/>
                <p:nvPr/>
              </p:nvSpPr>
              <p:spPr>
                <a:xfrm>
                  <a:off x="4572000" y="1771560"/>
                  <a:ext cx="1208160" cy="1003320"/>
                </a:xfrm>
                <a:custGeom>
                  <a:avLst/>
                  <a:gdLst/>
                  <a:ahLst/>
                  <a:rect l="l" t="t" r="r" b="b"/>
                  <a:pathLst>
                    <a:path w="1035050" h="923925">
                      <a:moveTo>
                        <a:pt x="1035050" y="0"/>
                      </a:moveTo>
                      <a:lnTo>
                        <a:pt x="622300" y="3175"/>
                      </a:lnTo>
                      <a:lnTo>
                        <a:pt x="0" y="923925"/>
                      </a:lnTo>
                      <a:lnTo>
                        <a:pt x="574675" y="923925"/>
                      </a:lnTo>
                      <a:lnTo>
                        <a:pt x="1035050" y="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Полилиния 16"/>
                <p:cNvSpPr/>
                <p:nvPr/>
              </p:nvSpPr>
              <p:spPr>
                <a:xfrm>
                  <a:off x="5359320" y="2328840"/>
                  <a:ext cx="788760" cy="1714680"/>
                </a:xfrm>
                <a:custGeom>
                  <a:avLst/>
                  <a:gdLst/>
                  <a:ahLst/>
                  <a:rect l="l" t="t" r="r" b="b"/>
                  <a:pathLst>
                    <a:path w="714375" h="1593850">
                      <a:moveTo>
                        <a:pt x="180975" y="0"/>
                      </a:moveTo>
                      <a:lnTo>
                        <a:pt x="0" y="377825"/>
                      </a:lnTo>
                      <a:lnTo>
                        <a:pt x="444500" y="1593850"/>
                      </a:lnTo>
                      <a:lnTo>
                        <a:pt x="714375" y="1076325"/>
                      </a:lnTo>
                      <a:lnTo>
                        <a:pt x="180975" y="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Полилиния 17"/>
                <p:cNvSpPr/>
                <p:nvPr/>
              </p:nvSpPr>
              <p:spPr>
                <a:xfrm>
                  <a:off x="5892840" y="2819520"/>
                  <a:ext cx="1465200" cy="557280"/>
                </a:xfrm>
                <a:custGeom>
                  <a:avLst/>
                  <a:gdLst/>
                  <a:ahLst/>
                  <a:rect l="l" t="t" r="r" b="b"/>
                  <a:pathLst>
                    <a:path w="1327150" h="517525">
                      <a:moveTo>
                        <a:pt x="0" y="0"/>
                      </a:moveTo>
                      <a:lnTo>
                        <a:pt x="180975" y="377825"/>
                      </a:lnTo>
                      <a:lnTo>
                        <a:pt x="1327150" y="517525"/>
                      </a:lnTo>
                      <a:lnTo>
                        <a:pt x="1069975" y="31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Полилиния 18"/>
                <p:cNvSpPr/>
                <p:nvPr/>
              </p:nvSpPr>
              <p:spPr>
                <a:xfrm>
                  <a:off x="6237360" y="500040"/>
                  <a:ext cx="803160" cy="1714680"/>
                </a:xfrm>
                <a:custGeom>
                  <a:avLst/>
                  <a:gdLst/>
                  <a:ahLst/>
                  <a:rect l="l" t="t" r="r" b="b"/>
                  <a:pathLst>
                    <a:path w="727075" h="1593850">
                      <a:moveTo>
                        <a:pt x="539750" y="1593850"/>
                      </a:moveTo>
                      <a:lnTo>
                        <a:pt x="727075" y="1222375"/>
                      </a:lnTo>
                      <a:lnTo>
                        <a:pt x="263525" y="0"/>
                      </a:lnTo>
                      <a:lnTo>
                        <a:pt x="0" y="530225"/>
                      </a:lnTo>
                      <a:lnTo>
                        <a:pt x="539750" y="159385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Box 5"/>
              <p:cNvSpPr/>
              <p:nvPr/>
            </p:nvSpPr>
            <p:spPr>
              <a:xfrm rot="3799200">
                <a:off x="6364080" y="1329480"/>
                <a:ext cx="62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Навык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Box 6"/>
              <p:cNvSpPr/>
              <p:nvPr/>
            </p:nvSpPr>
            <p:spPr>
              <a:xfrm>
                <a:off x="5361480" y="1400040"/>
                <a:ext cx="840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нтеграци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Box 7"/>
              <p:cNvSpPr/>
              <p:nvPr/>
            </p:nvSpPr>
            <p:spPr>
              <a:xfrm rot="17900400">
                <a:off x="4821120" y="2126520"/>
                <a:ext cx="805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зменени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Box 8"/>
              <p:cNvSpPr/>
              <p:nvPr/>
            </p:nvSpPr>
            <p:spPr>
              <a:xfrm rot="3759000">
                <a:off x="5258160" y="2913480"/>
                <a:ext cx="953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Возможност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Box 9"/>
              <p:cNvSpPr/>
              <p:nvPr/>
            </p:nvSpPr>
            <p:spPr>
              <a:xfrm>
                <a:off x="6147000" y="2900520"/>
                <a:ext cx="799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Лидерств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TextBox 6"/>
            <p:cNvSpPr/>
            <p:nvPr/>
          </p:nvSpPr>
          <p:spPr>
            <a:xfrm>
              <a:off x="6357960" y="2286000"/>
              <a:ext cx="2571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Arial"/>
                </a:rPr>
                <a:t>ТРАНСФОРМ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b7f"/>
                </a:solidFill>
                <a:latin typeface="Calibri"/>
              </a:rPr>
              <a:t>СТРУКТУРА СИСТЕМЫ ТЕХНИЧЕСКОГО РЕГУЛИРОВАНИЯ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327D-3BB2-4763-86BA-5DC5311F5B29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7"/>
          <p:cNvSpPr/>
          <p:nvPr/>
        </p:nvSpPr>
        <p:spPr>
          <a:xfrm>
            <a:off x="214200" y="85716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ЦИОНАЛЬН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4151880" y="857160"/>
            <a:ext cx="11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НСТР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9"/>
          <p:cNvSpPr/>
          <p:nvPr/>
        </p:nvSpPr>
        <p:spPr>
          <a:xfrm>
            <a:off x="6733800" y="85716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ЕЖДУНАРОДНЫЕ ЭЛЕ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0"/>
          <p:cNvSpPr/>
          <p:nvPr/>
        </p:nvSpPr>
        <p:spPr>
          <a:xfrm>
            <a:off x="214200" y="1292400"/>
            <a:ext cx="21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ОМИТЕТ ТЕХНИЧЕСКОГО РЕГУЛИРОВАНИЯ И МЕТРОЛОГИИ (ЦА – 36 ЕД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http://www.memst.kz/bitrix/templates/memst/images/skt.jpg"/>
          <p:cNvPicPr/>
          <p:nvPr/>
        </p:nvPicPr>
        <p:blipFill>
          <a:blip r:embed="rId1"/>
          <a:stretch/>
        </p:blipFill>
        <p:spPr>
          <a:xfrm>
            <a:off x="357120" y="200664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http://www.memst.kz/upload/resize_cache/medialibrary/c6f/150_80_1/c6fb106d0003a2b1b2fb30dd31aff658.jpg"/>
          <p:cNvPicPr/>
          <p:nvPr/>
        </p:nvPicPr>
        <p:blipFill>
          <a:blip r:embed="rId2"/>
          <a:stretch/>
        </p:blipFill>
        <p:spPr>
          <a:xfrm>
            <a:off x="357120" y="2541600"/>
            <a:ext cx="635040" cy="289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http://www.memst.kz/upload/medialibrary/9ec/9ec4479c8e0e0d28c6d564ac24788ddf.png"/>
          <p:cNvPicPr/>
          <p:nvPr/>
        </p:nvPicPr>
        <p:blipFill>
          <a:blip r:embed="rId3"/>
          <a:stretch/>
        </p:blipFill>
        <p:spPr>
          <a:xfrm>
            <a:off x="357120" y="2968560"/>
            <a:ext cx="719280" cy="289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http://www.memst.kz/upload/resize_cache/medialibrary/dfb/150_80_1/dfbda9bf8277e41b46475d6c4827e19c.jpg"/>
          <p:cNvPicPr/>
          <p:nvPr/>
        </p:nvPicPr>
        <p:blipFill>
          <a:blip r:embed="rId4"/>
          <a:stretch/>
        </p:blipFill>
        <p:spPr>
          <a:xfrm>
            <a:off x="357120" y="3397320"/>
            <a:ext cx="451080" cy="39528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5"/>
          <p:cNvSpPr/>
          <p:nvPr/>
        </p:nvSpPr>
        <p:spPr>
          <a:xfrm>
            <a:off x="71280" y="4110120"/>
            <a:ext cx="214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2060"/>
                </a:solidFill>
                <a:latin typeface="Calibri"/>
              </a:rPr>
              <a:t>Технические  Комитеты (57 е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6"/>
          <p:cNvSpPr/>
          <p:nvPr/>
        </p:nvSpPr>
        <p:spPr>
          <a:xfrm>
            <a:off x="71280" y="437184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2060"/>
                </a:solidFill>
                <a:latin typeface="Calibri"/>
              </a:rPr>
              <a:t>Метрологические службы (381 е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7"/>
          <p:cNvSpPr/>
          <p:nvPr/>
        </p:nvSpPr>
        <p:spPr>
          <a:xfrm>
            <a:off x="71280" y="4633920"/>
            <a:ext cx="335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2060"/>
                </a:solidFill>
                <a:latin typeface="Calibri"/>
              </a:rPr>
              <a:t>Органы по подтверждению соответствия (89 е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71280" y="4896000"/>
            <a:ext cx="271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2060"/>
                </a:solidFill>
                <a:latin typeface="Calibri"/>
              </a:rPr>
              <a:t>Испытательные лаборатории (676 ед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785880" y="2077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ДКТРМ (143 ед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20"/>
          <p:cNvSpPr/>
          <p:nvPr/>
        </p:nvSpPr>
        <p:spPr>
          <a:xfrm>
            <a:off x="1162080" y="259236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(245 ед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1"/>
          <p:cNvSpPr/>
          <p:nvPr/>
        </p:nvSpPr>
        <p:spPr>
          <a:xfrm>
            <a:off x="1162080" y="30114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(202 ед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2"/>
          <p:cNvSpPr/>
          <p:nvPr/>
        </p:nvSpPr>
        <p:spPr>
          <a:xfrm>
            <a:off x="1162080" y="346716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(81 ед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Группа 53"/>
          <p:cNvGrpSpPr/>
          <p:nvPr/>
        </p:nvGrpSpPr>
        <p:grpSpPr>
          <a:xfrm>
            <a:off x="2428920" y="1292400"/>
            <a:ext cx="4643280" cy="3071520"/>
            <a:chOff x="2428920" y="1292400"/>
            <a:chExt cx="4643280" cy="3071520"/>
          </a:xfrm>
        </p:grpSpPr>
        <p:sp>
          <p:nvSpPr>
            <p:cNvPr id="429" name="Блок-схема: процесс 50"/>
            <p:cNvSpPr/>
            <p:nvPr/>
          </p:nvSpPr>
          <p:spPr>
            <a:xfrm>
              <a:off x="2714400" y="1292400"/>
              <a:ext cx="4233960" cy="3071520"/>
            </a:xfrm>
            <a:prstGeom prst="flowChartProcess">
              <a:avLst/>
            </a:prstGeom>
            <a:gradFill rotWithShape="0">
              <a:gsLst>
                <a:gs pos="0">
                  <a:srgbClr val="97ffff"/>
                </a:gs>
                <a:gs pos="100000">
                  <a:srgbClr val="d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Группа 27" descr=""/>
            <p:cNvPicPr/>
            <p:nvPr/>
          </p:nvPicPr>
          <p:blipFill>
            <a:blip r:embed="rId5"/>
            <a:stretch/>
          </p:blipFill>
          <p:spPr>
            <a:xfrm>
              <a:off x="3749040" y="1469160"/>
              <a:ext cx="194436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Группа 28" descr=""/>
            <p:cNvPicPr/>
            <p:nvPr/>
          </p:nvPicPr>
          <p:blipFill>
            <a:blip r:embed="rId6"/>
            <a:stretch/>
          </p:blipFill>
          <p:spPr>
            <a:xfrm>
              <a:off x="3749040" y="2182320"/>
              <a:ext cx="1944360" cy="5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Группа 32" descr=""/>
            <p:cNvPicPr/>
            <p:nvPr/>
          </p:nvPicPr>
          <p:blipFill>
            <a:blip r:embed="rId7"/>
            <a:stretch/>
          </p:blipFill>
          <p:spPr>
            <a:xfrm>
              <a:off x="3749040" y="2895480"/>
              <a:ext cx="1944360" cy="57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Группа 36"/>
            <p:cNvGrpSpPr/>
            <p:nvPr/>
          </p:nvGrpSpPr>
          <p:grpSpPr>
            <a:xfrm>
              <a:off x="3749040" y="3609720"/>
              <a:ext cx="1946880" cy="571680"/>
              <a:chOff x="3749040" y="3609720"/>
              <a:chExt cx="1946880" cy="571680"/>
            </a:xfrm>
          </p:grpSpPr>
          <p:sp>
            <p:nvSpPr>
              <p:cNvPr id="434" name="Стрелка вниз 38"/>
              <p:cNvSpPr/>
              <p:nvPr/>
            </p:nvSpPr>
            <p:spPr>
              <a:xfrm rot="5400000">
                <a:off x="3936960" y="3778920"/>
                <a:ext cx="204840" cy="581040"/>
              </a:xfrm>
              <a:prstGeom prst="downArrow">
                <a:avLst>
                  <a:gd name="adj1" fmla="val 36667"/>
                  <a:gd name="adj2" fmla="val 124191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Стрелка вниз 39"/>
              <p:cNvSpPr/>
              <p:nvPr/>
            </p:nvSpPr>
            <p:spPr>
              <a:xfrm rot="16200000">
                <a:off x="5302800" y="3421440"/>
                <a:ext cx="204840" cy="581040"/>
              </a:xfrm>
              <a:prstGeom prst="downArrow">
                <a:avLst>
                  <a:gd name="adj1" fmla="val 36667"/>
                  <a:gd name="adj2" fmla="val 124191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Прямоугольник 37"/>
              <p:cNvSpPr/>
              <p:nvPr/>
            </p:nvSpPr>
            <p:spPr>
              <a:xfrm>
                <a:off x="3950640" y="3610080"/>
                <a:ext cx="1551600" cy="57132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2060"/>
                    </a:solidFill>
                    <a:latin typeface="Calibri"/>
                  </a:rPr>
                  <a:t>Госконтрол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TextBox 42"/>
            <p:cNvSpPr/>
            <p:nvPr/>
          </p:nvSpPr>
          <p:spPr>
            <a:xfrm>
              <a:off x="2838960" y="1752840"/>
              <a:ext cx="939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Норм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43"/>
            <p:cNvSpPr/>
            <p:nvPr/>
          </p:nvSpPr>
          <p:spPr>
            <a:xfrm>
              <a:off x="2840040" y="2395800"/>
              <a:ext cx="91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Поверк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и калибровка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44"/>
            <p:cNvSpPr/>
            <p:nvPr/>
          </p:nvSpPr>
          <p:spPr>
            <a:xfrm>
              <a:off x="2832120" y="296712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Обеспече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довер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45"/>
            <p:cNvSpPr/>
            <p:nvPr/>
          </p:nvSpPr>
          <p:spPr>
            <a:xfrm>
              <a:off x="2840040" y="3753000"/>
              <a:ext cx="8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Качество 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безопасност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46"/>
            <p:cNvSpPr/>
            <p:nvPr/>
          </p:nvSpPr>
          <p:spPr>
            <a:xfrm>
              <a:off x="5589000" y="1395360"/>
              <a:ext cx="1143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Международные 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националь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стандарт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47"/>
            <p:cNvSpPr/>
            <p:nvPr/>
          </p:nvSpPr>
          <p:spPr>
            <a:xfrm>
              <a:off x="5568840" y="2109960"/>
              <a:ext cx="1148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Прослеживаемост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Box 48"/>
            <p:cNvSpPr/>
            <p:nvPr/>
          </p:nvSpPr>
          <p:spPr>
            <a:xfrm>
              <a:off x="5722920" y="282420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Признание з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рубеж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49"/>
            <p:cNvSpPr/>
            <p:nvPr/>
          </p:nvSpPr>
          <p:spPr>
            <a:xfrm>
              <a:off x="5586840" y="3538800"/>
              <a:ext cx="1101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Защи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потребительског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1" lang="ru-RU" sz="900" spc="-1" strike="noStrike">
                  <a:solidFill>
                    <a:srgbClr val="c00000"/>
                  </a:solidFill>
                  <a:latin typeface="Calibri"/>
                </a:rPr>
                <a:t>рынк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Стрелка влево 51"/>
            <p:cNvSpPr/>
            <p:nvPr/>
          </p:nvSpPr>
          <p:spPr>
            <a:xfrm>
              <a:off x="2428920" y="1292400"/>
              <a:ext cx="347400" cy="3071520"/>
            </a:xfrm>
            <a:prstGeom prst="leftArrow">
              <a:avLst>
                <a:gd name="adj1" fmla="val 100000"/>
                <a:gd name="adj2" fmla="val 50000"/>
              </a:avLst>
            </a:prstGeom>
            <a:gradFill rotWithShape="0">
              <a:gsLst>
                <a:gs pos="0">
                  <a:srgbClr val="285081"/>
                </a:gs>
                <a:gs pos="100000">
                  <a:srgbClr val="4b8dde"/>
                </a:gs>
              </a:gsLst>
              <a:lin ang="0"/>
            </a:gradFill>
            <a:ln w="9360">
              <a:solidFill>
                <a:srgbClr val="385d8a"/>
              </a:solidFill>
              <a:miter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Стрелка влево 52"/>
            <p:cNvSpPr/>
            <p:nvPr/>
          </p:nvSpPr>
          <p:spPr>
            <a:xfrm rot="10800000">
              <a:off x="6729480" y="1292400"/>
              <a:ext cx="342720" cy="3071520"/>
            </a:xfrm>
            <a:prstGeom prst="leftArrow">
              <a:avLst>
                <a:gd name="adj1" fmla="val 100000"/>
                <a:gd name="adj2" fmla="val 50000"/>
              </a:avLst>
            </a:prstGeom>
            <a:gradFill rotWithShape="0">
              <a:gsLst>
                <a:gs pos="0">
                  <a:srgbClr val="285081"/>
                </a:gs>
                <a:gs pos="100000">
                  <a:srgbClr val="4b8dde"/>
                </a:gs>
              </a:gsLst>
              <a:lin ang="10800000"/>
            </a:gradFill>
            <a:ln w="9360">
              <a:solidFill>
                <a:srgbClr val="385d8a"/>
              </a:solidFill>
              <a:miter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alibri"/>
                </a:rPr>
                <a:t>Международные и региональные организа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Picture 10" descr="http://www.memst.kz/upload/resize_cache/medialibrary/7d3/150_80_1/7d3f5cdd20524d95939b0f88df893bde.png"/>
          <p:cNvPicPr/>
          <p:nvPr/>
        </p:nvPicPr>
        <p:blipFill>
          <a:blip r:embed="rId8"/>
          <a:stretch/>
        </p:blipFill>
        <p:spPr>
          <a:xfrm>
            <a:off x="7643880" y="1324080"/>
            <a:ext cx="357120" cy="298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2" descr="http://www.memst.kz/upload/resize_cache/medialibrary/5fc/150_80_1/5fc1aaf11b032f4fbc88accde581bd17.jpg"/>
          <p:cNvPicPr/>
          <p:nvPr/>
        </p:nvPicPr>
        <p:blipFill>
          <a:blip r:embed="rId9"/>
          <a:stretch/>
        </p:blipFill>
        <p:spPr>
          <a:xfrm>
            <a:off x="7572240" y="3100320"/>
            <a:ext cx="514440" cy="42876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4"/>
          <p:cNvSpPr/>
          <p:nvPr/>
        </p:nvSpPr>
        <p:spPr>
          <a:xfrm>
            <a:off x="155520" y="-136440"/>
            <a:ext cx="298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5" descr=""/>
          <p:cNvPicPr/>
          <p:nvPr/>
        </p:nvPicPr>
        <p:blipFill>
          <a:blip r:embed="rId10"/>
          <a:stretch/>
        </p:blipFill>
        <p:spPr>
          <a:xfrm>
            <a:off x="7643880" y="163044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7"/>
          <p:cNvSpPr/>
          <p:nvPr/>
        </p:nvSpPr>
        <p:spPr>
          <a:xfrm>
            <a:off x="155520" y="-136440"/>
            <a:ext cx="298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8" descr=""/>
          <p:cNvPicPr/>
          <p:nvPr/>
        </p:nvPicPr>
        <p:blipFill>
          <a:blip r:embed="rId11"/>
          <a:stretch/>
        </p:blipFill>
        <p:spPr>
          <a:xfrm>
            <a:off x="7594560" y="1995480"/>
            <a:ext cx="453960" cy="3571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0" descr="Image result for ILAC"/>
          <p:cNvPicPr/>
          <p:nvPr/>
        </p:nvPicPr>
        <p:blipFill>
          <a:blip r:embed="rId12"/>
          <a:stretch/>
        </p:blipFill>
        <p:spPr>
          <a:xfrm>
            <a:off x="7594560" y="2360520"/>
            <a:ext cx="438120" cy="35712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22"/>
          <p:cNvSpPr/>
          <p:nvPr/>
        </p:nvSpPr>
        <p:spPr>
          <a:xfrm>
            <a:off x="155520" y="-136440"/>
            <a:ext cx="298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3" descr=""/>
          <p:cNvPicPr/>
          <p:nvPr/>
        </p:nvPicPr>
        <p:blipFill>
          <a:blip r:embed="rId13"/>
          <a:stretch/>
        </p:blipFill>
        <p:spPr>
          <a:xfrm>
            <a:off x="7526160" y="2727360"/>
            <a:ext cx="581040" cy="36504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25"/>
          <p:cNvSpPr/>
          <p:nvPr/>
        </p:nvSpPr>
        <p:spPr>
          <a:xfrm>
            <a:off x="155520" y="-136440"/>
            <a:ext cx="298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6" descr=""/>
          <p:cNvPicPr/>
          <p:nvPr/>
        </p:nvPicPr>
        <p:blipFill>
          <a:blip r:embed="rId14"/>
          <a:stretch/>
        </p:blipFill>
        <p:spPr>
          <a:xfrm>
            <a:off x="7500960" y="3537000"/>
            <a:ext cx="649440" cy="33480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28"/>
          <p:cNvSpPr/>
          <p:nvPr/>
        </p:nvSpPr>
        <p:spPr>
          <a:xfrm>
            <a:off x="155520" y="-136440"/>
            <a:ext cx="298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9" descr=""/>
          <p:cNvPicPr/>
          <p:nvPr/>
        </p:nvPicPr>
        <p:blipFill>
          <a:blip r:embed="rId15"/>
          <a:stretch/>
        </p:blipFill>
        <p:spPr>
          <a:xfrm>
            <a:off x="7643880" y="3879720"/>
            <a:ext cx="428400" cy="3654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Users\ckuanbayev\Desktop\BIPM Template\BIPM-2014.png"/>
          <p:cNvPicPr/>
          <p:nvPr/>
        </p:nvPicPr>
        <p:blipFill>
          <a:blip r:embed="rId16"/>
          <a:stretch/>
        </p:blipFill>
        <p:spPr>
          <a:xfrm>
            <a:off x="7572240" y="4253040"/>
            <a:ext cx="571680" cy="28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230040" y="2557440"/>
            <a:ext cx="3699000" cy="2562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62" name="Picture 13" descr=""/>
          <p:cNvPicPr/>
          <p:nvPr/>
        </p:nvPicPr>
        <p:blipFill>
          <a:blip r:embed="rId2"/>
          <a:stretch/>
        </p:blipFill>
        <p:spPr>
          <a:xfrm>
            <a:off x="230040" y="0"/>
            <a:ext cx="3719520" cy="250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463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E532-56CD-4B0E-98FF-4FC0239811FE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600" y="214200"/>
            <a:ext cx="50720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93b7f"/>
                </a:solidFill>
                <a:uFillTx/>
                <a:latin typeface="Calibri"/>
              </a:rPr>
              <a:t>ЦЕЛИ ПРОГРАММЫ ТРАНСФОРМАЦИИ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grpSp>
        <p:nvGrpSpPr>
          <p:cNvPr id="465" name="Группа 6"/>
          <p:cNvGrpSpPr/>
          <p:nvPr/>
        </p:nvGrpSpPr>
        <p:grpSpPr>
          <a:xfrm>
            <a:off x="3484440" y="484200"/>
            <a:ext cx="5407200" cy="2820960"/>
            <a:chOff x="3484440" y="484200"/>
            <a:chExt cx="5407200" cy="2820960"/>
          </a:xfrm>
        </p:grpSpPr>
        <p:sp>
          <p:nvSpPr>
            <p:cNvPr id="466" name="Прямоугольник 7"/>
            <p:cNvSpPr/>
            <p:nvPr/>
          </p:nvSpPr>
          <p:spPr>
            <a:xfrm>
              <a:off x="3484440" y="3000600"/>
              <a:ext cx="457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Группа 19"/>
            <p:cNvGrpSpPr/>
            <p:nvPr/>
          </p:nvGrpSpPr>
          <p:grpSpPr>
            <a:xfrm>
              <a:off x="3499560" y="484200"/>
              <a:ext cx="5392080" cy="1403280"/>
              <a:chOff x="3499560" y="484200"/>
              <a:chExt cx="5392080" cy="1403280"/>
            </a:xfrm>
          </p:grpSpPr>
          <p:sp>
            <p:nvSpPr>
              <p:cNvPr id="468" name="Прямоугольник 9"/>
              <p:cNvSpPr/>
              <p:nvPr/>
            </p:nvSpPr>
            <p:spPr>
              <a:xfrm>
                <a:off x="3499560" y="48420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Прямоугольник 3"/>
              <p:cNvSpPr/>
              <p:nvPr/>
            </p:nvSpPr>
            <p:spPr>
              <a:xfrm>
                <a:off x="4961520" y="1428480"/>
                <a:ext cx="3930120" cy="459000"/>
              </a:xfrm>
              <a:prstGeom prst="rect">
                <a:avLst/>
              </a:prstGeom>
              <a:noFill/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alibri"/>
                  </a:rPr>
                  <a:t>Создание благоприятных условий для конкурентоспособности бизнес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Прямоугольник 11"/>
              <p:cNvSpPr/>
              <p:nvPr/>
            </p:nvSpPr>
            <p:spPr>
              <a:xfrm>
                <a:off x="4499640" y="1428840"/>
                <a:ext cx="4572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Группа 12"/>
          <p:cNvGrpSpPr/>
          <p:nvPr/>
        </p:nvGrpSpPr>
        <p:grpSpPr>
          <a:xfrm>
            <a:off x="3429000" y="1857240"/>
            <a:ext cx="5450040" cy="2884680"/>
            <a:chOff x="3429000" y="1857240"/>
            <a:chExt cx="5450040" cy="2884680"/>
          </a:xfrm>
        </p:grpSpPr>
        <p:sp>
          <p:nvSpPr>
            <p:cNvPr id="472" name="Прямоугольник 13"/>
            <p:cNvSpPr/>
            <p:nvPr/>
          </p:nvSpPr>
          <p:spPr>
            <a:xfrm>
              <a:off x="3429000" y="1857240"/>
              <a:ext cx="457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Прямоугольник 14"/>
            <p:cNvSpPr/>
            <p:nvPr/>
          </p:nvSpPr>
          <p:spPr>
            <a:xfrm>
              <a:off x="3429000" y="4437360"/>
              <a:ext cx="457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Прямоугольник 15"/>
            <p:cNvSpPr/>
            <p:nvPr/>
          </p:nvSpPr>
          <p:spPr>
            <a:xfrm>
              <a:off x="4449600" y="2571480"/>
              <a:ext cx="4982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16"/>
            <p:cNvSpPr/>
            <p:nvPr/>
          </p:nvSpPr>
          <p:spPr>
            <a:xfrm>
              <a:off x="4949640" y="2571480"/>
              <a:ext cx="3929400" cy="160056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Calibri"/>
                </a:rPr>
                <a:t>Эффективное управления задачами технического регулирования и обеспечения единства измерений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Обеспечение безопасности продукции, процессов для жизни и здоровья человека и окружающей среды, в том числе растительного и животного мира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Защита интересов граждан Республики Казахстан от последствий недостоверных результатов измерен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2C8F-1ED7-420B-8167-D2173A93DBF9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2" descr=""/>
          <p:cNvPicPr/>
          <p:nvPr/>
        </p:nvPicPr>
        <p:blipFill>
          <a:blip r:embed="rId1"/>
          <a:stretch/>
        </p:blipFill>
        <p:spPr>
          <a:xfrm>
            <a:off x="127080" y="127080"/>
            <a:ext cx="4973400" cy="31687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8" name="Picture 2" descr=""/>
          <p:cNvPicPr/>
          <p:nvPr/>
        </p:nvPicPr>
        <p:blipFill>
          <a:blip r:embed="rId2"/>
          <a:stretch/>
        </p:blipFill>
        <p:spPr>
          <a:xfrm>
            <a:off x="5803920" y="142920"/>
            <a:ext cx="2697120" cy="1655640"/>
          </a:xfrm>
          <a:prstGeom prst="rect">
            <a:avLst/>
          </a:prstGeom>
          <a:ln w="0">
            <a:noFill/>
          </a:ln>
        </p:spPr>
      </p:pic>
      <p:grpSp>
        <p:nvGrpSpPr>
          <p:cNvPr id="479" name="Группа 52"/>
          <p:cNvGrpSpPr/>
          <p:nvPr/>
        </p:nvGrpSpPr>
        <p:grpSpPr>
          <a:xfrm>
            <a:off x="1809720" y="1857240"/>
            <a:ext cx="7224840" cy="3168720"/>
            <a:chOff x="1809720" y="1857240"/>
            <a:chExt cx="7224840" cy="3168720"/>
          </a:xfrm>
        </p:grpSpPr>
        <p:sp>
          <p:nvSpPr>
            <p:cNvPr id="480" name="Штриховая стрелка вправо 8"/>
            <p:cNvSpPr/>
            <p:nvPr/>
          </p:nvSpPr>
          <p:spPr>
            <a:xfrm>
              <a:off x="1809720" y="3786120"/>
              <a:ext cx="1285920" cy="37440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РЕЗУЛЬТ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Picture 13" descr=""/>
            <p:cNvPicPr/>
            <p:nvPr/>
          </p:nvPicPr>
          <p:blipFill>
            <a:blip r:embed="rId3"/>
            <a:stretch/>
          </p:blipFill>
          <p:spPr>
            <a:xfrm>
              <a:off x="4324320" y="1857240"/>
              <a:ext cx="4710240" cy="3168720"/>
            </a:xfrm>
            <a:prstGeom prst="rect">
              <a:avLst/>
            </a:prstGeom>
            <a:ln w="9360">
              <a:solidFill>
                <a:srgbClr val="00206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2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48A9-B8E7-4D7C-8AE2-6F6E388BCD92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125280" y="130320"/>
            <a:ext cx="4894560" cy="31669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5708520" y="0"/>
            <a:ext cx="2792520" cy="1857240"/>
          </a:xfrm>
          <a:prstGeom prst="rect">
            <a:avLst/>
          </a:prstGeom>
          <a:ln w="0">
            <a:noFill/>
          </a:ln>
        </p:spPr>
      </p:pic>
      <p:grpSp>
        <p:nvGrpSpPr>
          <p:cNvPr id="485" name="Группа 9"/>
          <p:cNvGrpSpPr/>
          <p:nvPr/>
        </p:nvGrpSpPr>
        <p:grpSpPr>
          <a:xfrm>
            <a:off x="1857240" y="1857240"/>
            <a:ext cx="7039080" cy="3168720"/>
            <a:chOff x="1857240" y="1857240"/>
            <a:chExt cx="7039080" cy="3168720"/>
          </a:xfrm>
        </p:grpSpPr>
        <p:sp>
          <p:nvSpPr>
            <p:cNvPr id="486" name="Штриховая стрелка вправо 8"/>
            <p:cNvSpPr/>
            <p:nvPr/>
          </p:nvSpPr>
          <p:spPr>
            <a:xfrm>
              <a:off x="1857240" y="3786120"/>
              <a:ext cx="1285920" cy="37440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РЕЗУЛЬТ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7" name="Picture 3" descr=""/>
            <p:cNvPicPr/>
            <p:nvPr/>
          </p:nvPicPr>
          <p:blipFill>
            <a:blip r:embed="rId3"/>
            <a:stretch/>
          </p:blipFill>
          <p:spPr>
            <a:xfrm>
              <a:off x="4322520" y="1857240"/>
              <a:ext cx="4573800" cy="3168720"/>
            </a:xfrm>
            <a:prstGeom prst="rect">
              <a:avLst/>
            </a:prstGeom>
            <a:ln w="9360">
              <a:solidFill>
                <a:srgbClr val="00206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b7f"/>
                </a:solidFill>
                <a:latin typeface="Calibri"/>
              </a:rPr>
              <a:t>НАПРАВЛЕНИЕ ТРАНСФОРМАЦИИ: ТЕХНИЧЕСКОЕ РЕГУЛИРОВАНИЕ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553080" y="481824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B88F-3A1D-4BA7-BC25-A24D3A62FE89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Прямоугольник 6" descr=""/>
          <p:cNvPicPr/>
          <p:nvPr/>
        </p:nvPicPr>
        <p:blipFill>
          <a:blip r:embed="rId1"/>
          <a:stretch/>
        </p:blipFill>
        <p:spPr>
          <a:xfrm>
            <a:off x="7759800" y="987480"/>
            <a:ext cx="1212840" cy="1158840"/>
          </a:xfrm>
          <a:prstGeom prst="rect">
            <a:avLst/>
          </a:prstGeom>
          <a:ln w="0">
            <a:noFill/>
          </a:ln>
        </p:spPr>
      </p:pic>
      <p:pic>
        <p:nvPicPr>
          <p:cNvPr id="491" name="Схема 7" descr=""/>
          <p:cNvPicPr/>
          <p:nvPr/>
        </p:nvPicPr>
        <p:blipFill>
          <a:blip r:embed="rId2"/>
          <a:stretch/>
        </p:blipFill>
        <p:spPr>
          <a:xfrm>
            <a:off x="884160" y="822240"/>
            <a:ext cx="6858000" cy="146376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9"/>
          <p:cNvSpPr/>
          <p:nvPr/>
        </p:nvSpPr>
        <p:spPr>
          <a:xfrm>
            <a:off x="857160" y="714240"/>
            <a:ext cx="44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"/>
          <p:cNvSpPr/>
          <p:nvPr/>
        </p:nvSpPr>
        <p:spPr>
          <a:xfrm>
            <a:off x="393840" y="2652120"/>
            <a:ext cx="4259160" cy="1920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отребность доработки действующей нормативно-правовой базы по результатам правоприменительной практи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Инертность государственных органов при рассмотрении технических регламентов и взаимосвязанных докумен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изкая степень заинтересованности и участия производителей в работах по разработке ТР ТС, в том числе на стадии публичного обсуж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едостаточное количество квалифицированных специалистов по вопросам технического регулирования, в том числе отраслевых специалис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7"/>
          <p:cNvSpPr/>
          <p:nvPr/>
        </p:nvSpPr>
        <p:spPr>
          <a:xfrm>
            <a:off x="302760" y="235728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4871880" y="2653200"/>
            <a:ext cx="4021200" cy="208764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Активация работы Комиссии по вопросам технического регулирования и метрологии и Экспертных советов отраслевых государственных орган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Формирование по каждому ТР ТС перечня заинтересованных  отечественных предприятий в целях  осуществления точечной рассылки  и проработки проектов ТР ТС и взаимосвязанных докумен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Масштабная акция по разъяснению необходимости участия бизнес-сообщества в процессе рассмотрения ТР Т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роработка вопроса стимулирования участия бизнес-сообщества в рабочих группах по разработке ТР Т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9"/>
          <p:cNvSpPr/>
          <p:nvPr/>
        </p:nvSpPr>
        <p:spPr>
          <a:xfrm>
            <a:off x="4765320" y="235116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20"/>
          <p:cNvGrpSpPr/>
          <p:nvPr/>
        </p:nvGrpSpPr>
        <p:grpSpPr>
          <a:xfrm>
            <a:off x="71280" y="1176480"/>
            <a:ext cx="817560" cy="817560"/>
            <a:chOff x="71280" y="1176480"/>
            <a:chExt cx="817560" cy="817560"/>
          </a:xfrm>
        </p:grpSpPr>
        <p:sp>
          <p:nvSpPr>
            <p:cNvPr id="498" name="椭圆 149"/>
            <p:cNvSpPr/>
            <p:nvPr/>
          </p:nvSpPr>
          <p:spPr>
            <a:xfrm>
              <a:off x="71280" y="1176480"/>
              <a:ext cx="817560" cy="8175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4"/>
            <p:cNvSpPr/>
            <p:nvPr/>
          </p:nvSpPr>
          <p:spPr>
            <a:xfrm>
              <a:off x="209160" y="1305000"/>
              <a:ext cx="541440" cy="56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28" y="17466"/>
                  </a:moveTo>
                  <a:cubicBezTo>
                    <a:pt x="16669" y="16923"/>
                    <a:pt x="15846" y="16465"/>
                    <a:pt x="14963" y="16121"/>
                  </a:cubicBezTo>
                  <a:cubicBezTo>
                    <a:pt x="15595" y="14609"/>
                    <a:pt x="15967" y="12928"/>
                    <a:pt x="16010" y="11148"/>
                  </a:cubicBezTo>
                  <a:lnTo>
                    <a:pt x="20188" y="11148"/>
                  </a:lnTo>
                  <a:cubicBezTo>
                    <a:pt x="20097" y="13612"/>
                    <a:pt x="19065" y="15838"/>
                    <a:pt x="17428" y="17466"/>
                  </a:cubicBezTo>
                  <a:moveTo>
                    <a:pt x="1411" y="11148"/>
                  </a:moveTo>
                  <a:lnTo>
                    <a:pt x="5589" y="11148"/>
                  </a:lnTo>
                  <a:cubicBezTo>
                    <a:pt x="5632" y="12928"/>
                    <a:pt x="6004" y="14609"/>
                    <a:pt x="6636" y="16121"/>
                  </a:cubicBezTo>
                  <a:cubicBezTo>
                    <a:pt x="5753" y="16465"/>
                    <a:pt x="4931" y="16923"/>
                    <a:pt x="4171" y="17466"/>
                  </a:cubicBezTo>
                  <a:cubicBezTo>
                    <a:pt x="2534" y="15838"/>
                    <a:pt x="1502" y="13612"/>
                    <a:pt x="1411" y="11148"/>
                  </a:cubicBezTo>
                  <a:moveTo>
                    <a:pt x="3785" y="4553"/>
                  </a:moveTo>
                  <a:cubicBezTo>
                    <a:pt x="4579" y="5170"/>
                    <a:pt x="5448" y="5691"/>
                    <a:pt x="6388" y="6084"/>
                  </a:cubicBezTo>
                  <a:cubicBezTo>
                    <a:pt x="5901" y="7433"/>
                    <a:pt x="5627" y="8908"/>
                    <a:pt x="5589" y="10451"/>
                  </a:cubicBezTo>
                  <a:lnTo>
                    <a:pt x="1411" y="10451"/>
                  </a:lnTo>
                  <a:cubicBezTo>
                    <a:pt x="1494" y="8190"/>
                    <a:pt x="2376" y="6135"/>
                    <a:pt x="3785" y="4553"/>
                  </a:cubicBezTo>
                  <a:moveTo>
                    <a:pt x="11148" y="10451"/>
                  </a:moveTo>
                  <a:lnTo>
                    <a:pt x="11148" y="6950"/>
                  </a:lnTo>
                  <a:cubicBezTo>
                    <a:pt x="12339" y="6913"/>
                    <a:pt x="13484" y="6696"/>
                    <a:pt x="14558" y="6324"/>
                  </a:cubicBezTo>
                  <a:cubicBezTo>
                    <a:pt x="15018" y="7598"/>
                    <a:pt x="15276" y="8992"/>
                    <a:pt x="15314" y="10451"/>
                  </a:cubicBezTo>
                  <a:cubicBezTo>
                    <a:pt x="15314" y="10451"/>
                    <a:pt x="11148" y="10451"/>
                    <a:pt x="11148" y="10451"/>
                  </a:cubicBezTo>
                  <a:close/>
                  <a:moveTo>
                    <a:pt x="14311" y="15882"/>
                  </a:moveTo>
                  <a:cubicBezTo>
                    <a:pt x="13309" y="15559"/>
                    <a:pt x="12247" y="15380"/>
                    <a:pt x="11148" y="15346"/>
                  </a:cubicBezTo>
                  <a:lnTo>
                    <a:pt x="11148" y="11148"/>
                  </a:lnTo>
                  <a:lnTo>
                    <a:pt x="15314" y="11148"/>
                  </a:lnTo>
                  <a:cubicBezTo>
                    <a:pt x="15270" y="12844"/>
                    <a:pt x="14914" y="14445"/>
                    <a:pt x="14311" y="15882"/>
                  </a:cubicBezTo>
                  <a:moveTo>
                    <a:pt x="14683" y="16757"/>
                  </a:moveTo>
                  <a:cubicBezTo>
                    <a:pt x="15476" y="17063"/>
                    <a:pt x="16218" y="17466"/>
                    <a:pt x="16904" y="17941"/>
                  </a:cubicBezTo>
                  <a:cubicBezTo>
                    <a:pt x="15632" y="19031"/>
                    <a:pt x="14067" y="19781"/>
                    <a:pt x="12344" y="20068"/>
                  </a:cubicBezTo>
                  <a:cubicBezTo>
                    <a:pt x="13280" y="19136"/>
                    <a:pt x="14076" y="18017"/>
                    <a:pt x="14683" y="16757"/>
                  </a:cubicBezTo>
                  <a:moveTo>
                    <a:pt x="11148" y="20188"/>
                  </a:moveTo>
                  <a:lnTo>
                    <a:pt x="11148" y="16043"/>
                  </a:lnTo>
                  <a:cubicBezTo>
                    <a:pt x="12146" y="16075"/>
                    <a:pt x="13113" y="16231"/>
                    <a:pt x="14025" y="16516"/>
                  </a:cubicBezTo>
                  <a:cubicBezTo>
                    <a:pt x="13314" y="17970"/>
                    <a:pt x="12343" y="19223"/>
                    <a:pt x="11185" y="20186"/>
                  </a:cubicBezTo>
                  <a:cubicBezTo>
                    <a:pt x="11185" y="20186"/>
                    <a:pt x="11148" y="20188"/>
                    <a:pt x="11148" y="20188"/>
                  </a:cubicBezTo>
                  <a:close/>
                  <a:moveTo>
                    <a:pt x="9255" y="20068"/>
                  </a:moveTo>
                  <a:cubicBezTo>
                    <a:pt x="7532" y="19781"/>
                    <a:pt x="5967" y="19031"/>
                    <a:pt x="4695" y="17941"/>
                  </a:cubicBezTo>
                  <a:cubicBezTo>
                    <a:pt x="5381" y="17466"/>
                    <a:pt x="6123" y="17063"/>
                    <a:pt x="6916" y="16757"/>
                  </a:cubicBezTo>
                  <a:cubicBezTo>
                    <a:pt x="7523" y="18017"/>
                    <a:pt x="8319" y="19136"/>
                    <a:pt x="9255" y="20068"/>
                  </a:cubicBezTo>
                  <a:moveTo>
                    <a:pt x="10451" y="11148"/>
                  </a:moveTo>
                  <a:lnTo>
                    <a:pt x="10451" y="15346"/>
                  </a:lnTo>
                  <a:cubicBezTo>
                    <a:pt x="9352" y="15380"/>
                    <a:pt x="8290" y="15559"/>
                    <a:pt x="7288" y="15882"/>
                  </a:cubicBezTo>
                  <a:cubicBezTo>
                    <a:pt x="6685" y="14445"/>
                    <a:pt x="6329" y="12844"/>
                    <a:pt x="6285" y="11148"/>
                  </a:cubicBezTo>
                  <a:cubicBezTo>
                    <a:pt x="6285" y="11148"/>
                    <a:pt x="10451" y="11148"/>
                    <a:pt x="10451" y="11148"/>
                  </a:cubicBezTo>
                  <a:close/>
                  <a:moveTo>
                    <a:pt x="7041" y="6324"/>
                  </a:moveTo>
                  <a:cubicBezTo>
                    <a:pt x="8115" y="6696"/>
                    <a:pt x="9260" y="6913"/>
                    <a:pt x="10451" y="6950"/>
                  </a:cubicBezTo>
                  <a:lnTo>
                    <a:pt x="10451" y="10451"/>
                  </a:lnTo>
                  <a:lnTo>
                    <a:pt x="6285" y="10451"/>
                  </a:lnTo>
                  <a:cubicBezTo>
                    <a:pt x="6324" y="8992"/>
                    <a:pt x="6581" y="7598"/>
                    <a:pt x="7041" y="6324"/>
                  </a:cubicBezTo>
                  <a:moveTo>
                    <a:pt x="6651" y="5442"/>
                  </a:moveTo>
                  <a:cubicBezTo>
                    <a:pt x="5790" y="5084"/>
                    <a:pt x="4993" y="4609"/>
                    <a:pt x="4263" y="4050"/>
                  </a:cubicBezTo>
                  <a:cubicBezTo>
                    <a:pt x="5606" y="2749"/>
                    <a:pt x="7332" y="1851"/>
                    <a:pt x="9255" y="1531"/>
                  </a:cubicBezTo>
                  <a:cubicBezTo>
                    <a:pt x="8175" y="2610"/>
                    <a:pt x="7286" y="3939"/>
                    <a:pt x="6651" y="5442"/>
                  </a:cubicBezTo>
                  <a:moveTo>
                    <a:pt x="10451" y="1411"/>
                  </a:moveTo>
                  <a:lnTo>
                    <a:pt x="10451" y="6253"/>
                  </a:lnTo>
                  <a:cubicBezTo>
                    <a:pt x="9352" y="6217"/>
                    <a:pt x="8296" y="6021"/>
                    <a:pt x="7303" y="5681"/>
                  </a:cubicBezTo>
                  <a:cubicBezTo>
                    <a:pt x="8029" y="3972"/>
                    <a:pt x="9101" y="2507"/>
                    <a:pt x="10415" y="1413"/>
                  </a:cubicBezTo>
                  <a:cubicBezTo>
                    <a:pt x="10427" y="1412"/>
                    <a:pt x="10439" y="1411"/>
                    <a:pt x="10451" y="1411"/>
                  </a:cubicBezTo>
                  <a:moveTo>
                    <a:pt x="12344" y="1531"/>
                  </a:moveTo>
                  <a:cubicBezTo>
                    <a:pt x="14267" y="1851"/>
                    <a:pt x="15993" y="2749"/>
                    <a:pt x="17336" y="4050"/>
                  </a:cubicBezTo>
                  <a:cubicBezTo>
                    <a:pt x="16606" y="4609"/>
                    <a:pt x="15809" y="5084"/>
                    <a:pt x="14948" y="5442"/>
                  </a:cubicBezTo>
                  <a:cubicBezTo>
                    <a:pt x="14313" y="3939"/>
                    <a:pt x="13424" y="2610"/>
                    <a:pt x="12344" y="1531"/>
                  </a:cubicBezTo>
                  <a:moveTo>
                    <a:pt x="11184" y="1413"/>
                  </a:moveTo>
                  <a:cubicBezTo>
                    <a:pt x="12498" y="2507"/>
                    <a:pt x="13570" y="3972"/>
                    <a:pt x="14296" y="5681"/>
                  </a:cubicBezTo>
                  <a:cubicBezTo>
                    <a:pt x="13303" y="6021"/>
                    <a:pt x="12247" y="6217"/>
                    <a:pt x="11148" y="6253"/>
                  </a:cubicBezTo>
                  <a:lnTo>
                    <a:pt x="11148" y="1411"/>
                  </a:lnTo>
                  <a:cubicBezTo>
                    <a:pt x="11160" y="1411"/>
                    <a:pt x="11172" y="1412"/>
                    <a:pt x="11184" y="1413"/>
                  </a:cubicBezTo>
                  <a:moveTo>
                    <a:pt x="10414" y="20186"/>
                  </a:moveTo>
                  <a:cubicBezTo>
                    <a:pt x="9256" y="19223"/>
                    <a:pt x="8285" y="17970"/>
                    <a:pt x="7574" y="16516"/>
                  </a:cubicBezTo>
                  <a:cubicBezTo>
                    <a:pt x="8486" y="16231"/>
                    <a:pt x="9453" y="16075"/>
                    <a:pt x="10451" y="16043"/>
                  </a:cubicBezTo>
                  <a:lnTo>
                    <a:pt x="10451" y="20188"/>
                  </a:lnTo>
                  <a:cubicBezTo>
                    <a:pt x="10451" y="20188"/>
                    <a:pt x="10414" y="20186"/>
                    <a:pt x="10414" y="20186"/>
                  </a:cubicBezTo>
                  <a:close/>
                  <a:moveTo>
                    <a:pt x="20188" y="10451"/>
                  </a:moveTo>
                  <a:lnTo>
                    <a:pt x="16010" y="10451"/>
                  </a:lnTo>
                  <a:cubicBezTo>
                    <a:pt x="15972" y="8908"/>
                    <a:pt x="15698" y="7433"/>
                    <a:pt x="15211" y="6084"/>
                  </a:cubicBezTo>
                  <a:cubicBezTo>
                    <a:pt x="16151" y="5691"/>
                    <a:pt x="17020" y="5170"/>
                    <a:pt x="17814" y="4553"/>
                  </a:cubicBezTo>
                  <a:cubicBezTo>
                    <a:pt x="19223" y="6135"/>
                    <a:pt x="20105" y="8190"/>
                    <a:pt x="20188" y="10451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b7f"/>
                </a:solidFill>
                <a:latin typeface="Calibri"/>
              </a:rPr>
              <a:t>НАПРАВЛЕНИЕ ТРАНСФОРМАЦИИ: СТАНДАРТИЗАЦИЯ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6553080" y="481824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2480-7AC8-4044-A32D-2DF21A38C930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Схема 7" descr=""/>
          <p:cNvPicPr/>
          <p:nvPr/>
        </p:nvPicPr>
        <p:blipFill>
          <a:blip r:embed="rId1"/>
          <a:stretch/>
        </p:blipFill>
        <p:spPr>
          <a:xfrm>
            <a:off x="871560" y="628560"/>
            <a:ext cx="6724800" cy="15843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9"/>
          <p:cNvSpPr/>
          <p:nvPr/>
        </p:nvSpPr>
        <p:spPr>
          <a:xfrm>
            <a:off x="714240" y="766800"/>
            <a:ext cx="44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158760" y="2195280"/>
            <a:ext cx="4767120" cy="2742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Закон о техническом регулировании фрагментарно регламентирует вопросы стандар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изкая вовлеченность государственных органов, отраслевых ассоциаций, технических комитетов по стандартизации и др. в процесс развития стандартизации на национальном, региональном и международном  уровня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механизма  выработки консенсуса по нормативным документам стандартизаци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есвоевременная актуализация нормативных документов по стандартизации в отрасля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либо низкий уровень проводимых научно-исследовательских раб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изкий уровень осведомленности субъектов техрегулирования о видах нормативных документов стандартизации и преимуществе использования стандартов частного пользования (консорциума, неправительственны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изкий уровень знаний технических специалис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0"/>
          <p:cNvSpPr/>
          <p:nvPr/>
        </p:nvSpPr>
        <p:spPr>
          <a:xfrm>
            <a:off x="91440" y="1876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"/>
          <p:cNvSpPr/>
          <p:nvPr/>
        </p:nvSpPr>
        <p:spPr>
          <a:xfrm>
            <a:off x="5003640" y="2192040"/>
            <a:ext cx="3961080" cy="26913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ринятие Закона о стандар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Создание Национального органа по стандартизации (создание диалоговой площадки на базе Институт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роведение анализа  нормативных документов отраслей с выработкой предложений по их разработке/внесению изменений/отмен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роведение НИР, ориентированных на разработку  технических регламентов и стандар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Расширение номенклатуры нормативных документов по стандартизации и области их примен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роведение обучающих семинаров  и круглых столов в целях повышения уровня знаний технических специалистов и размещение информации о разрабатываемых и принятых стандартах на интернет-ресурс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2"/>
          <p:cNvSpPr/>
          <p:nvPr/>
        </p:nvSpPr>
        <p:spPr>
          <a:xfrm>
            <a:off x="4789080" y="186696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Группа 13"/>
          <p:cNvGrpSpPr/>
          <p:nvPr/>
        </p:nvGrpSpPr>
        <p:grpSpPr>
          <a:xfrm>
            <a:off x="71280" y="957240"/>
            <a:ext cx="817560" cy="817560"/>
            <a:chOff x="71280" y="957240"/>
            <a:chExt cx="817560" cy="817560"/>
          </a:xfrm>
        </p:grpSpPr>
        <p:sp>
          <p:nvSpPr>
            <p:cNvPr id="509" name="椭圆 149"/>
            <p:cNvSpPr/>
            <p:nvPr/>
          </p:nvSpPr>
          <p:spPr>
            <a:xfrm>
              <a:off x="71280" y="957240"/>
              <a:ext cx="817560" cy="8175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4"/>
            <p:cNvSpPr/>
            <p:nvPr/>
          </p:nvSpPr>
          <p:spPr>
            <a:xfrm>
              <a:off x="209160" y="1085760"/>
              <a:ext cx="541440" cy="56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28" y="17466"/>
                  </a:moveTo>
                  <a:cubicBezTo>
                    <a:pt x="16669" y="16923"/>
                    <a:pt x="15846" y="16465"/>
                    <a:pt x="14963" y="16121"/>
                  </a:cubicBezTo>
                  <a:cubicBezTo>
                    <a:pt x="15595" y="14609"/>
                    <a:pt x="15967" y="12928"/>
                    <a:pt x="16010" y="11148"/>
                  </a:cubicBezTo>
                  <a:lnTo>
                    <a:pt x="20188" y="11148"/>
                  </a:lnTo>
                  <a:cubicBezTo>
                    <a:pt x="20097" y="13612"/>
                    <a:pt x="19065" y="15838"/>
                    <a:pt x="17428" y="17466"/>
                  </a:cubicBezTo>
                  <a:moveTo>
                    <a:pt x="1411" y="11148"/>
                  </a:moveTo>
                  <a:lnTo>
                    <a:pt x="5589" y="11148"/>
                  </a:lnTo>
                  <a:cubicBezTo>
                    <a:pt x="5632" y="12928"/>
                    <a:pt x="6004" y="14609"/>
                    <a:pt x="6636" y="16121"/>
                  </a:cubicBezTo>
                  <a:cubicBezTo>
                    <a:pt x="5753" y="16465"/>
                    <a:pt x="4931" y="16923"/>
                    <a:pt x="4171" y="17466"/>
                  </a:cubicBezTo>
                  <a:cubicBezTo>
                    <a:pt x="2534" y="15838"/>
                    <a:pt x="1502" y="13612"/>
                    <a:pt x="1411" y="11148"/>
                  </a:cubicBezTo>
                  <a:moveTo>
                    <a:pt x="3785" y="4553"/>
                  </a:moveTo>
                  <a:cubicBezTo>
                    <a:pt x="4579" y="5170"/>
                    <a:pt x="5448" y="5691"/>
                    <a:pt x="6388" y="6084"/>
                  </a:cubicBezTo>
                  <a:cubicBezTo>
                    <a:pt x="5901" y="7433"/>
                    <a:pt x="5627" y="8908"/>
                    <a:pt x="5589" y="10451"/>
                  </a:cubicBezTo>
                  <a:lnTo>
                    <a:pt x="1411" y="10451"/>
                  </a:lnTo>
                  <a:cubicBezTo>
                    <a:pt x="1494" y="8190"/>
                    <a:pt x="2376" y="6135"/>
                    <a:pt x="3785" y="4553"/>
                  </a:cubicBezTo>
                  <a:moveTo>
                    <a:pt x="11148" y="10451"/>
                  </a:moveTo>
                  <a:lnTo>
                    <a:pt x="11148" y="6950"/>
                  </a:lnTo>
                  <a:cubicBezTo>
                    <a:pt x="12339" y="6913"/>
                    <a:pt x="13484" y="6696"/>
                    <a:pt x="14558" y="6324"/>
                  </a:cubicBezTo>
                  <a:cubicBezTo>
                    <a:pt x="15018" y="7598"/>
                    <a:pt x="15276" y="8992"/>
                    <a:pt x="15314" y="10451"/>
                  </a:cubicBezTo>
                  <a:cubicBezTo>
                    <a:pt x="15314" y="10451"/>
                    <a:pt x="11148" y="10451"/>
                    <a:pt x="11148" y="10451"/>
                  </a:cubicBezTo>
                  <a:close/>
                  <a:moveTo>
                    <a:pt x="14311" y="15882"/>
                  </a:moveTo>
                  <a:cubicBezTo>
                    <a:pt x="13309" y="15559"/>
                    <a:pt x="12247" y="15380"/>
                    <a:pt x="11148" y="15346"/>
                  </a:cubicBezTo>
                  <a:lnTo>
                    <a:pt x="11148" y="11148"/>
                  </a:lnTo>
                  <a:lnTo>
                    <a:pt x="15314" y="11148"/>
                  </a:lnTo>
                  <a:cubicBezTo>
                    <a:pt x="15270" y="12844"/>
                    <a:pt x="14914" y="14445"/>
                    <a:pt x="14311" y="15882"/>
                  </a:cubicBezTo>
                  <a:moveTo>
                    <a:pt x="14683" y="16757"/>
                  </a:moveTo>
                  <a:cubicBezTo>
                    <a:pt x="15476" y="17063"/>
                    <a:pt x="16218" y="17466"/>
                    <a:pt x="16904" y="17941"/>
                  </a:cubicBezTo>
                  <a:cubicBezTo>
                    <a:pt x="15632" y="19031"/>
                    <a:pt x="14067" y="19781"/>
                    <a:pt x="12344" y="20068"/>
                  </a:cubicBezTo>
                  <a:cubicBezTo>
                    <a:pt x="13280" y="19136"/>
                    <a:pt x="14076" y="18017"/>
                    <a:pt x="14683" y="16757"/>
                  </a:cubicBezTo>
                  <a:moveTo>
                    <a:pt x="11148" y="20188"/>
                  </a:moveTo>
                  <a:lnTo>
                    <a:pt x="11148" y="16043"/>
                  </a:lnTo>
                  <a:cubicBezTo>
                    <a:pt x="12146" y="16075"/>
                    <a:pt x="13113" y="16231"/>
                    <a:pt x="14025" y="16516"/>
                  </a:cubicBezTo>
                  <a:cubicBezTo>
                    <a:pt x="13314" y="17970"/>
                    <a:pt x="12343" y="19223"/>
                    <a:pt x="11185" y="20186"/>
                  </a:cubicBezTo>
                  <a:cubicBezTo>
                    <a:pt x="11185" y="20186"/>
                    <a:pt x="11148" y="20188"/>
                    <a:pt x="11148" y="20188"/>
                  </a:cubicBezTo>
                  <a:close/>
                  <a:moveTo>
                    <a:pt x="9255" y="20068"/>
                  </a:moveTo>
                  <a:cubicBezTo>
                    <a:pt x="7532" y="19781"/>
                    <a:pt x="5967" y="19031"/>
                    <a:pt x="4695" y="17941"/>
                  </a:cubicBezTo>
                  <a:cubicBezTo>
                    <a:pt x="5381" y="17466"/>
                    <a:pt x="6123" y="17063"/>
                    <a:pt x="6916" y="16757"/>
                  </a:cubicBezTo>
                  <a:cubicBezTo>
                    <a:pt x="7523" y="18017"/>
                    <a:pt x="8319" y="19136"/>
                    <a:pt x="9255" y="20068"/>
                  </a:cubicBezTo>
                  <a:moveTo>
                    <a:pt x="10451" y="11148"/>
                  </a:moveTo>
                  <a:lnTo>
                    <a:pt x="10451" y="15346"/>
                  </a:lnTo>
                  <a:cubicBezTo>
                    <a:pt x="9352" y="15380"/>
                    <a:pt x="8290" y="15559"/>
                    <a:pt x="7288" y="15882"/>
                  </a:cubicBezTo>
                  <a:cubicBezTo>
                    <a:pt x="6685" y="14445"/>
                    <a:pt x="6329" y="12844"/>
                    <a:pt x="6285" y="11148"/>
                  </a:cubicBezTo>
                  <a:cubicBezTo>
                    <a:pt x="6285" y="11148"/>
                    <a:pt x="10451" y="11148"/>
                    <a:pt x="10451" y="11148"/>
                  </a:cubicBezTo>
                  <a:close/>
                  <a:moveTo>
                    <a:pt x="7041" y="6324"/>
                  </a:moveTo>
                  <a:cubicBezTo>
                    <a:pt x="8115" y="6696"/>
                    <a:pt x="9260" y="6913"/>
                    <a:pt x="10451" y="6950"/>
                  </a:cubicBezTo>
                  <a:lnTo>
                    <a:pt x="10451" y="10451"/>
                  </a:lnTo>
                  <a:lnTo>
                    <a:pt x="6285" y="10451"/>
                  </a:lnTo>
                  <a:cubicBezTo>
                    <a:pt x="6324" y="8992"/>
                    <a:pt x="6581" y="7598"/>
                    <a:pt x="7041" y="6324"/>
                  </a:cubicBezTo>
                  <a:moveTo>
                    <a:pt x="6651" y="5442"/>
                  </a:moveTo>
                  <a:cubicBezTo>
                    <a:pt x="5790" y="5084"/>
                    <a:pt x="4993" y="4609"/>
                    <a:pt x="4263" y="4050"/>
                  </a:cubicBezTo>
                  <a:cubicBezTo>
                    <a:pt x="5606" y="2749"/>
                    <a:pt x="7332" y="1851"/>
                    <a:pt x="9255" y="1531"/>
                  </a:cubicBezTo>
                  <a:cubicBezTo>
                    <a:pt x="8175" y="2610"/>
                    <a:pt x="7286" y="3939"/>
                    <a:pt x="6651" y="5442"/>
                  </a:cubicBezTo>
                  <a:moveTo>
                    <a:pt x="10451" y="1411"/>
                  </a:moveTo>
                  <a:lnTo>
                    <a:pt x="10451" y="6253"/>
                  </a:lnTo>
                  <a:cubicBezTo>
                    <a:pt x="9352" y="6217"/>
                    <a:pt x="8296" y="6021"/>
                    <a:pt x="7303" y="5681"/>
                  </a:cubicBezTo>
                  <a:cubicBezTo>
                    <a:pt x="8029" y="3972"/>
                    <a:pt x="9101" y="2507"/>
                    <a:pt x="10415" y="1413"/>
                  </a:cubicBezTo>
                  <a:cubicBezTo>
                    <a:pt x="10427" y="1412"/>
                    <a:pt x="10439" y="1411"/>
                    <a:pt x="10451" y="1411"/>
                  </a:cubicBezTo>
                  <a:moveTo>
                    <a:pt x="12344" y="1531"/>
                  </a:moveTo>
                  <a:cubicBezTo>
                    <a:pt x="14267" y="1851"/>
                    <a:pt x="15993" y="2749"/>
                    <a:pt x="17336" y="4050"/>
                  </a:cubicBezTo>
                  <a:cubicBezTo>
                    <a:pt x="16606" y="4609"/>
                    <a:pt x="15809" y="5084"/>
                    <a:pt x="14948" y="5442"/>
                  </a:cubicBezTo>
                  <a:cubicBezTo>
                    <a:pt x="14313" y="3939"/>
                    <a:pt x="13424" y="2610"/>
                    <a:pt x="12344" y="1531"/>
                  </a:cubicBezTo>
                  <a:moveTo>
                    <a:pt x="11184" y="1413"/>
                  </a:moveTo>
                  <a:cubicBezTo>
                    <a:pt x="12498" y="2507"/>
                    <a:pt x="13570" y="3972"/>
                    <a:pt x="14296" y="5681"/>
                  </a:cubicBezTo>
                  <a:cubicBezTo>
                    <a:pt x="13303" y="6021"/>
                    <a:pt x="12247" y="6217"/>
                    <a:pt x="11148" y="6253"/>
                  </a:cubicBezTo>
                  <a:lnTo>
                    <a:pt x="11148" y="1411"/>
                  </a:lnTo>
                  <a:cubicBezTo>
                    <a:pt x="11160" y="1411"/>
                    <a:pt x="11172" y="1412"/>
                    <a:pt x="11184" y="1413"/>
                  </a:cubicBezTo>
                  <a:moveTo>
                    <a:pt x="10414" y="20186"/>
                  </a:moveTo>
                  <a:cubicBezTo>
                    <a:pt x="9256" y="19223"/>
                    <a:pt x="8285" y="17970"/>
                    <a:pt x="7574" y="16516"/>
                  </a:cubicBezTo>
                  <a:cubicBezTo>
                    <a:pt x="8486" y="16231"/>
                    <a:pt x="9453" y="16075"/>
                    <a:pt x="10451" y="16043"/>
                  </a:cubicBezTo>
                  <a:lnTo>
                    <a:pt x="10451" y="20188"/>
                  </a:lnTo>
                  <a:cubicBezTo>
                    <a:pt x="10451" y="20188"/>
                    <a:pt x="10414" y="20186"/>
                    <a:pt x="10414" y="20186"/>
                  </a:cubicBezTo>
                  <a:close/>
                  <a:moveTo>
                    <a:pt x="20188" y="10451"/>
                  </a:moveTo>
                  <a:lnTo>
                    <a:pt x="16010" y="10451"/>
                  </a:lnTo>
                  <a:cubicBezTo>
                    <a:pt x="15972" y="8908"/>
                    <a:pt x="15698" y="7433"/>
                    <a:pt x="15211" y="6084"/>
                  </a:cubicBezTo>
                  <a:cubicBezTo>
                    <a:pt x="16151" y="5691"/>
                    <a:pt x="17020" y="5170"/>
                    <a:pt x="17814" y="4553"/>
                  </a:cubicBezTo>
                  <a:cubicBezTo>
                    <a:pt x="19223" y="6135"/>
                    <a:pt x="20105" y="8190"/>
                    <a:pt x="20188" y="10451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" name="Прямоугольник 16" descr=""/>
          <p:cNvPicPr/>
          <p:nvPr/>
        </p:nvPicPr>
        <p:blipFill>
          <a:blip r:embed="rId2"/>
          <a:stretch/>
        </p:blipFill>
        <p:spPr>
          <a:xfrm>
            <a:off x="7607160" y="927000"/>
            <a:ext cx="138456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b7f"/>
                </a:solidFill>
                <a:latin typeface="Calibri"/>
              </a:rPr>
              <a:t>НАПРАВЛЕНИЕ ТРАНСФОРМАЦИИ: АККРЕДИТАЦИЯ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6553080" y="481824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14C0-7A7D-40B6-ADFD-52D090F54991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Схема 6" descr=""/>
          <p:cNvPicPr/>
          <p:nvPr/>
        </p:nvPicPr>
        <p:blipFill>
          <a:blip r:embed="rId1"/>
          <a:stretch/>
        </p:blipFill>
        <p:spPr>
          <a:xfrm>
            <a:off x="871560" y="768240"/>
            <a:ext cx="6797520" cy="121284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9"/>
          <p:cNvSpPr/>
          <p:nvPr/>
        </p:nvSpPr>
        <p:spPr>
          <a:xfrm>
            <a:off x="714240" y="766800"/>
            <a:ext cx="44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ДОВ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250920" y="2063520"/>
            <a:ext cx="4176720" cy="2742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в РК испытательной базы по отдельным показателям ТР Т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Слабое знание субъектами требований ТР Т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Слабое признание за рубежом казахстанских сертификатов соответствия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заинтересованности в создании и развитии  калибровочных лабораторий  в Р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аличие формальных «однодневных» сертификатов на системы менеджмен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ездоровая конкуренция среди субъектов, путем сокращения сроков процедуры оформления сертификатов с нарушением требований Н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Выдача «положительного» результата независимо от качества продук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9"/>
          <p:cNvSpPr/>
          <p:nvPr/>
        </p:nvSpPr>
        <p:spPr>
          <a:xfrm>
            <a:off x="272520" y="186516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4529160" y="2142720"/>
            <a:ext cx="4506840" cy="274212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Содействие развитию испытательной базы РК, модернизация и дооснащение ИЛ (аренда оборудования третьих стр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Внесение изменений в законодательство в части повышения  ответственности экспертов-аудиторов и субъектов аккредит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Содействие признанию сертификатов соответствия  за рубежом, нанесение совмещенного знака IAF/M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Внесение изменений в законодательство в части сокращения сферы государственного метрологического контроля средств измерений используемых при осуществлении деятельности по оценке соответств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Внедрение  и мониторинг программы по выдаче сертификатов СМ в режиме онлайн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роведение информационно-разъяснительных работ с субъект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Внедрение в отраслях ИСО/МЭК 17020 и аккредитация органов  по инспек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536720" y="1851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Группа 19"/>
          <p:cNvGrpSpPr/>
          <p:nvPr/>
        </p:nvGrpSpPr>
        <p:grpSpPr>
          <a:xfrm>
            <a:off x="33480" y="960480"/>
            <a:ext cx="817560" cy="815760"/>
            <a:chOff x="33480" y="960480"/>
            <a:chExt cx="817560" cy="815760"/>
          </a:xfrm>
        </p:grpSpPr>
        <p:sp>
          <p:nvSpPr>
            <p:cNvPr id="521" name="椭圆 1039"/>
            <p:cNvSpPr/>
            <p:nvPr/>
          </p:nvSpPr>
          <p:spPr>
            <a:xfrm>
              <a:off x="33480" y="960480"/>
              <a:ext cx="817560" cy="815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7"/>
            <p:cNvSpPr/>
            <p:nvPr/>
          </p:nvSpPr>
          <p:spPr>
            <a:xfrm flipH="1">
              <a:off x="235800" y="1137960"/>
              <a:ext cx="474840" cy="56520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63" h="73">
                  <a:moveTo>
                    <a:pt x="43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5" y="0"/>
                    <a:pt x="10" y="4"/>
                    <a:pt x="10" y="1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8"/>
                    <a:pt x="13" y="17"/>
                    <a:pt x="14" y="17"/>
                  </a:cubicBezTo>
                  <a:cubicBezTo>
                    <a:pt x="24" y="17"/>
                    <a:pt x="33" y="26"/>
                    <a:pt x="33" y="37"/>
                  </a:cubicBezTo>
                  <a:cubicBezTo>
                    <a:pt x="33" y="41"/>
                    <a:pt x="32" y="45"/>
                    <a:pt x="29" y="48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8" y="64"/>
                    <a:pt x="63" y="59"/>
                    <a:pt x="63" y="54"/>
                  </a:cubicBezTo>
                  <a:cubicBezTo>
                    <a:pt x="63" y="20"/>
                    <a:pt x="63" y="20"/>
                    <a:pt x="63" y="20"/>
                  </a:cubicBezTo>
                  <a:lnTo>
                    <a:pt x="43" y="0"/>
                  </a:lnTo>
                  <a:close/>
                  <a:moveTo>
                    <a:pt x="50" y="24"/>
                  </a:moveTo>
                  <a:cubicBezTo>
                    <a:pt x="44" y="24"/>
                    <a:pt x="39" y="19"/>
                    <a:pt x="39" y="13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16"/>
                    <a:pt x="47" y="20"/>
                    <a:pt x="53" y="20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62" y="24"/>
                    <a:pt x="62" y="24"/>
                    <a:pt x="62" y="24"/>
                  </a:cubicBezTo>
                  <a:lnTo>
                    <a:pt x="50" y="24"/>
                  </a:lnTo>
                  <a:close/>
                  <a:moveTo>
                    <a:pt x="4" y="52"/>
                  </a:moveTo>
                  <a:cubicBezTo>
                    <a:pt x="4" y="73"/>
                    <a:pt x="4" y="73"/>
                    <a:pt x="4" y="73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1" y="54"/>
                    <a:pt x="17" y="55"/>
                    <a:pt x="14" y="55"/>
                  </a:cubicBezTo>
                  <a:cubicBezTo>
                    <a:pt x="10" y="55"/>
                    <a:pt x="7" y="54"/>
                    <a:pt x="4" y="52"/>
                  </a:cubicBezTo>
                  <a:close/>
                  <a:moveTo>
                    <a:pt x="14" y="23"/>
                  </a:moveTo>
                  <a:cubicBezTo>
                    <a:pt x="6" y="23"/>
                    <a:pt x="0" y="29"/>
                    <a:pt x="0" y="37"/>
                  </a:cubicBezTo>
                  <a:cubicBezTo>
                    <a:pt x="0" y="44"/>
                    <a:pt x="6" y="50"/>
                    <a:pt x="14" y="50"/>
                  </a:cubicBezTo>
                  <a:cubicBezTo>
                    <a:pt x="21" y="50"/>
                    <a:pt x="27" y="44"/>
                    <a:pt x="27" y="37"/>
                  </a:cubicBezTo>
                  <a:cubicBezTo>
                    <a:pt x="27" y="29"/>
                    <a:pt x="21" y="23"/>
                    <a:pt x="14" y="23"/>
                  </a:cubicBezTo>
                  <a:close/>
                </a:path>
              </a:pathLst>
            </a:custGeom>
            <a:solidFill>
              <a:srgbClr val="e39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3" name="Прямоугольник 13" descr=""/>
          <p:cNvPicPr/>
          <p:nvPr/>
        </p:nvPicPr>
        <p:blipFill>
          <a:blip r:embed="rId2"/>
          <a:stretch/>
        </p:blipFill>
        <p:spPr>
          <a:xfrm>
            <a:off x="7570800" y="927000"/>
            <a:ext cx="13842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b7f"/>
                </a:solidFill>
                <a:latin typeface="Calibri"/>
              </a:rPr>
              <a:t>НАПРАВЛЕНИЕ ТРАНСФОРМАЦИИ: МЕТРОЛОГИЯ</a:t>
            </a:r>
            <a:endParaRPr b="1" lang="en-US" sz="2000" spc="-1" strike="noStrike">
              <a:solidFill>
                <a:srgbClr val="193b7f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6553080" y="481824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779D-3978-4021-AB46-542BC3F8C0BA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Схема 6" descr=""/>
          <p:cNvPicPr/>
          <p:nvPr/>
        </p:nvPicPr>
        <p:blipFill>
          <a:blip r:embed="rId1"/>
          <a:stretch/>
        </p:blipFill>
        <p:spPr>
          <a:xfrm>
            <a:off x="865080" y="768240"/>
            <a:ext cx="5340600" cy="12128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9"/>
          <p:cNvSpPr/>
          <p:nvPr/>
        </p:nvSpPr>
        <p:spPr>
          <a:xfrm>
            <a:off x="714240" y="766800"/>
            <a:ext cx="44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ЛЕЖИ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Группа 8"/>
          <p:cNvGrpSpPr/>
          <p:nvPr/>
        </p:nvGrpSpPr>
        <p:grpSpPr>
          <a:xfrm>
            <a:off x="71280" y="961920"/>
            <a:ext cx="817560" cy="817560"/>
            <a:chOff x="71280" y="961920"/>
            <a:chExt cx="817560" cy="817560"/>
          </a:xfrm>
        </p:grpSpPr>
        <p:sp>
          <p:nvSpPr>
            <p:cNvPr id="529" name="椭圆 147"/>
            <p:cNvSpPr/>
            <p:nvPr/>
          </p:nvSpPr>
          <p:spPr>
            <a:xfrm>
              <a:off x="71280" y="961920"/>
              <a:ext cx="817560" cy="817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Group 53" descr=""/>
            <p:cNvPicPr/>
            <p:nvPr/>
          </p:nvPicPr>
          <p:blipFill>
            <a:blip r:embed="rId2"/>
            <a:stretch/>
          </p:blipFill>
          <p:spPr>
            <a:xfrm>
              <a:off x="182520" y="1060560"/>
              <a:ext cx="609840" cy="63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Rectangle 1"/>
          <p:cNvSpPr/>
          <p:nvPr/>
        </p:nvSpPr>
        <p:spPr>
          <a:xfrm>
            <a:off x="182520" y="2095200"/>
            <a:ext cx="4460760" cy="2792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Чрезмерное регулирование со стороны государ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прозрачности и четкости в определении сферы государственного метрологического контро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заинтересованности и потребности отечественных предприятий в метрологических услугах (в частности, по калибровке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метрологических служб в органах государственного управления, крупных отраслевых компаниях и предприятия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ередача государственной функции по проведению поверочных работ в конкурентную сред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тсутствие доверия к казахстанским сертификатам калибровки за рубеж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ехватка квалифицированного и обученного персон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―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Неэффективное участие метрологии в обеспечении производства конкурентоспособной продук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6"/>
          <p:cNvSpPr/>
          <p:nvPr/>
        </p:nvSpPr>
        <p:spPr>
          <a:xfrm>
            <a:off x="80280" y="18637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4741920" y="2094480"/>
            <a:ext cx="4222800" cy="284364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Внесение изменений в ЗРК «Об обеспечении единства измерений» с целью снижения нагрузки на бизнес, повышения ответственности производителей в обеспечении достоверности измере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птимизация сферы государственного метрологического контро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Развитие метрологических служб в отраслях промышл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Развитие измерений, направленных на обеспечение качества продукции (калибров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Опережающее развитие эталонной баз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Метрологическое обеспечение инновацион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Увеличение количества признаваемых на международном уровне измере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овышение осведомленности об инструментах метрологии в обеспечении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Narrow"/>
              </a:rPr>
              <a:t>Подготовка квалифицированных кадров в области метролог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8"/>
          <p:cNvSpPr/>
          <p:nvPr/>
        </p:nvSpPr>
        <p:spPr>
          <a:xfrm>
            <a:off x="4635000" y="18446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Прямоугольник 19" descr=""/>
          <p:cNvPicPr/>
          <p:nvPr/>
        </p:nvPicPr>
        <p:blipFill>
          <a:blip r:embed="rId3"/>
          <a:stretch/>
        </p:blipFill>
        <p:spPr>
          <a:xfrm>
            <a:off x="6218280" y="927000"/>
            <a:ext cx="1382760" cy="88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4:17:44Z</dcterms:created>
  <dc:creator>Чингиз</dc:creator>
  <dc:description/>
  <dc:language>en-US</dc:language>
  <cp:lastModifiedBy>mitac</cp:lastModifiedBy>
  <dcterms:modified xsi:type="dcterms:W3CDTF">2015-06-17T06:03:22Z</dcterms:modified>
  <cp:revision>111</cp:revision>
  <dc:subject/>
  <dc:title>Слайд 1</dc:title>
</cp:coreProperties>
</file>