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46.png" ContentType="image/png"/>
  <Override PartName="/ppt/media/image31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97F1-A2DA-450F-9E16-9EBFF36D4E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F01D-C9C6-4CE8-AA51-680A69720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4224-DE52-449A-80A7-078EBE57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A75E-82D3-489E-9FE8-5D10A287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91CA-5FD3-489F-A3C1-6ED57EE3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8C36-5D19-44F3-B3BD-59531405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91A78-D5BD-4212-8DA1-3A73E657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4263A-C04D-4166-9E26-8F6A4A9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7266-7248-4C94-AF55-45F5AA10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1EAE1-FDE5-4EB6-98FB-4A694E3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3D67C-A5C9-4FA3-832A-66BA60B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6378A-A27B-42F3-B8EB-3E684374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2DBC1-7C18-4BB8-B1DC-2BF5C0D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CD94-9D31-4E88-8CBB-BF813B3B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313C8-245F-49C1-BF79-CABF9BC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89C58-ACDF-4332-918C-48AA209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AD72E-5C7A-48B8-9ECC-888E8D5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C8CB-2521-4D02-B51A-5EB288C6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D0BF-B519-4613-86B9-8C5D578D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70FF0-A36E-4A4C-9261-01561366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00021-7B69-459A-84DB-4B0129FC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8333B-5CB1-4DE7-8270-2C30563C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1431F-C4DC-4FA4-A32C-6CF2435E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586F7-8E50-4C5A-9485-DDE8E3A0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DEBD-A4C4-451E-89C2-2FD46289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32686-2DE2-435A-B128-72CAC91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5AE3D-CE84-4698-848F-A6638CE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9AD0B-29C9-4BBC-B920-7AE6AA6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C02D6-B8A0-4BC5-839F-A457AAF7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56D987-934B-4B79-B977-43E1DC70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8F94F-1BAF-4A3F-81F5-7DBB3482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F53E1-9B8A-4B1E-8C6C-5FAFBDE5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7E1C-37F8-4D4C-B026-9FFB888E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4818-0BFE-4D11-8CA2-B033F80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3695-B22A-49BD-8291-A9548B36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344B-1A79-40E1-A15C-315E279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2F70-D8F3-49DB-B285-66A28AAC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BB27-DFC8-4294-B307-B5E1982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46CF-62CE-4850-A886-690DABF6813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BF3-783F-45FE-AB84-10B309AB5A1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c1d2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78d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c1d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78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7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6CDD-0B74-454C-9B58-9419C7E1357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b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8459640" y="189000"/>
            <a:ext cx="684360" cy="54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0" descr="\\606pc2\D\d\INSTITUT\значки\Znaki_.tif"/>
          <p:cNvPicPr/>
          <p:nvPr/>
        </p:nvPicPr>
        <p:blipFill>
          <a:blip r:embed="rId3"/>
          <a:stretch/>
        </p:blipFill>
        <p:spPr>
          <a:xfrm>
            <a:off x="8528040" y="272880"/>
            <a:ext cx="539640" cy="37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1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754380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800000"/>
                </a:solidFill>
                <a:latin typeface="Calibri"/>
                <a:ea typeface="Arial"/>
              </a:rPr>
              <a:t>49 заседание Межгосударственного совета по стандартизации, метрологии и сертификации</a:t>
            </a:r>
            <a:endParaRPr b="0" lang="en-US" sz="27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611280" y="2349360"/>
            <a:ext cx="741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Итоги работы Государственного комитета по стандартизации  Республики Беларус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за 2015 г. – первая половина 2016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47640" y="5510160"/>
            <a:ext cx="676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Назаренко В. 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едседатель Госстандарта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216000" y="1189080"/>
            <a:ext cx="8101080" cy="100872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грамма развития  системы технического нормирования, стандартизации и подтверждения соответствия в области энергосбережения на 2016 – 2020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79280" y="165240"/>
            <a:ext cx="8209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СТАНДАРТИЗАЦИЯ В ОБЛАСТИ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 ЭНЕРГОЭФФЕКТИВНОСТИ И ЭНЕРГОСБЕРЕ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DFAE-76C2-47A4-AD1D-ACE9B1EA429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539640" y="2421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рограммой  в области энергосбережения на 2016-2020 годы предусмотрена разработк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38 государственных и межгосударственных стандартов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811080" y="3573360"/>
            <a:ext cx="714564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твердое биотопл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шины землерой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лые энерго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определение энергетических характеристик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развитие испытательной базы в области показателей энергоэффективности издел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826920" y="5818320"/>
            <a:ext cx="7058160" cy="7038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016 году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редусмотрена разработк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9 государственных и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87480" y="236520"/>
            <a:ext cx="8372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НАЦИОНАЛЬНЫЕ ТЕХНИЧЕСКИЕ КОМИТЕТЫ </a:t>
            </a:r>
            <a:br>
              <a:rPr sz="2800"/>
            </a:b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ПО СТАНДАРТИЗ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406600" y="1382760"/>
            <a:ext cx="3317760" cy="53352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굴림"/>
              </a:rPr>
              <a:t>Всего – 44 ТК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1080" y="2290680"/>
            <a:ext cx="431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Менеджмент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аче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ндартизация в области метр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лесные транспортные сре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акторы и машины для сельскохозяйственных работ и лесо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ехническая диагностика и неразрушающий 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Лег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Космические системы и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дицин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572000" y="230184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Парфюмерно-косметическая проду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Оценка соответ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Энерго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дежность в техн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Лесоматери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удебно-экспертная деятельность и криминалистическая тех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тандартизация в области архитектуры и строитель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87B-0C3F-404C-9E8E-3760172D7E7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250920" y="149400"/>
            <a:ext cx="8066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МЕЖГОСУДАРСТВЕННЫЕ ТЕХНИЧЕСКИЕ КОМИТЕТЫ ПО СТАНДАРТИЗ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420840" y="1249200"/>
            <a:ext cx="1245960" cy="1100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2050920" y="1484280"/>
            <a:ext cx="63374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Республика Беларусь принимает участи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1984320" y="2017800"/>
            <a:ext cx="39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  <a:ea typeface="Calibri"/>
              </a:rPr>
              <a:t>76 МТ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оугольник 11"/>
          <p:cNvSpPr/>
          <p:nvPr/>
        </p:nvSpPr>
        <p:spPr>
          <a:xfrm>
            <a:off x="2913120" y="2382840"/>
            <a:ext cx="38894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полноправный член – 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член-наблюдатель – 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Прямоугольник 8"/>
          <p:cNvGrpSpPr/>
          <p:nvPr/>
        </p:nvGrpSpPr>
        <p:grpSpPr>
          <a:xfrm>
            <a:off x="353880" y="3681360"/>
            <a:ext cx="8034480" cy="1066680"/>
            <a:chOff x="353880" y="3681360"/>
            <a:chExt cx="8034480" cy="1066680"/>
          </a:xfrm>
        </p:grpSpPr>
        <p:pic>
          <p:nvPicPr>
            <p:cNvPr id="2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353880" y="3681360"/>
              <a:ext cx="80344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20840" y="3716280"/>
              <a:ext cx="78962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Организации</a:t>
              </a:r>
              <a:r>
                <a:rPr b="1" lang="ru-RU" sz="20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 </a:t>
              </a: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еспублики Беларусь принимаю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участие в МТК в приоритетных для страны областях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Прямоугольник 20"/>
          <p:cNvSpPr/>
          <p:nvPr/>
        </p:nvSpPr>
        <p:spPr>
          <a:xfrm>
            <a:off x="363600" y="5165640"/>
            <a:ext cx="3637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электротехника и электр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машиностроение и приборостро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химичес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Прямоугольник 1"/>
          <p:cNvSpPr/>
          <p:nvPr/>
        </p:nvSpPr>
        <p:spPr>
          <a:xfrm>
            <a:off x="4805280" y="5157720"/>
            <a:ext cx="36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нефтян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пищев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легкая промышлен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Прямоугольник 9"/>
          <p:cNvGrpSpPr/>
          <p:nvPr/>
        </p:nvGrpSpPr>
        <p:grpSpPr>
          <a:xfrm>
            <a:off x="298440" y="2279520"/>
            <a:ext cx="1438200" cy="609840"/>
            <a:chOff x="298440" y="2279520"/>
            <a:chExt cx="1438200" cy="609840"/>
          </a:xfrm>
        </p:grpSpPr>
        <p:pic>
          <p:nvPicPr>
            <p:cNvPr id="24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98440" y="2279520"/>
              <a:ext cx="14382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63600" y="2340000"/>
              <a:ext cx="130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440" bIns="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Calibri"/>
                  <a:ea typeface="Calibri"/>
                </a:rPr>
                <a:t>131 МТК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71C1-CFE9-4A5D-B153-4AFADA9F6D7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8BEE-9746-49BA-A8EB-1715E60FB75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-179280" y="1159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d22"/>
                </a:solidFill>
                <a:latin typeface="Calibri"/>
              </a:rPr>
              <a:t>УЧАСТИЕ  В  МЕЖДУНАРОДНЫХ  И  РЕГИОНАЛЬНЫХ ОРГАНИЗАЦИЯХ  ПО  СТАНДАРТ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Диаграмма 3" descr=""/>
          <p:cNvPicPr/>
          <p:nvPr/>
        </p:nvPicPr>
        <p:blipFill>
          <a:blip r:embed="rId1"/>
          <a:stretch/>
        </p:blipFill>
        <p:spPr>
          <a:xfrm>
            <a:off x="739800" y="3049560"/>
            <a:ext cx="6886440" cy="2990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2"/>
          <a:stretch/>
        </p:blipFill>
        <p:spPr>
          <a:xfrm>
            <a:off x="684360" y="1289160"/>
            <a:ext cx="718920" cy="60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9" name="Picture 12" descr=""/>
          <p:cNvPicPr/>
          <p:nvPr/>
        </p:nvPicPr>
        <p:blipFill>
          <a:blip r:embed="rId3"/>
          <a:stretch/>
        </p:blipFill>
        <p:spPr>
          <a:xfrm>
            <a:off x="2867040" y="1268280"/>
            <a:ext cx="623880" cy="6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50" name="Rectangle 5"/>
          <p:cNvGrpSpPr/>
          <p:nvPr/>
        </p:nvGrpSpPr>
        <p:grpSpPr>
          <a:xfrm>
            <a:off x="182520" y="1957320"/>
            <a:ext cx="1798560" cy="633600"/>
            <a:chOff x="182520" y="1957320"/>
            <a:chExt cx="1798560" cy="633600"/>
          </a:xfrm>
        </p:grpSpPr>
        <p:pic>
          <p:nvPicPr>
            <p:cNvPr id="251" name="Rectangle 5" descr=""/>
            <p:cNvPicPr/>
            <p:nvPr/>
          </p:nvPicPr>
          <p:blipFill>
            <a:blip r:embed="rId4"/>
            <a:stretch/>
          </p:blipFill>
          <p:spPr>
            <a:xfrm>
              <a:off x="182520" y="1957320"/>
              <a:ext cx="179856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50920" y="2006640"/>
              <a:ext cx="165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3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8 </a:t>
              </a:r>
              <a:r>
                <a:rPr b="1" lang="en-US" sz="19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SO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5"/>
          <p:cNvGrpSpPr/>
          <p:nvPr/>
        </p:nvGrpSpPr>
        <p:grpSpPr>
          <a:xfrm>
            <a:off x="2011320" y="1962000"/>
            <a:ext cx="2127240" cy="609840"/>
            <a:chOff x="2011320" y="1962000"/>
            <a:chExt cx="2127240" cy="609840"/>
          </a:xfrm>
        </p:grpSpPr>
        <p:pic>
          <p:nvPicPr>
            <p:cNvPr id="254" name="Rectangle 5" descr=""/>
            <p:cNvPicPr/>
            <p:nvPr/>
          </p:nvPicPr>
          <p:blipFill>
            <a:blip r:embed="rId5"/>
            <a:stretch/>
          </p:blipFill>
          <p:spPr>
            <a:xfrm>
              <a:off x="2011320" y="1962000"/>
              <a:ext cx="21272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081160" y="2009880"/>
              <a:ext cx="1986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97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EC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Прямоугольник 22"/>
          <p:cNvGrpSpPr/>
          <p:nvPr/>
        </p:nvGrpSpPr>
        <p:grpSpPr>
          <a:xfrm>
            <a:off x="152280" y="5821200"/>
            <a:ext cx="2090880" cy="878040"/>
            <a:chOff x="152280" y="5821200"/>
            <a:chExt cx="2090880" cy="878040"/>
          </a:xfrm>
        </p:grpSpPr>
        <p:pic>
          <p:nvPicPr>
            <p:cNvPr id="257" name="Прямоугольник 22" descr=""/>
            <p:cNvPicPr/>
            <p:nvPr/>
          </p:nvPicPr>
          <p:blipFill>
            <a:blip r:embed="rId6"/>
            <a:stretch/>
          </p:blipFill>
          <p:spPr>
            <a:xfrm>
              <a:off x="152280" y="5821200"/>
              <a:ext cx="20908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50920" y="5878440"/>
              <a:ext cx="189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ассмотрено </a:t>
              </a:r>
              <a:br>
                <a:rPr sz="1800"/>
              </a:br>
              <a:r>
                <a:rPr b="1" lang="ru-RU" sz="1800" spc="-1" strike="noStrike">
                  <a:solidFill>
                    <a:srgbClr val="a50021"/>
                  </a:solidFill>
                  <a:latin typeface="Calibri"/>
                  <a:ea typeface="Calibri"/>
                </a:rPr>
                <a:t>388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проектов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IS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9" name="Picture 9" descr=""/>
          <p:cNvPicPr/>
          <p:nvPr/>
        </p:nvPicPr>
        <p:blipFill>
          <a:blip r:embed="rId7"/>
          <a:srcRect l="0" t="10662" r="0" b="15966"/>
          <a:stretch/>
        </p:blipFill>
        <p:spPr>
          <a:xfrm>
            <a:off x="6661080" y="1368360"/>
            <a:ext cx="1257480" cy="5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0" name="Picture 10" descr=""/>
          <p:cNvPicPr/>
          <p:nvPr/>
        </p:nvPicPr>
        <p:blipFill>
          <a:blip r:embed="rId8"/>
          <a:stretch/>
        </p:blipFill>
        <p:spPr>
          <a:xfrm>
            <a:off x="4830840" y="1333440"/>
            <a:ext cx="647640" cy="5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61" name="Rectangle 5"/>
          <p:cNvGrpSpPr/>
          <p:nvPr/>
        </p:nvGrpSpPr>
        <p:grpSpPr>
          <a:xfrm>
            <a:off x="4114800" y="1962000"/>
            <a:ext cx="2230560" cy="609840"/>
            <a:chOff x="4114800" y="1962000"/>
            <a:chExt cx="2230560" cy="609840"/>
          </a:xfrm>
        </p:grpSpPr>
        <p:pic>
          <p:nvPicPr>
            <p:cNvPr id="262" name="Rectangle 5" descr=""/>
            <p:cNvPicPr/>
            <p:nvPr/>
          </p:nvPicPr>
          <p:blipFill>
            <a:blip r:embed="rId9"/>
            <a:stretch/>
          </p:blipFill>
          <p:spPr>
            <a:xfrm>
              <a:off x="4114800" y="1962000"/>
              <a:ext cx="22305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183200" y="2006640"/>
              <a:ext cx="2087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313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CEN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5"/>
          <p:cNvGrpSpPr/>
          <p:nvPr/>
        </p:nvGrpSpPr>
        <p:grpSpPr>
          <a:xfrm>
            <a:off x="6278400" y="1957320"/>
            <a:ext cx="2183040" cy="609840"/>
            <a:chOff x="6278400" y="1957320"/>
            <a:chExt cx="2183040" cy="609840"/>
          </a:xfrm>
        </p:grpSpPr>
        <p:pic>
          <p:nvPicPr>
            <p:cNvPr id="265" name="Rectangle 5" descr=""/>
            <p:cNvPicPr/>
            <p:nvPr/>
          </p:nvPicPr>
          <p:blipFill>
            <a:blip r:embed="rId10"/>
            <a:stretch/>
          </p:blipFill>
          <p:spPr>
            <a:xfrm>
              <a:off x="6278400" y="1957320"/>
              <a:ext cx="2183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43560" y="2000160"/>
              <a:ext cx="20448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69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CLC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/Т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Прямоугольник 8"/>
          <p:cNvGrpSpPr/>
          <p:nvPr/>
        </p:nvGrpSpPr>
        <p:grpSpPr>
          <a:xfrm>
            <a:off x="6095880" y="5815080"/>
            <a:ext cx="1994040" cy="884160"/>
            <a:chOff x="6095880" y="5815080"/>
            <a:chExt cx="1994040" cy="884160"/>
          </a:xfrm>
        </p:grpSpPr>
        <p:pic>
          <p:nvPicPr>
            <p:cNvPr id="268" name="Прямоугольник 8" descr=""/>
            <p:cNvPicPr/>
            <p:nvPr/>
          </p:nvPicPr>
          <p:blipFill>
            <a:blip r:embed="rId11"/>
            <a:stretch/>
          </p:blipFill>
          <p:spPr>
            <a:xfrm>
              <a:off x="6095880" y="5815080"/>
              <a:ext cx="199404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6156360" y="5877000"/>
              <a:ext cx="187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Рассмотрено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alibri"/>
                  <a:ea typeface="Calibri"/>
                </a:rPr>
                <a:t>92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проекта </a:t>
              </a: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EN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Скругленный прямоугольник 11"/>
          <p:cNvSpPr/>
          <p:nvPr/>
        </p:nvSpPr>
        <p:spPr>
          <a:xfrm>
            <a:off x="2176560" y="2563920"/>
            <a:ext cx="4032000" cy="407880"/>
          </a:xfrm>
          <a:prstGeom prst="roundRect">
            <a:avLst>
              <a:gd name="adj" fmla="val 16667"/>
            </a:avLst>
          </a:prstGeom>
          <a:solidFill>
            <a:srgbClr val="7e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частие Республики Белару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Rectangle 5"/>
          <p:cNvGrpSpPr/>
          <p:nvPr/>
        </p:nvGrpSpPr>
        <p:grpSpPr>
          <a:xfrm>
            <a:off x="1847880" y="5742000"/>
            <a:ext cx="779400" cy="482760"/>
            <a:chOff x="1847880" y="5742000"/>
            <a:chExt cx="779400" cy="482760"/>
          </a:xfrm>
        </p:grpSpPr>
        <p:pic>
          <p:nvPicPr>
            <p:cNvPr id="272" name="Rectangle 5" descr=""/>
            <p:cNvPicPr/>
            <p:nvPr/>
          </p:nvPicPr>
          <p:blipFill>
            <a:blip r:embed="rId12"/>
            <a:stretch/>
          </p:blipFill>
          <p:spPr>
            <a:xfrm>
              <a:off x="1847880" y="5742000"/>
              <a:ext cx="779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916280" y="5805360"/>
              <a:ext cx="63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Rectangle 5"/>
          <p:cNvGrpSpPr/>
          <p:nvPr/>
        </p:nvGrpSpPr>
        <p:grpSpPr>
          <a:xfrm>
            <a:off x="7570800" y="5681520"/>
            <a:ext cx="781200" cy="487440"/>
            <a:chOff x="7570800" y="5681520"/>
            <a:chExt cx="781200" cy="487440"/>
          </a:xfrm>
        </p:grpSpPr>
        <p:pic>
          <p:nvPicPr>
            <p:cNvPr id="275" name="Rectangle 5" descr=""/>
            <p:cNvPicPr/>
            <p:nvPr/>
          </p:nvPicPr>
          <p:blipFill>
            <a:blip r:embed="rId13"/>
            <a:stretch/>
          </p:blipFill>
          <p:spPr>
            <a:xfrm>
              <a:off x="7570800" y="5681520"/>
              <a:ext cx="7812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637400" y="5746680"/>
              <a:ext cx="63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9"/>
          <p:cNvGrpSpPr/>
          <p:nvPr/>
        </p:nvGrpSpPr>
        <p:grpSpPr>
          <a:xfrm>
            <a:off x="108000" y="1473120"/>
            <a:ext cx="8496360" cy="2735280"/>
            <a:chOff x="108000" y="1473120"/>
            <a:chExt cx="8496360" cy="2735280"/>
          </a:xfrm>
        </p:grpSpPr>
        <p:sp>
          <p:nvSpPr>
            <p:cNvPr id="278" name="Text Box 6"/>
            <p:cNvSpPr/>
            <p:nvPr/>
          </p:nvSpPr>
          <p:spPr>
            <a:xfrm>
              <a:off x="684000" y="2181240"/>
              <a:ext cx="7632720" cy="158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ие нормативные правовые акты Республики Беларусь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Законодательные акты о действии ТНП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Таможенного союз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Международные, региональные стандар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Национальные стандарты иностранных государст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3366"/>
                  </a:solidFill>
                  <a:latin typeface="Arial"/>
                </a:rPr>
                <a:t>Техническое законодательство Е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Text Box 7"/>
            <p:cNvSpPr/>
            <p:nvPr/>
          </p:nvSpPr>
          <p:spPr>
            <a:xfrm>
              <a:off x="108000" y="1473120"/>
              <a:ext cx="3673440" cy="719280"/>
            </a:xfrm>
            <a:prstGeom prst="rect">
              <a:avLst/>
            </a:prstGeom>
            <a:solidFill>
              <a:srgbClr val="9c1d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Национальный фонд ТНП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ffff"/>
                  </a:solidFill>
                  <a:latin typeface="Calibri"/>
                </a:rPr>
                <a:t>(более 200 000 документов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Text Box 9"/>
            <p:cNvSpPr/>
            <p:nvPr/>
          </p:nvSpPr>
          <p:spPr>
            <a:xfrm>
              <a:off x="395280" y="3765600"/>
              <a:ext cx="8209080" cy="442800"/>
            </a:xfrm>
            <a:prstGeom prst="rect">
              <a:avLst/>
            </a:prstGeom>
            <a:solidFill>
              <a:srgbClr val="22226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Электронный банк д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Стрелка вправо 5"/>
          <p:cNvSpPr/>
          <p:nvPr/>
        </p:nvSpPr>
        <p:spPr>
          <a:xfrm rot="5400000">
            <a:off x="3804840" y="4076640"/>
            <a:ext cx="431640" cy="863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925560" y="485640"/>
            <a:ext cx="7031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ИСТЕМА КОМПЛЕКСНОГО ИНФОРМАЦИОН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Группа 7"/>
          <p:cNvGrpSpPr/>
          <p:nvPr/>
        </p:nvGrpSpPr>
        <p:grpSpPr>
          <a:xfrm>
            <a:off x="539640" y="4875120"/>
            <a:ext cx="7777440" cy="1290600"/>
            <a:chOff x="539640" y="4875120"/>
            <a:chExt cx="7777440" cy="1290600"/>
          </a:xfrm>
        </p:grpSpPr>
        <p:sp>
          <p:nvSpPr>
            <p:cNvPr id="284" name="Text Box 17"/>
            <p:cNvSpPr/>
            <p:nvPr/>
          </p:nvSpPr>
          <p:spPr>
            <a:xfrm>
              <a:off x="539640" y="4875120"/>
              <a:ext cx="7777440" cy="767880"/>
            </a:xfrm>
            <a:prstGeom prst="rect">
              <a:avLst/>
            </a:prstGeom>
            <a:solidFill>
              <a:srgbClr val="f4f4ef"/>
            </a:solidFill>
            <a:ln w="1908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222268"/>
                  </a:solidFill>
                  <a:latin typeface="Calibri"/>
                </a:rPr>
                <a:t>Система комплексного информационного обеспече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5" name="Picture 2" descr=""/>
            <p:cNvPicPr/>
            <p:nvPr/>
          </p:nvPicPr>
          <p:blipFill>
            <a:blip r:embed="rId1"/>
            <a:stretch/>
          </p:blipFill>
          <p:spPr>
            <a:xfrm>
              <a:off x="828720" y="5046120"/>
              <a:ext cx="7065720" cy="111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4E71-38B2-4BFB-BEF1-B3A162FD805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1"/>
          <p:cNvSpPr/>
          <p:nvPr/>
        </p:nvSpPr>
        <p:spPr>
          <a:xfrm>
            <a:off x="395280" y="476280"/>
            <a:ext cx="8064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Модульная структур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9c1d22"/>
                </a:solidFill>
                <a:latin typeface="Calibri"/>
              </a:rPr>
              <a:t>Системы комплексного информационного обеспече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Группа 16"/>
          <p:cNvGrpSpPr/>
          <p:nvPr/>
        </p:nvGrpSpPr>
        <p:grpSpPr>
          <a:xfrm>
            <a:off x="60480" y="1341360"/>
            <a:ext cx="8399160" cy="5256360"/>
            <a:chOff x="60480" y="1341360"/>
            <a:chExt cx="8399160" cy="5256360"/>
          </a:xfrm>
        </p:grpSpPr>
        <p:pic>
          <p:nvPicPr>
            <p:cNvPr id="289" name="Схема 17" descr=""/>
            <p:cNvPicPr/>
            <p:nvPr/>
          </p:nvPicPr>
          <p:blipFill>
            <a:blip r:embed="rId1"/>
            <a:stretch/>
          </p:blipFill>
          <p:spPr>
            <a:xfrm>
              <a:off x="1032480" y="1341360"/>
              <a:ext cx="5514480" cy="52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0" name="Группа 15"/>
            <p:cNvGrpSpPr/>
            <p:nvPr/>
          </p:nvGrpSpPr>
          <p:grpSpPr>
            <a:xfrm>
              <a:off x="60480" y="3204000"/>
              <a:ext cx="1756800" cy="1494000"/>
              <a:chOff x="60480" y="3204000"/>
              <a:chExt cx="1756800" cy="1494000"/>
            </a:xfrm>
          </p:grpSpPr>
          <p:pic>
            <p:nvPicPr>
              <p:cNvPr id="291" name="Picture 3" descr=""/>
              <p:cNvPicPr/>
              <p:nvPr/>
            </p:nvPicPr>
            <p:blipFill>
              <a:blip r:embed="rId2"/>
              <a:srcRect l="0" t="5468" r="0" b="32432"/>
              <a:stretch/>
            </p:blipFill>
            <p:spPr>
              <a:xfrm>
                <a:off x="60480" y="3204000"/>
                <a:ext cx="1326240" cy="7765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2" name="Picture 2" descr=""/>
              <p:cNvPicPr/>
              <p:nvPr/>
            </p:nvPicPr>
            <p:blipFill>
              <a:blip r:embed="rId3"/>
              <a:srcRect l="0" t="9935" r="0" b="4849"/>
              <a:stretch/>
            </p:blipFill>
            <p:spPr>
              <a:xfrm>
                <a:off x="178200" y="3591360"/>
                <a:ext cx="1639080" cy="1040040"/>
              </a:xfrm>
              <a:prstGeom prst="rect">
                <a:avLst/>
              </a:prstGeom>
              <a:ln w="9360">
                <a:solidFill>
                  <a:srgbClr val="2d2d8a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3" name="Picture 7" descr=""/>
              <p:cNvPicPr/>
              <p:nvPr/>
            </p:nvPicPr>
            <p:blipFill>
              <a:blip r:embed="rId4"/>
              <a:srcRect l="1575" t="5890" r="4577" b="10585"/>
              <a:stretch/>
            </p:blipFill>
            <p:spPr>
              <a:xfrm>
                <a:off x="677880" y="3980520"/>
                <a:ext cx="680400" cy="706680"/>
              </a:xfrm>
              <a:prstGeom prst="rect">
                <a:avLst/>
              </a:prstGeom>
              <a:ln w="1260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  <p:pic>
            <p:nvPicPr>
              <p:cNvPr id="294" name="Рисунок 28" descr=""/>
              <p:cNvPicPr/>
              <p:nvPr/>
            </p:nvPicPr>
            <p:blipFill>
              <a:blip r:embed="rId5"/>
              <a:srcRect l="782" t="0" r="1028" b="9419"/>
              <a:stretch/>
            </p:blipFill>
            <p:spPr>
              <a:xfrm>
                <a:off x="1034640" y="4112280"/>
                <a:ext cx="647280" cy="585720"/>
              </a:xfrm>
              <a:prstGeom prst="rect">
                <a:avLst/>
              </a:prstGeom>
              <a:ln w="9360">
                <a:solidFill>
                  <a:srgbClr val="222268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</p:pic>
        </p:grpSp>
        <p:grpSp>
          <p:nvGrpSpPr>
            <p:cNvPr id="295" name="Прямоугольник 19"/>
            <p:cNvGrpSpPr/>
            <p:nvPr/>
          </p:nvGrpSpPr>
          <p:grpSpPr>
            <a:xfrm>
              <a:off x="6517080" y="2408400"/>
              <a:ext cx="1942560" cy="1030320"/>
              <a:chOff x="6517080" y="2408400"/>
              <a:chExt cx="1942560" cy="1030320"/>
            </a:xfrm>
          </p:grpSpPr>
          <p:pic>
            <p:nvPicPr>
              <p:cNvPr id="296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17080" y="2408400"/>
                <a:ext cx="1942560" cy="103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788160" y="2421720"/>
                <a:ext cx="1585800" cy="74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Информационное обеспечение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Прямоугольник 20"/>
            <p:cNvGrpSpPr/>
            <p:nvPr/>
          </p:nvGrpSpPr>
          <p:grpSpPr>
            <a:xfrm>
              <a:off x="6619680" y="5292720"/>
              <a:ext cx="1839960" cy="945000"/>
              <a:chOff x="6619680" y="5292720"/>
              <a:chExt cx="1839960" cy="945000"/>
            </a:xfrm>
          </p:grpSpPr>
          <p:pic>
            <p:nvPicPr>
              <p:cNvPr id="299" name="Прямоугольник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6619680" y="5292720"/>
                <a:ext cx="1839960" cy="94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6877440" y="5308200"/>
                <a:ext cx="149652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артнерский </a:t>
                </a:r>
                <a:br>
                  <a:rPr sz="1400"/>
                </a:b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бло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Прямоугольник 21"/>
            <p:cNvGrpSpPr/>
            <p:nvPr/>
          </p:nvGrpSpPr>
          <p:grpSpPr>
            <a:xfrm>
              <a:off x="6631560" y="4079160"/>
              <a:ext cx="1828080" cy="902520"/>
              <a:chOff x="6631560" y="4079160"/>
              <a:chExt cx="1828080" cy="902520"/>
            </a:xfrm>
          </p:grpSpPr>
          <p:pic>
            <p:nvPicPr>
              <p:cNvPr id="302" name="Прямоугольник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1560" y="4079160"/>
                <a:ext cx="182808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6877080" y="4091760"/>
                <a:ext cx="149652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Планирование и разработка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4" name="Правая фигурная скобка 22"/>
            <p:cNvSpPr/>
            <p:nvPr/>
          </p:nvSpPr>
          <p:spPr>
            <a:xfrm>
              <a:off x="6521400" y="1665360"/>
              <a:ext cx="266760" cy="2230920"/>
            </a:xfrm>
            <a:custGeom>
              <a:avLst/>
              <a:gdLst>
                <a:gd name="textAreaLeft" fmla="*/ 0 w 266760"/>
                <a:gd name="textAreaRight" fmla="*/ 96120 w 266760"/>
                <a:gd name="textAreaTop" fmla="*/ 30960 h 2230920"/>
                <a:gd name="textAreaBottom" fmla="*/ 2199960 h 223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83"/>
                    <a:pt x="10800" y="965"/>
                  </a:cubicBezTo>
                  <a:lnTo>
                    <a:pt x="10800" y="9835"/>
                  </a:lnTo>
                  <a:cubicBezTo>
                    <a:pt x="10800" y="10318"/>
                    <a:pt x="16200" y="10800"/>
                    <a:pt x="21600" y="10800"/>
                  </a:cubicBezTo>
                  <a:cubicBezTo>
                    <a:pt x="16200" y="10800"/>
                    <a:pt x="10800" y="11283"/>
                    <a:pt x="10800" y="11765"/>
                  </a:cubicBezTo>
                  <a:lnTo>
                    <a:pt x="10800" y="20635"/>
                  </a:lnTo>
                  <a:cubicBezTo>
                    <a:pt x="10800" y="2111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Штриховая стрелка вправо 23"/>
            <p:cNvSpPr/>
            <p:nvPr/>
          </p:nvSpPr>
          <p:spPr>
            <a:xfrm>
              <a:off x="6591960" y="4136400"/>
              <a:ext cx="266760" cy="538200"/>
            </a:xfrm>
            <a:custGeom>
              <a:avLst/>
              <a:gdLst/>
              <a:ahLst/>
              <a:rect l="l" t="t" r="r" b="b"/>
              <a:pathLst>
                <a:path w="269906" h="538200">
                  <a:moveTo>
                    <a:pt x="0" y="134550"/>
                  </a:moveTo>
                  <a:lnTo>
                    <a:pt x="8435" y="134550"/>
                  </a:lnTo>
                  <a:lnTo>
                    <a:pt x="8435" y="403650"/>
                  </a:lnTo>
                  <a:lnTo>
                    <a:pt x="0" y="403650"/>
                  </a:lnTo>
                  <a:lnTo>
                    <a:pt x="0" y="134550"/>
                  </a:lnTo>
                  <a:close/>
                  <a:moveTo>
                    <a:pt x="16869" y="134550"/>
                  </a:moveTo>
                  <a:lnTo>
                    <a:pt x="33738" y="134550"/>
                  </a:lnTo>
                  <a:lnTo>
                    <a:pt x="33738" y="403650"/>
                  </a:lnTo>
                  <a:lnTo>
                    <a:pt x="16869" y="403650"/>
                  </a:lnTo>
                  <a:lnTo>
                    <a:pt x="16869" y="134550"/>
                  </a:lnTo>
                  <a:close/>
                  <a:moveTo>
                    <a:pt x="42173" y="134550"/>
                  </a:moveTo>
                  <a:lnTo>
                    <a:pt x="134953" y="134550"/>
                  </a:lnTo>
                  <a:lnTo>
                    <a:pt x="134953" y="0"/>
                  </a:lnTo>
                  <a:lnTo>
                    <a:pt x="269906" y="269100"/>
                  </a:lnTo>
                  <a:lnTo>
                    <a:pt x="134953" y="538200"/>
                  </a:lnTo>
                  <a:lnTo>
                    <a:pt x="134953" y="403650"/>
                  </a:lnTo>
                  <a:lnTo>
                    <a:pt x="42173" y="403650"/>
                  </a:lnTo>
                  <a:lnTo>
                    <a:pt x="42173" y="134550"/>
                  </a:lnTo>
                  <a:close/>
                </a:path>
              </a:pathLst>
            </a:custGeom>
            <a:noFill/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Правая фигурная скобка 24"/>
            <p:cNvSpPr/>
            <p:nvPr/>
          </p:nvSpPr>
          <p:spPr>
            <a:xfrm>
              <a:off x="6591960" y="4935240"/>
              <a:ext cx="266760" cy="1422720"/>
            </a:xfrm>
            <a:custGeom>
              <a:avLst/>
              <a:gdLst>
                <a:gd name="textAreaLeft" fmla="*/ 0 w 266760"/>
                <a:gd name="textAreaRight" fmla="*/ 96120 w 266760"/>
                <a:gd name="textAreaTop" fmla="*/ 30960 h 1422720"/>
                <a:gd name="textAreaBottom" fmla="*/ 1391760 h 142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7"/>
                    <a:pt x="10800" y="1514"/>
                  </a:cubicBezTo>
                  <a:lnTo>
                    <a:pt x="10800" y="9286"/>
                  </a:lnTo>
                  <a:cubicBezTo>
                    <a:pt x="10800" y="10043"/>
                    <a:pt x="16200" y="10800"/>
                    <a:pt x="21600" y="10800"/>
                  </a:cubicBezTo>
                  <a:cubicBezTo>
                    <a:pt x="16200" y="10800"/>
                    <a:pt x="10800" y="11557"/>
                    <a:pt x="10800" y="12314"/>
                  </a:cubicBezTo>
                  <a:lnTo>
                    <a:pt x="10800" y="20086"/>
                  </a:lnTo>
                  <a:cubicBezTo>
                    <a:pt x="10800" y="2084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308-6321-4B17-8DD5-F952D6F9515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0920" y="2708280"/>
            <a:ext cx="754380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Метролог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057-B843-4EA0-A75D-A4D0353A823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5"/>
          <p:cNvSpPr/>
          <p:nvPr/>
        </p:nvSpPr>
        <p:spPr>
          <a:xfrm>
            <a:off x="1025640" y="189000"/>
            <a:ext cx="669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Эталоны Республики 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238A-094D-4858-B73F-4EC94EAECE2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6" descr="\\NDD05\Documents\ММН\Сайт\фото Эталоны\Фото НЭ\1-95 время герц\smol\smol1НЭ 1-95.jpg"/>
          <p:cNvPicPr/>
          <p:nvPr/>
        </p:nvPicPr>
        <p:blipFill>
          <a:blip r:embed="rId1"/>
          <a:stretch/>
        </p:blipFill>
        <p:spPr>
          <a:xfrm>
            <a:off x="6370560" y="5157720"/>
            <a:ext cx="2017800" cy="154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\\NDD05\Documents\ММН\Сайт\фото Эталоны\Фото НЭ\15-05 килограмм\смол\smol DSC01486.jpg"/>
          <p:cNvPicPr/>
          <p:nvPr/>
        </p:nvPicPr>
        <p:blipFill>
          <a:blip r:embed="rId2"/>
          <a:stretch/>
        </p:blipFill>
        <p:spPr>
          <a:xfrm>
            <a:off x="4522680" y="5194440"/>
            <a:ext cx="1817640" cy="154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\\NDD05\Documents\ММН\Сайт\фото Эталоны\Фото НЭ\8-02 кандела люкс\f 3 см.JPG"/>
          <p:cNvPicPr/>
          <p:nvPr/>
        </p:nvPicPr>
        <p:blipFill>
          <a:blip r:embed="rId3"/>
          <a:stretch/>
        </p:blipFill>
        <p:spPr>
          <a:xfrm>
            <a:off x="2554200" y="5175360"/>
            <a:ext cx="1925640" cy="154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4"/>
          <a:stretch/>
        </p:blipFill>
        <p:spPr>
          <a:xfrm>
            <a:off x="85680" y="5181480"/>
            <a:ext cx="2395440" cy="1548000"/>
          </a:xfrm>
          <a:prstGeom prst="rect">
            <a:avLst/>
          </a:prstGeom>
          <a:ln w="0">
            <a:noFill/>
          </a:ln>
        </p:spPr>
      </p:pic>
      <p:grpSp>
        <p:nvGrpSpPr>
          <p:cNvPr id="317" name="Группа 33"/>
          <p:cNvGrpSpPr/>
          <p:nvPr/>
        </p:nvGrpSpPr>
        <p:grpSpPr>
          <a:xfrm>
            <a:off x="108000" y="765000"/>
            <a:ext cx="6234120" cy="2524680"/>
            <a:chOff x="108000" y="765000"/>
            <a:chExt cx="6234120" cy="2524680"/>
          </a:xfrm>
        </p:grpSpPr>
        <p:sp>
          <p:nvSpPr>
            <p:cNvPr id="318" name="Text Box 8"/>
            <p:cNvSpPr/>
            <p:nvPr/>
          </p:nvSpPr>
          <p:spPr>
            <a:xfrm>
              <a:off x="2347920" y="765000"/>
              <a:ext cx="1467000" cy="1617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c1d2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0" spc="-1" strike="noStrike">
                  <a:solidFill>
                    <a:srgbClr val="cc3300"/>
                  </a:solidFill>
                  <a:latin typeface="Calibri"/>
                  <a:ea typeface="Calibri"/>
                </a:rPr>
                <a:t>53</a:t>
              </a:r>
              <a:endParaRPr b="0" lang="en-US" sz="10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AutoShape 30"/>
            <p:cNvSpPr/>
            <p:nvPr/>
          </p:nvSpPr>
          <p:spPr>
            <a:xfrm>
              <a:off x="108000" y="2209320"/>
              <a:ext cx="6234120" cy="10803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72c62"/>
                  </a:solidFill>
                  <a:latin typeface="Calibri"/>
                  <a:ea typeface="Tahoma"/>
                </a:rPr>
                <a:t>государственных эталона Республики Беларус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Text Box 3"/>
          <p:cNvSpPr/>
          <p:nvPr/>
        </p:nvSpPr>
        <p:spPr>
          <a:xfrm>
            <a:off x="179280" y="3454560"/>
            <a:ext cx="8137800" cy="1618560"/>
          </a:xfrm>
          <a:prstGeom prst="rect">
            <a:avLst/>
          </a:prstGeom>
          <a:solidFill>
            <a:srgbClr val="296a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результате выполнения подпрограммы «Эталоны Беларуси»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 2011-2015 годах созда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13 государственных этал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4 эталонных компле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3 государственных эталона модернизиров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\\NDD05\Documents\ММН\Значки\7 единиц СИ.png"/>
          <p:cNvPicPr/>
          <p:nvPr/>
        </p:nvPicPr>
        <p:blipFill>
          <a:blip r:embed="rId5"/>
          <a:stretch/>
        </p:blipFill>
        <p:spPr>
          <a:xfrm>
            <a:off x="5651640" y="836640"/>
            <a:ext cx="25653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50920" y="44280"/>
            <a:ext cx="8066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азработка и создание государственных этало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79280" y="19155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1259"/>
                </a:solidFill>
                <a:uFillTx/>
                <a:latin typeface="Calibri"/>
                <a:ea typeface="Tahoma"/>
              </a:rPr>
              <a:t>Задачи подпрограм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108000" y="1157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Calibri"/>
              </a:rPr>
              <a:t>ГНТП «Эталоны и научные приборы»</a:t>
            </a:r>
            <a:br>
              <a:rPr sz="2400"/>
            </a:b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Calibri"/>
              </a:rPr>
              <a:t>Подпрограмма «Эталоны Беларуси» на 2016–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79280" y="2276640"/>
            <a:ext cx="8209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усилить независимость эталонной базы республики, в т.ч. через расширение источников получения метрологической прослеживаем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пособствовать развитию измерений для нужд атомной энергетики и связанных с ней отрас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обеспечить достоверными и надежными измерениями передовые научные и научно-технические разработ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363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оздать международно-признаваемые условия для измерений при диагностике и лечении заболеваний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79280" y="59522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Всего планируется создание </a:t>
            </a: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Tahoma"/>
              </a:rPr>
              <a:t>21</a:t>
            </a: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 государственного эталона и модернизация </a:t>
            </a:r>
            <a:r>
              <a:rPr b="1" lang="ru-RU" sz="2400" spc="-1" strike="noStrike">
                <a:solidFill>
                  <a:srgbClr val="b61644"/>
                </a:solidFill>
                <a:latin typeface="Calibri"/>
                <a:ea typeface="Tahoma"/>
              </a:rPr>
              <a:t>6</a:t>
            </a:r>
            <a:r>
              <a:rPr b="1" lang="ru-RU" sz="2000" spc="-1" strike="noStrike">
                <a:solidFill>
                  <a:srgbClr val="b61644"/>
                </a:solidFill>
                <a:latin typeface="Calibri"/>
                <a:ea typeface="Tahoma"/>
              </a:rPr>
              <a:t> эталон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11240" y="4581360"/>
          <a:ext cx="8277120" cy="1203480"/>
        </p:xfrm>
        <a:graphic>
          <a:graphicData uri="http://schemas.openxmlformats.org/drawingml/2006/table">
            <a:tbl>
              <a:tblPr/>
              <a:tblGrid>
                <a:gridCol w="3566880"/>
                <a:gridCol w="471024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51619"/>
                          </a:solidFill>
                          <a:latin typeface="Calibri"/>
                          <a:ea typeface="Calibri"/>
                        </a:rPr>
                        <a:t>АТОМНАЯ ЭНЕРГЕ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ede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ЕДИЦ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edee"/>
                    </a:solidFill>
                  </a:tcPr>
                </a:tc>
              </a:tr>
              <a:tr h="34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ГРОПРОМЫШЛЕННЫ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МЫШЛЕННЫЕ И СТРОИТЕЛЬНЫ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</a:tr>
              <a:tr h="27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ЦИОНАЛЬНАЯ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НЕРГЕТИКА И ЭНЕРГОЭФФЕ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7"/>
                    </a:solidFill>
                  </a:tcPr>
                </a:tc>
              </a:tr>
              <a:tr h="2833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ФОРМАЦИОННО-КОММУНИКАЦИОННЫЕ И КОСМИЧЕСКИ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c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8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FBD6-7FB5-4CBE-B843-E586BDD28D1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814536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D5A7-1924-4CE7-9758-D3D08EA2433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icture 4"/>
          <p:cNvSpPr/>
          <p:nvPr/>
        </p:nvSpPr>
        <p:spPr>
          <a:xfrm rot="1490400">
            <a:off x="2339640" y="3789360"/>
            <a:ext cx="193212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300720" y="3922560"/>
            <a:ext cx="21589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В 2016 г. планируется проведение работ по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размещению </a:t>
            </a:r>
            <a:r>
              <a:rPr b="1" lang="ru-RU" sz="1500" spc="-1" strike="noStrike">
                <a:solidFill>
                  <a:srgbClr val="cc3300"/>
                </a:solidFill>
                <a:latin typeface="Calibri"/>
                <a:ea typeface="Calibri"/>
              </a:rPr>
              <a:t>29 строк СМС-данных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, а также проведению более </a:t>
            </a:r>
            <a:r>
              <a:rPr b="1" lang="ru-RU" sz="1500" spc="-1" strike="noStrike">
                <a:solidFill>
                  <a:srgbClr val="cc3300"/>
                </a:solidFill>
                <a:latin typeface="Calibri"/>
                <a:ea typeface="Calibri"/>
              </a:rPr>
              <a:t>10 сличений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  <a:ea typeface="Calibri"/>
              </a:rPr>
              <a:t> государственных эталонов с эталонами стран-членов КООМЕТ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8" descr=""/>
          <p:cNvPicPr/>
          <p:nvPr/>
        </p:nvPicPr>
        <p:blipFill>
          <a:blip r:embed="rId1"/>
          <a:stretch/>
        </p:blipFill>
        <p:spPr>
          <a:xfrm>
            <a:off x="6875640" y="1087560"/>
            <a:ext cx="1223640" cy="282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"/>
          <p:cNvGraphicFramePr/>
          <p:nvPr/>
        </p:nvGraphicFramePr>
        <p:xfrm>
          <a:off x="187200" y="2997360"/>
          <a:ext cx="5897520" cy="3709800"/>
        </p:xfrm>
        <a:graphic>
          <a:graphicData uri="http://schemas.openxmlformats.org/drawingml/2006/table">
            <a:tbl>
              <a:tblPr/>
              <a:tblGrid>
                <a:gridCol w="1068480"/>
                <a:gridCol w="3900600"/>
                <a:gridCol w="928440"/>
              </a:tblGrid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ласть измер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стр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ремя и част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лектр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в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тометрия и связанные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нейно-угловые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сса и связанные с ней величины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крутящий момент, вязкость, твердость и ускорение свободного па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иоакти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из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2240">
                      <a:solidFill>
                        <a:srgbClr val="808080"/>
                      </a:solidFill>
                    </a:lnL>
                    <a:lnR w="12240">
                      <a:solidFill>
                        <a:srgbClr val="808080"/>
                      </a:solidFill>
                    </a:lnR>
                    <a:lnT w="12240">
                      <a:solidFill>
                        <a:srgbClr val="808080"/>
                      </a:solidFill>
                    </a:lnT>
                    <a:lnB w="1224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Скругленный прямоугольник 8"/>
          <p:cNvSpPr/>
          <p:nvPr/>
        </p:nvSpPr>
        <p:spPr>
          <a:xfrm>
            <a:off x="539640" y="11160"/>
            <a:ext cx="7699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Публикация СМС-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Стрелка вправо 16"/>
          <p:cNvSpPr/>
          <p:nvPr/>
        </p:nvSpPr>
        <p:spPr>
          <a:xfrm>
            <a:off x="3438360" y="1773360"/>
            <a:ext cx="2401920" cy="936360"/>
          </a:xfrm>
          <a:prstGeom prst="rightArrow">
            <a:avLst>
              <a:gd name="adj1" fmla="val 47454"/>
              <a:gd name="adj2" fmla="val 4119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7"/>
          <p:cNvSpPr/>
          <p:nvPr/>
        </p:nvSpPr>
        <p:spPr>
          <a:xfrm>
            <a:off x="2995560" y="1204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1619"/>
                </a:solidFill>
                <a:latin typeface="Arial"/>
                <a:ea typeface="Arial"/>
              </a:rPr>
              <a:t>CMCs KCDB BI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Рисунок 5" descr=""/>
          <p:cNvPicPr/>
          <p:nvPr/>
        </p:nvPicPr>
        <p:blipFill>
          <a:blip r:embed="rId3"/>
          <a:stretch/>
        </p:blipFill>
        <p:spPr>
          <a:xfrm>
            <a:off x="171360" y="1125360"/>
            <a:ext cx="1679760" cy="824040"/>
          </a:xfrm>
          <a:prstGeom prst="rect">
            <a:avLst/>
          </a:prstGeom>
          <a:ln w="0">
            <a:noFill/>
          </a:ln>
        </p:spPr>
      </p:pic>
      <p:grpSp>
        <p:nvGrpSpPr>
          <p:cNvPr id="338" name="Группа 6"/>
          <p:cNvGrpSpPr/>
          <p:nvPr/>
        </p:nvGrpSpPr>
        <p:grpSpPr>
          <a:xfrm>
            <a:off x="1328760" y="1809720"/>
            <a:ext cx="2492280" cy="903240"/>
            <a:chOff x="1328760" y="1809720"/>
            <a:chExt cx="2492280" cy="903240"/>
          </a:xfrm>
        </p:grpSpPr>
        <p:sp>
          <p:nvSpPr>
            <p:cNvPr id="339" name="Oval 17"/>
            <p:cNvSpPr/>
            <p:nvPr/>
          </p:nvSpPr>
          <p:spPr>
            <a:xfrm>
              <a:off x="1328760" y="1809720"/>
              <a:ext cx="2492280" cy="903240"/>
            </a:xfrm>
            <a:prstGeom prst="ellipse">
              <a:avLst/>
            </a:prstGeom>
            <a:gradFill rotWithShape="0">
              <a:gsLst>
                <a:gs pos="0">
                  <a:srgbClr val="2c7073"/>
                </a:gs>
                <a:gs pos="100000">
                  <a:srgbClr val="378d9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Oval 18"/>
            <p:cNvSpPr/>
            <p:nvPr/>
          </p:nvSpPr>
          <p:spPr>
            <a:xfrm>
              <a:off x="1477800" y="1895400"/>
              <a:ext cx="2193840" cy="7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78d9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226 (2015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Группа 11"/>
          <p:cNvGrpSpPr/>
          <p:nvPr/>
        </p:nvGrpSpPr>
        <p:grpSpPr>
          <a:xfrm>
            <a:off x="5896080" y="1787400"/>
            <a:ext cx="2492280" cy="903240"/>
            <a:chOff x="5896080" y="1787400"/>
            <a:chExt cx="2492280" cy="903240"/>
          </a:xfrm>
        </p:grpSpPr>
        <p:sp>
          <p:nvSpPr>
            <p:cNvPr id="342" name="Oval 17"/>
            <p:cNvSpPr/>
            <p:nvPr/>
          </p:nvSpPr>
          <p:spPr>
            <a:xfrm>
              <a:off x="5896080" y="1787400"/>
              <a:ext cx="2492280" cy="903240"/>
            </a:xfrm>
            <a:prstGeom prst="ellipse">
              <a:avLst/>
            </a:prstGeom>
            <a:gradFill rotWithShape="0">
              <a:gsLst>
                <a:gs pos="0">
                  <a:srgbClr val="2c7073"/>
                </a:gs>
                <a:gs pos="100000">
                  <a:srgbClr val="378d9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Oval 18"/>
            <p:cNvSpPr/>
            <p:nvPr/>
          </p:nvSpPr>
          <p:spPr>
            <a:xfrm>
              <a:off x="6045120" y="1873080"/>
              <a:ext cx="2193840" cy="73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78d9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55 (2016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планируетс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Rectangle 17"/>
          <p:cNvSpPr/>
          <p:nvPr/>
        </p:nvSpPr>
        <p:spPr>
          <a:xfrm>
            <a:off x="4056120" y="1855800"/>
            <a:ext cx="11044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61644"/>
                </a:solidFill>
                <a:latin typeface="Calibri"/>
              </a:rPr>
              <a:t>234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01.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.2016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Техническое нормирование и стандартизация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AED-D22A-412A-BF5D-6743470C560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826920" y="44280"/>
            <a:ext cx="7274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КОНЦЕПЦИЯ развития Государственной метрологической службы до 2020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Схема 4" descr=""/>
          <p:cNvPicPr/>
          <p:nvPr/>
        </p:nvPicPr>
        <p:blipFill>
          <a:blip r:embed="rId1"/>
          <a:stretch/>
        </p:blipFill>
        <p:spPr>
          <a:xfrm>
            <a:off x="311040" y="1079640"/>
            <a:ext cx="7948800" cy="17730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287280" y="2852640"/>
            <a:ext cx="7921800" cy="398880"/>
          </a:xfrm>
          <a:prstGeom prst="rect">
            <a:avLst/>
          </a:prstGeom>
          <a:solidFill>
            <a:srgbClr val="751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Целью настоящей КОНЦЕПЦИИ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6000" y="3596760"/>
            <a:ext cx="845964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правового и нормативно-технического обеспечения системы ОЕИ в современных условиях развития всех отраслей экономики страны, а также с учетом функционирования региональных и международных политико-экономических образований (СНГ, ЕАЭС, ЕС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развития национальной эталонной базы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потребностей промышленности, экономики, нау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совершенствования поверочной, калибровочной и испытательной базы ГМ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26676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научного, технического, экономического и информационного развития юридических лиц, входящих в состав ГМ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521280" y="3284640"/>
            <a:ext cx="2986560" cy="368280"/>
          </a:xfrm>
          <a:prstGeom prst="rect">
            <a:avLst/>
          </a:prstGeom>
          <a:solidFill>
            <a:srgbClr val="e05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установление направл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252360" y="64537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2520">
              <a:spcBef>
                <a:spcPts val="400"/>
              </a:spcBef>
              <a:buClr>
                <a:srgbClr val="9c1d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1259"/>
                </a:solidFill>
                <a:latin typeface="Calibri"/>
                <a:ea typeface="Tahoma"/>
              </a:rPr>
              <a:t>критических для ГМС вопросов осуществления метрологического контрол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371880" y="6083280"/>
            <a:ext cx="1578240" cy="368280"/>
          </a:xfrm>
          <a:prstGeom prst="rect">
            <a:avLst/>
          </a:prstGeom>
          <a:solidFill>
            <a:srgbClr val="e05b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определе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B6C-5288-4487-87EB-A369D5576C2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азвитие законодательства и </a:t>
            </a:r>
            <a:br>
              <a:rPr sz="3200"/>
            </a:b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истемы обеспечения единства измерений</a:t>
            </a:r>
            <a:endParaRPr b="0" lang="en-US" sz="32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149400" y="1916280"/>
            <a:ext cx="85993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сфера законодательной метр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метрологическая прослеживаемость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стандартные образц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61644"/>
                </a:solidFill>
                <a:latin typeface="Calibri"/>
                <a:ea typeface="Calibri"/>
              </a:rPr>
              <a:t>референтные методики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метрологический контроль эталон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уполномочивание юридических лиц на выполнение работ, связанных с обеспечением единства измер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метрологическое обеспечение технических систем и устройств с измерительными функц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alibri"/>
                <a:ea typeface="Calibri"/>
              </a:rPr>
              <a:t>государственная регистрация средств измерений, применяемых в сфере законодательной метр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1800" indent="-27612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единая информационная система (в области обеспечения единства измерени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4920" y="1197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Предлагаемые изменения в Закон Республики Беларусь «Об обеспечении единства измерений» (2017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Прямоугольник 1"/>
          <p:cNvSpPr/>
          <p:nvPr/>
        </p:nvSpPr>
        <p:spPr>
          <a:xfrm>
            <a:off x="360360" y="56736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Также необходимо более четко описать ответственность юридических лиц, выполняющих измерения вне сферы законодательной метрологии, за применение средств измерений не прошедших метрологический 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3BD4-CA61-4012-99E3-3478A418780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бъект 2"/>
          <p:cNvSpPr/>
          <p:nvPr/>
        </p:nvSpPr>
        <p:spPr>
          <a:xfrm>
            <a:off x="466560" y="1773360"/>
            <a:ext cx="756144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стандартов для практического применения при поверке и калибровке средств измерений (в т.ч. методики повер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документа по прослеживаемости при метрологическом контроле (ТК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принятие международных стандартов, 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например, таких ка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900000" y="146160"/>
            <a:ext cx="7056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тандартизация в области метр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1"/>
          <p:cNvSpPr/>
          <p:nvPr/>
        </p:nvSpPr>
        <p:spPr>
          <a:xfrm>
            <a:off x="250920" y="11271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1644"/>
                </a:solidFill>
                <a:latin typeface="Calibri"/>
                <a:ea typeface="Calibri"/>
              </a:rPr>
              <a:t>Программой работы ТК </a:t>
            </a:r>
            <a:r>
              <a:rPr b="1" lang="en-US" sz="1800" spc="-1" strike="noStrike">
                <a:solidFill>
                  <a:srgbClr val="b61644"/>
                </a:solidFill>
                <a:latin typeface="Calibri"/>
                <a:ea typeface="Calibri"/>
              </a:rPr>
              <a:t>BY 6 </a:t>
            </a:r>
            <a:r>
              <a:rPr b="1" lang="ru-RU" sz="1800" spc="-1" strike="noStrike">
                <a:solidFill>
                  <a:srgbClr val="b61644"/>
                </a:solidFill>
                <a:latin typeface="Calibri"/>
                <a:ea typeface="Calibri"/>
              </a:rPr>
              <a:t>«Стандартизация в области метрологии» предусмотрено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468360" y="4797360"/>
            <a:ext cx="7559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правил отнесения средств измерений к сфере законодательной метрологии (ТК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1199"/>
              </a:spcBef>
              <a:buClr>
                <a:srgbClr val="9c1d2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Calibri"/>
              </a:rPr>
              <a:t>разработка требований к стандартным образцам (СТ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900000" y="3519360"/>
            <a:ext cx="727236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Неопределенность измерений. Часть 4. Роль неопределенности измерений при оценке соответствия (принятие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ISO/IEC Guide 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98-4:2012,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JCGM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 106:201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Оценивание неопределенности измерений при калибровках (принятие </a:t>
            </a:r>
            <a:br>
              <a:rPr sz="1500"/>
            </a:b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EA-4/02 M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:2013, </a:t>
            </a:r>
            <a:r>
              <a:rPr b="1" lang="en-US" sz="1500" spc="-1" strike="noStrike">
                <a:solidFill>
                  <a:srgbClr val="a50021"/>
                </a:solidFill>
                <a:latin typeface="Calibri"/>
                <a:ea typeface="Calibri"/>
              </a:rPr>
              <a:t>ILAC-P</a:t>
            </a:r>
            <a:r>
              <a:rPr b="1" lang="ru-RU" sz="1500" spc="-1" strike="noStrike">
                <a:solidFill>
                  <a:srgbClr val="a50021"/>
                </a:solidFill>
                <a:latin typeface="Calibri"/>
                <a:ea typeface="Calibri"/>
              </a:rPr>
              <a:t>14:01/2013)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E1BA-D070-41C1-A271-747B1EE93A3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755640" y="2133720"/>
            <a:ext cx="72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Оценка  соответств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B9AF-05F7-4807-9221-81DDE1A5989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бъект 1"/>
          <p:cNvSpPr/>
          <p:nvPr/>
        </p:nvSpPr>
        <p:spPr>
          <a:xfrm>
            <a:off x="547560" y="2131920"/>
            <a:ext cx="75614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Формы оценк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соответствия: сертификация, декларирование, испытания и иные формы по ТР Т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ыделение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аккредитации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з сферы действия термина «оценка соответствия»  и развитие вопросов аккредит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Расширение перечня документов, содержащих технические требования, на соответствие которым может проводиться оценка соответствия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 </a:t>
            </a:r>
            <a:r>
              <a:rPr b="1" lang="ru-RU" sz="2000" spc="-1" strike="noStrike">
                <a:solidFill>
                  <a:srgbClr val="9c1d22"/>
                </a:solidFill>
                <a:latin typeface="Calibri"/>
                <a:ea typeface="Calibri"/>
              </a:rPr>
              <a:t>ТР РБ, ТР ТС, ГОСТ (СТБ), ТУ, документы иностранных государств, договора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Введение института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уполномоченных</a:t>
            </a:r>
            <a:r>
              <a:rPr b="1" lang="ru-RU" sz="2000" spc="-1" strike="noStrike">
                <a:solidFill>
                  <a:srgbClr val="c0504d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2b2e4b"/>
                </a:solidFill>
                <a:latin typeface="Calibri"/>
                <a:ea typeface="Calibri"/>
              </a:rPr>
              <a:t>органов по регистрации деклараций о соотве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5940360" y="1500120"/>
            <a:ext cx="1720800" cy="398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-112680" y="189000"/>
            <a:ext cx="86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6DF-17CF-4B5C-B4B0-1EE68F54911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3"/>
          <p:cNvSpPr/>
          <p:nvPr/>
        </p:nvSpPr>
        <p:spPr>
          <a:xfrm>
            <a:off x="34920" y="44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РАЗВИТИЕ НАЦИОНАЛЬНОЙ СИСТЕМЫ АККРЕДИТАЦИИ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В ЗАКОНЕ «ОБ ОЦЕНКЕ СООТВЕТСТИЯ ТЕХНИЧЕСКИМ ТРЕБОВАНИЯМ И АККРЕДИТАЦИИ ОРГАНОВ ОБ ОЦЕНКЕ СООТВЕТС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Объект 1"/>
          <p:cNvSpPr/>
          <p:nvPr/>
        </p:nvSpPr>
        <p:spPr>
          <a:xfrm>
            <a:off x="179280" y="1557360"/>
            <a:ext cx="83534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предел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цели и принципы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на основе международных подход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казан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объект аккредитации -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компетентность юридических лиц в выполнении работ по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риведены способы определения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бласти аккредита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ложен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а и обязан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явителей и аккредитованных субъектов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раскрыты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функци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а по аккредитации, Совета по аккредитации, технических комитетов по аккредита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установлены положения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знаке аккредитации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документе об аккредитации,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ккредитованных субъектов, в том числе о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едином реестре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органов по оценке соответствия ЕАЭС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креплены основные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равила осуществления аккредитации, сроки действия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аттестатов аккредитации,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снования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приостановления, возобновления либо отмены дей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C524-FB5F-4BBC-B766-58B3B68F0F8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4"/>
          <p:cNvSpPr/>
          <p:nvPr/>
        </p:nvSpPr>
        <p:spPr>
          <a:xfrm>
            <a:off x="-7920" y="192240"/>
            <a:ext cx="83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ПРИЗНАНИЕ РЕЗУЛЬТАТОВ   ОЦЕНКИ   СООТВЕТСТВИЯ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95A3-20DA-4F08-A59C-EFA852B8A0C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Диаграмма 2" descr=""/>
          <p:cNvPicPr/>
          <p:nvPr/>
        </p:nvPicPr>
        <p:blipFill>
          <a:blip r:embed="rId1"/>
          <a:stretch/>
        </p:blipFill>
        <p:spPr>
          <a:xfrm>
            <a:off x="453960" y="1681200"/>
            <a:ext cx="79534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1036800" y="1816200"/>
            <a:ext cx="723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Национальная система аккредитаци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BCC-4474-4C2F-9E3C-2098ADB645E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Группа 1"/>
          <p:cNvGrpSpPr/>
          <p:nvPr/>
        </p:nvGrpSpPr>
        <p:grpSpPr>
          <a:xfrm>
            <a:off x="250920" y="1125360"/>
            <a:ext cx="8064360" cy="5384880"/>
            <a:chOff x="250920" y="1125360"/>
            <a:chExt cx="8064360" cy="5384880"/>
          </a:xfrm>
        </p:grpSpPr>
        <p:sp>
          <p:nvSpPr>
            <p:cNvPr id="379" name="Прямоугольник 4"/>
            <p:cNvSpPr/>
            <p:nvPr/>
          </p:nvSpPr>
          <p:spPr>
            <a:xfrm>
              <a:off x="250920" y="1288440"/>
              <a:ext cx="8064360" cy="91476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0" name="Полилиния 5"/>
            <p:cNvGrpSpPr/>
            <p:nvPr/>
          </p:nvGrpSpPr>
          <p:grpSpPr>
            <a:xfrm>
              <a:off x="310680" y="1125360"/>
              <a:ext cx="2566440" cy="753480"/>
              <a:chOff x="310680" y="1125360"/>
              <a:chExt cx="2566440" cy="753480"/>
            </a:xfrm>
          </p:grpSpPr>
          <p:pic>
            <p:nvPicPr>
              <p:cNvPr id="381" name="Полилиния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10680" y="1125360"/>
                <a:ext cx="2566440" cy="75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325440" y="1141200"/>
                <a:ext cx="253440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ЛАБОРАТОР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3" name="Прямоугольник 6"/>
            <p:cNvSpPr/>
            <p:nvPr/>
          </p:nvSpPr>
          <p:spPr>
            <a:xfrm>
              <a:off x="250920" y="2418480"/>
              <a:ext cx="8064360" cy="143568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Полилиния 7"/>
            <p:cNvGrpSpPr/>
            <p:nvPr/>
          </p:nvGrpSpPr>
          <p:grpSpPr>
            <a:xfrm>
              <a:off x="310680" y="2280240"/>
              <a:ext cx="2566440" cy="747360"/>
              <a:chOff x="310680" y="2280240"/>
              <a:chExt cx="2566440" cy="747360"/>
            </a:xfrm>
          </p:grpSpPr>
          <p:pic>
            <p:nvPicPr>
              <p:cNvPr id="385" name="Полилиния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680" y="2280240"/>
                <a:ext cx="2566440" cy="74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325440" y="2293560"/>
                <a:ext cx="253440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ОРГАНЫ ПО СЕРТИФИКАЦ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Прямоугольник 8"/>
            <p:cNvSpPr/>
            <p:nvPr/>
          </p:nvSpPr>
          <p:spPr>
            <a:xfrm>
              <a:off x="250920" y="4069440"/>
              <a:ext cx="8064360" cy="71676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8" name="Полилиния 9"/>
            <p:cNvGrpSpPr/>
            <p:nvPr/>
          </p:nvGrpSpPr>
          <p:grpSpPr>
            <a:xfrm>
              <a:off x="292680" y="3909240"/>
              <a:ext cx="2584440" cy="741240"/>
              <a:chOff x="292680" y="3909240"/>
              <a:chExt cx="2584440" cy="741240"/>
            </a:xfrm>
          </p:grpSpPr>
          <p:pic>
            <p:nvPicPr>
              <p:cNvPr id="389" name="Полилиния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680" y="3909240"/>
                <a:ext cx="258444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310680" y="3925440"/>
                <a:ext cx="2549520" cy="70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ИНСПЕКЦИОННЫЕ ОРГАНЫ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1" name="Прямоугольник 10"/>
            <p:cNvSpPr/>
            <p:nvPr/>
          </p:nvSpPr>
          <p:spPr>
            <a:xfrm>
              <a:off x="250920" y="5003640"/>
              <a:ext cx="8064360" cy="1506600"/>
            </a:xfrm>
            <a:prstGeom prst="rect">
              <a:avLst/>
            </a:prstGeom>
            <a:noFill/>
            <a:ln w="25560">
              <a:solidFill>
                <a:srgbClr val="4e5b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2" name="Полилиния 11"/>
            <p:cNvGrpSpPr/>
            <p:nvPr/>
          </p:nvGrpSpPr>
          <p:grpSpPr>
            <a:xfrm>
              <a:off x="304560" y="4845240"/>
              <a:ext cx="2572560" cy="759600"/>
              <a:chOff x="304560" y="4845240"/>
              <a:chExt cx="2572560" cy="759600"/>
            </a:xfrm>
          </p:grpSpPr>
          <p:pic>
            <p:nvPicPr>
              <p:cNvPr id="393" name="Полилиния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560" y="4845240"/>
                <a:ext cx="2572560" cy="75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19320" y="4859280"/>
                <a:ext cx="2540520" cy="73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520" rIns="9252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alibri"/>
                    <a:ea typeface="Arial"/>
                  </a:rPr>
                  <a:t>ЭКСПЕРТЫ ПО АККРЕДИТАЦИИ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9800" y="91800"/>
            <a:ext cx="4672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ЕСТР НСА РБ ВКЛЮЧАЕТ:</a:t>
            </a:r>
            <a:endParaRPr b="0" lang="en-US" sz="32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396" name="Прямоугольник 6"/>
          <p:cNvSpPr/>
          <p:nvPr/>
        </p:nvSpPr>
        <p:spPr>
          <a:xfrm>
            <a:off x="2730600" y="1239840"/>
            <a:ext cx="4464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испытательные лаборатории – </a:t>
            </a:r>
            <a:r>
              <a:rPr b="1" lang="en-US" sz="1700" spc="-1" strike="noStrike">
                <a:solidFill>
                  <a:srgbClr val="800000"/>
                </a:solidFill>
                <a:latin typeface="Calibri"/>
                <a:ea typeface="Calibri"/>
              </a:rPr>
              <a:t>2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72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поверочные лаборатор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9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1520" indent="-28584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калибровочные лаборатор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4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Прямоугольник 7"/>
          <p:cNvSpPr/>
          <p:nvPr/>
        </p:nvSpPr>
        <p:spPr>
          <a:xfrm>
            <a:off x="2730600" y="2693880"/>
            <a:ext cx="55022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продукции и услуг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7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персонала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6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ы по сертификации систем управления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Calibri"/>
              </a:rPr>
              <a:t>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3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орган по лесной сертификации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1"/>
          <p:cNvSpPr/>
          <p:nvPr/>
        </p:nvSpPr>
        <p:spPr>
          <a:xfrm>
            <a:off x="3083040" y="4349880"/>
            <a:ext cx="3608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инспекционный орган - 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7"/>
          <p:cNvSpPr/>
          <p:nvPr/>
        </p:nvSpPr>
        <p:spPr>
          <a:xfrm>
            <a:off x="2646360" y="5299200"/>
            <a:ext cx="5586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штатные –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8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44400" indent="-285480">
              <a:buClr>
                <a:srgbClr val="8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привлекаемые (технические) –  </a:t>
            </a: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808, из них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2858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53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630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 – для оценки лаборатор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2858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53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800000"/>
                </a:solidFill>
                <a:latin typeface="Calibri"/>
                <a:ea typeface="Calibri"/>
              </a:rPr>
              <a:t>178</a:t>
            </a:r>
            <a:r>
              <a:rPr b="1" lang="ru-RU" sz="1700" spc="-1" strike="noStrike">
                <a:solidFill>
                  <a:srgbClr val="002060"/>
                </a:solidFill>
                <a:latin typeface="Calibri"/>
                <a:ea typeface="Calibri"/>
              </a:rPr>
              <a:t> – для оценки органов по сертифик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95C-E632-480C-83AF-E4DAD347E45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324000" y="4579920"/>
          <a:ext cx="7561080" cy="1403280"/>
        </p:xfrm>
        <a:graphic>
          <a:graphicData uri="http://schemas.openxmlformats.org/drawingml/2006/table">
            <a:tbl>
              <a:tblPr/>
              <a:tblGrid>
                <a:gridCol w="1279440"/>
                <a:gridCol w="1220760"/>
                <a:gridCol w="1281240"/>
                <a:gridCol w="1341360"/>
                <a:gridCol w="1255680"/>
                <a:gridCol w="1182600"/>
              </a:tblGrid>
              <a:tr h="5796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еспублика 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ыргызская Республ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Российская Феде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5b6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1be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3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С – 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16042"/>
                          </a:solidFill>
                          <a:latin typeface="Calibri"/>
                          <a:ea typeface="Times New Roman"/>
                        </a:rPr>
                        <a:t>ИЛ – 1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ОС – 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e0e19"/>
                          </a:solidFill>
                          <a:latin typeface="Calibri"/>
                          <a:ea typeface="Times New Roman"/>
                        </a:rPr>
                        <a:t>ИЛ – 23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1be"/>
                    </a:solidFill>
                  </a:tcPr>
                </a:tc>
              </a:tr>
            </a:tbl>
          </a:graphicData>
        </a:graphic>
      </p:graphicFrame>
      <p:sp>
        <p:nvSpPr>
          <p:cNvPr id="402" name="Скругленный прямоугольник 14"/>
          <p:cNvSpPr/>
          <p:nvPr/>
        </p:nvSpPr>
        <p:spPr>
          <a:xfrm>
            <a:off x="5292720" y="5948280"/>
            <a:ext cx="3095640" cy="3603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Calibri"/>
                <a:ea typeface="Calibri"/>
              </a:rPr>
              <a:t>www.eurasiancommission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Объект 4"/>
          <p:cNvSpPr/>
          <p:nvPr/>
        </p:nvSpPr>
        <p:spPr>
          <a:xfrm>
            <a:off x="3276720" y="1413000"/>
            <a:ext cx="5076720" cy="1655640"/>
          </a:xfrm>
          <a:prstGeom prst="rect">
            <a:avLst/>
          </a:prstGeom>
          <a:noFill/>
          <a:ln w="28440">
            <a:solidFill>
              <a:srgbClr val="aa47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Аккредитованные органы по оценке соответствия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, осуществляющие работы по оценке соответствия установленным техническим регламентом Союза требованиям, должны быть включены в </a:t>
            </a:r>
            <a:r>
              <a:rPr b="1" lang="ru-RU" sz="1900" spc="-1" strike="noStrike">
                <a:solidFill>
                  <a:srgbClr val="393939"/>
                </a:solidFill>
                <a:latin typeface="Arial Narrow"/>
              </a:rPr>
              <a:t>ЕДИНЫЙ РЕЕСТР </a:t>
            </a:r>
            <a:r>
              <a:rPr b="0" lang="ru-RU" sz="1900" spc="-1" strike="noStrike">
                <a:solidFill>
                  <a:srgbClr val="393939"/>
                </a:solidFill>
                <a:latin typeface="Arial Narrow"/>
              </a:rPr>
              <a:t>органов по оценке соответствия Сою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Пятиугольник 9"/>
          <p:cNvSpPr/>
          <p:nvPr/>
        </p:nvSpPr>
        <p:spPr>
          <a:xfrm>
            <a:off x="108000" y="1455840"/>
            <a:ext cx="3024000" cy="100872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1008720"/>
              <a:gd name="textAreaBottom" fmla="*/ 1008720 h 10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7" y="0"/>
                </a:lnTo>
                <a:lnTo>
                  <a:pt x="21600" y="10800"/>
                </a:lnTo>
                <a:lnTo>
                  <a:pt x="1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aeb7"/>
              </a:gs>
              <a:gs pos="100000">
                <a:srgbClr val="ffe8ea"/>
              </a:gs>
            </a:gsLst>
            <a:lin ang="16200000"/>
          </a:gradFill>
          <a:ln w="9360">
            <a:solidFill>
              <a:srgbClr val="c26d7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 Narrow"/>
              </a:rPr>
              <a:t>п.5 Протокола о техническом регулировании в рамках ЕАЭ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Штриховая стрелка вправо 10"/>
          <p:cNvGrpSpPr/>
          <p:nvPr/>
        </p:nvGrpSpPr>
        <p:grpSpPr>
          <a:xfrm>
            <a:off x="5230800" y="3035160"/>
            <a:ext cx="541440" cy="615960"/>
            <a:chOff x="5230800" y="3035160"/>
            <a:chExt cx="541440" cy="615960"/>
          </a:xfrm>
        </p:grpSpPr>
        <p:pic>
          <p:nvPicPr>
            <p:cNvPr id="406" name="Штриховая стрелка вправо 10" descr=""/>
            <p:cNvPicPr/>
            <p:nvPr/>
          </p:nvPicPr>
          <p:blipFill>
            <a:blip r:embed="rId1"/>
            <a:stretch/>
          </p:blipFill>
          <p:spPr>
            <a:xfrm>
              <a:off x="5230800" y="3035160"/>
              <a:ext cx="5414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 rot="5400000">
              <a:off x="5339160" y="3191760"/>
              <a:ext cx="328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Прямоугольник 13"/>
          <p:cNvSpPr/>
          <p:nvPr/>
        </p:nvSpPr>
        <p:spPr>
          <a:xfrm>
            <a:off x="2112480" y="39528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ЕДИНЫЙ РЕЕСТР ЕАЭ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E9BA-BD49-4BC5-8630-38605E11EB8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Заголовок 1"/>
          <p:cNvSpPr/>
          <p:nvPr/>
        </p:nvSpPr>
        <p:spPr>
          <a:xfrm>
            <a:off x="179280" y="3716280"/>
            <a:ext cx="8105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  <a:ea typeface="Calibri"/>
              </a:rPr>
              <a:t>Реестр органов по сертификации и испытательных лабораторий (центров) Таможенного союза, осуществляющих оценку соответствия продукции требования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  <a:ea typeface="Calibri"/>
              </a:rPr>
              <a:t>ТЕХНИЧЕСКИХ РЕГЛАМЕНТОВ ТАМОЖЕННОГО СОЮЗ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рямоугольник 12"/>
          <p:cNvSpPr/>
          <p:nvPr/>
        </p:nvSpPr>
        <p:spPr>
          <a:xfrm>
            <a:off x="1619280" y="5200560"/>
            <a:ext cx="1266840" cy="820800"/>
          </a:xfrm>
          <a:prstGeom prst="rect">
            <a:avLst/>
          </a:prstGeom>
          <a:noFill/>
          <a:ln w="38160">
            <a:solidFill>
              <a:srgbClr val="be06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4920" y="290520"/>
            <a:ext cx="8282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ФОРМИРОВАНИЕ ЗАКОНОДАТЕЛЬНОЙ БАЗЫ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РЕСПУБЛИКИ БЕЛАРУС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Text Box 2"/>
          <p:cNvGrpSpPr/>
          <p:nvPr/>
        </p:nvGrpSpPr>
        <p:grpSpPr>
          <a:xfrm>
            <a:off x="914400" y="2371680"/>
            <a:ext cx="7143840" cy="1073160"/>
            <a:chOff x="914400" y="2371680"/>
            <a:chExt cx="7143840" cy="1073160"/>
          </a:xfrm>
        </p:grpSpPr>
        <p:pic>
          <p:nvPicPr>
            <p:cNvPr id="149" name="Text Box 2" descr=""/>
            <p:cNvPicPr/>
            <p:nvPr/>
          </p:nvPicPr>
          <p:blipFill>
            <a:blip r:embed="rId1"/>
            <a:stretch/>
          </p:blipFill>
          <p:spPr>
            <a:xfrm>
              <a:off x="914400" y="2371680"/>
              <a:ext cx="714384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90720" y="2449440"/>
              <a:ext cx="698472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Закон  Республики Беларусь </a:t>
              </a:r>
              <a:br>
                <a:rPr sz="1700"/>
              </a:b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«О техническом нормировании и стандартизации»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700" spc="-1" strike="noStrike">
                  <a:solidFill>
                    <a:srgbClr val="800000"/>
                  </a:solidFill>
                  <a:latin typeface="Arial"/>
                </a:rPr>
                <a:t>(№ 262-З от 5 января 2004 г.)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 Box 2"/>
          <p:cNvSpPr/>
          <p:nvPr/>
        </p:nvSpPr>
        <p:spPr>
          <a:xfrm>
            <a:off x="1000080" y="3757680"/>
            <a:ext cx="6985080" cy="1389960"/>
          </a:xfrm>
          <a:prstGeom prst="rect">
            <a:avLst/>
          </a:prstGeom>
          <a:solidFill>
            <a:srgbClr val="ffefef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Закон  Республики Беларусь </a:t>
            </a:r>
            <a:br>
              <a:rPr sz="1700"/>
            </a:b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«Об оценке соответствия требованиям технических нормативных правовых актов в области технического нормирования и стандартизации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Arial"/>
              </a:rPr>
              <a:t>(№ 228-З от 31 декабря 2010 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47D0-FC87-44F3-BF17-C0652E1F247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79280" y="14968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alibri"/>
                <a:ea typeface="Arial"/>
              </a:rPr>
              <a:t>Прошли первое чтение в Палате представителей Национального собрания Республики Белару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7"/>
          <p:cNvSpPr/>
          <p:nvPr/>
        </p:nvSpPr>
        <p:spPr>
          <a:xfrm>
            <a:off x="4316400" y="1560600"/>
            <a:ext cx="41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ТОРГОВЫЕ ПАРТНЕРЫ ДРУГИХ РЕГИОНОВ М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Рисунок 28" descr=""/>
          <p:cNvPicPr/>
          <p:nvPr/>
        </p:nvPicPr>
        <p:blipFill>
          <a:blip r:embed="rId1"/>
          <a:srcRect l="2991" t="2628" r="6085" b="2688"/>
          <a:stretch/>
        </p:blipFill>
        <p:spPr>
          <a:xfrm>
            <a:off x="4489560" y="3313080"/>
            <a:ext cx="934920" cy="8366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29" descr=""/>
          <p:cNvPicPr/>
          <p:nvPr/>
        </p:nvPicPr>
        <p:blipFill>
          <a:blip r:embed="rId2"/>
          <a:srcRect l="0" t="0" r="219" b="9043"/>
          <a:stretch/>
        </p:blipFill>
        <p:spPr>
          <a:xfrm>
            <a:off x="4308480" y="2406600"/>
            <a:ext cx="1185840" cy="7747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30"/>
          <p:cNvSpPr/>
          <p:nvPr/>
        </p:nvSpPr>
        <p:spPr>
          <a:xfrm>
            <a:off x="3492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31"/>
          <p:cNvSpPr/>
          <p:nvPr/>
        </p:nvSpPr>
        <p:spPr>
          <a:xfrm>
            <a:off x="633240" y="1560600"/>
            <a:ext cx="32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ЕВРОПЕЙСКИЙ СОЮ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Группа 32"/>
          <p:cNvGrpSpPr/>
          <p:nvPr/>
        </p:nvGrpSpPr>
        <p:grpSpPr>
          <a:xfrm>
            <a:off x="1469880" y="2708280"/>
            <a:ext cx="2519640" cy="3191040"/>
            <a:chOff x="1469880" y="2708280"/>
            <a:chExt cx="2519640" cy="3191040"/>
          </a:xfrm>
        </p:grpSpPr>
        <p:sp>
          <p:nvSpPr>
            <p:cNvPr id="418" name="Выноска со стрелкой вправо 33"/>
            <p:cNvSpPr/>
            <p:nvPr/>
          </p:nvSpPr>
          <p:spPr>
            <a:xfrm>
              <a:off x="1609560" y="2708280"/>
              <a:ext cx="2379960" cy="3191040"/>
            </a:xfrm>
            <a:prstGeom prst="rightArrowCallout">
              <a:avLst>
                <a:gd name="adj1" fmla="val 33610"/>
                <a:gd name="adj2" fmla="val 23644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TextBox 34"/>
            <p:cNvSpPr/>
            <p:nvPr/>
          </p:nvSpPr>
          <p:spPr>
            <a:xfrm>
              <a:off x="1469880" y="2857320"/>
              <a:ext cx="238644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Narrow"/>
                </a:rPr>
                <a:t>двустороннее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0" name="Picture 17" descr=""/>
          <p:cNvPicPr/>
          <p:nvPr/>
        </p:nvPicPr>
        <p:blipFill>
          <a:blip r:embed="rId3"/>
          <a:srcRect l="0" t="0" r="18952" b="0"/>
          <a:stretch/>
        </p:blipFill>
        <p:spPr>
          <a:xfrm>
            <a:off x="325440" y="3865680"/>
            <a:ext cx="693720" cy="7398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54000" y="5155200"/>
            <a:ext cx="1204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 ассоциированный член ЕА с 2011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7"/>
          <p:cNvSpPr/>
          <p:nvPr/>
        </p:nvSpPr>
        <p:spPr>
          <a:xfrm>
            <a:off x="1711440" y="5046840"/>
            <a:ext cx="18777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ЕС и 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TextBox 38" descr=""/>
          <p:cNvPicPr/>
          <p:nvPr/>
        </p:nvPicPr>
        <p:blipFill>
          <a:blip r:embed="rId4"/>
          <a:stretch/>
        </p:blipFill>
        <p:spPr>
          <a:xfrm>
            <a:off x="1182600" y="2419200"/>
            <a:ext cx="573120" cy="33292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39" descr="C:\Users\malgina\Downloads\image001.jpg"/>
          <p:cNvPicPr/>
          <p:nvPr/>
        </p:nvPicPr>
        <p:blipFill>
          <a:blip r:embed="rId5"/>
          <a:stretch/>
        </p:blipFill>
        <p:spPr>
          <a:xfrm>
            <a:off x="206280" y="2511360"/>
            <a:ext cx="898560" cy="9176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0"/>
          <p:cNvSpPr/>
          <p:nvPr/>
        </p:nvSpPr>
        <p:spPr>
          <a:xfrm>
            <a:off x="4281480" y="1557360"/>
            <a:ext cx="4165560" cy="4751280"/>
          </a:xfrm>
          <a:prstGeom prst="rect">
            <a:avLst/>
          </a:prstGeom>
          <a:noFill/>
          <a:ln w="12600">
            <a:solidFill>
              <a:srgbClr val="9c1d2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6" name="Группа 41"/>
          <p:cNvGrpSpPr/>
          <p:nvPr/>
        </p:nvGrpSpPr>
        <p:grpSpPr>
          <a:xfrm>
            <a:off x="5715000" y="2511360"/>
            <a:ext cx="1650960" cy="3191040"/>
            <a:chOff x="5715000" y="2511360"/>
            <a:chExt cx="1650960" cy="3191040"/>
          </a:xfrm>
        </p:grpSpPr>
        <p:sp>
          <p:nvSpPr>
            <p:cNvPr id="427" name="Выноска со стрелкой вправо 42"/>
            <p:cNvSpPr/>
            <p:nvPr/>
          </p:nvSpPr>
          <p:spPr>
            <a:xfrm>
              <a:off x="5806800" y="2511360"/>
              <a:ext cx="1559160" cy="3191040"/>
            </a:xfrm>
            <a:prstGeom prst="rightArrowCallout">
              <a:avLst>
                <a:gd name="adj1" fmla="val 51284"/>
                <a:gd name="adj2" fmla="val 36072"/>
                <a:gd name="adj3" fmla="val 9764"/>
                <a:gd name="adj4" fmla="val 85287"/>
              </a:avLst>
            </a:prstGeom>
            <a:solidFill>
              <a:srgbClr val="fef1e6"/>
            </a:solidFill>
            <a:ln w="9360">
              <a:solidFill>
                <a:srgbClr val="9c1d2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43"/>
            <p:cNvSpPr/>
            <p:nvPr/>
          </p:nvSpPr>
          <p:spPr>
            <a:xfrm>
              <a:off x="5715000" y="2981160"/>
              <a:ext cx="1563840" cy="178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entury Gothic"/>
                </a:rPr>
                <a:t>СОГЛАШЕНИЕ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многосторонне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о взаимном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признании </a:t>
              </a:r>
              <a:br>
                <a:rPr sz="1600"/>
              </a:br>
              <a:r>
                <a:rPr b="0" lang="ru-RU" sz="1600" spc="-1" strike="noStrike">
                  <a:solidFill>
                    <a:srgbClr val="000000"/>
                  </a:solidFill>
                  <a:latin typeface="Arial Narrow"/>
                </a:rPr>
                <a:t>аккредит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9" name="Picture 17" descr=""/>
          <p:cNvPicPr/>
          <p:nvPr/>
        </p:nvPicPr>
        <p:blipFill>
          <a:blip r:embed="rId6"/>
          <a:srcRect l="0" t="0" r="18952" b="0"/>
          <a:stretch/>
        </p:blipFill>
        <p:spPr>
          <a:xfrm>
            <a:off x="4554360" y="4460760"/>
            <a:ext cx="694080" cy="73836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8"/>
          <p:cNvSpPr/>
          <p:nvPr/>
        </p:nvSpPr>
        <p:spPr>
          <a:xfrm>
            <a:off x="4302000" y="5725440"/>
            <a:ext cx="29768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й орган по аккредитации РБ -  ассоциированный член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с 2011 года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член IAF с 2015 год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46"/>
          <p:cNvSpPr/>
          <p:nvPr/>
        </p:nvSpPr>
        <p:spPr>
          <a:xfrm>
            <a:off x="7365960" y="3492360"/>
            <a:ext cx="10098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заимное признание протоколов испытаний и сертификатов соответствия между членам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AF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LA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на глобальном уровн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TextBox 47" descr=""/>
          <p:cNvPicPr/>
          <p:nvPr/>
        </p:nvPicPr>
        <p:blipFill>
          <a:blip r:embed="rId7"/>
          <a:stretch/>
        </p:blipFill>
        <p:spPr>
          <a:xfrm>
            <a:off x="5430960" y="2419200"/>
            <a:ext cx="573120" cy="3329280"/>
          </a:xfrm>
          <a:prstGeom prst="rect">
            <a:avLst/>
          </a:prstGeom>
          <a:ln w="0">
            <a:noFill/>
          </a:ln>
        </p:spPr>
      </p:pic>
      <p:sp>
        <p:nvSpPr>
          <p:cNvPr id="433" name="Стрелка вниз 48"/>
          <p:cNvSpPr/>
          <p:nvPr/>
        </p:nvSpPr>
        <p:spPr>
          <a:xfrm>
            <a:off x="2538360" y="4724280"/>
            <a:ext cx="223920" cy="241560"/>
          </a:xfrm>
          <a:prstGeom prst="downArrow">
            <a:avLst>
              <a:gd name="adj1" fmla="val 50000"/>
              <a:gd name="adj2" fmla="val 50033"/>
            </a:avLst>
          </a:prstGeom>
          <a:solidFill>
            <a:srgbClr val="7f3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Заголовок 1"/>
          <p:cNvSpPr/>
          <p:nvPr/>
        </p:nvSpPr>
        <p:spPr>
          <a:xfrm>
            <a:off x="108000" y="260280"/>
            <a:ext cx="8229600" cy="946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СОЗДАНИЕ УСЛОВИЙ ДЛЯ ПРИЗН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В ЕС И НА ГЛОБАЛЬ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69A-90F1-495E-888A-5785959AFE8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000" y="155700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c1d22"/>
                </a:solidFill>
                <a:latin typeface="Calibri"/>
              </a:rPr>
              <a:t>Государственный надзор</a:t>
            </a:r>
            <a:endParaRPr b="0" lang="en-US" sz="6000" spc="-1" strike="noStrike">
              <a:solidFill>
                <a:srgbClr val="9c1d22"/>
              </a:solidFill>
              <a:latin typeface="Cambria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636-2AE7-4052-9444-600F57983A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Заголовок 3"/>
          <p:cNvSpPr/>
          <p:nvPr/>
        </p:nvSpPr>
        <p:spPr>
          <a:xfrm>
            <a:off x="34920" y="44280"/>
            <a:ext cx="84978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9c1d22"/>
                </a:solidFill>
                <a:latin typeface="Calibri"/>
              </a:rPr>
              <a:t>УКАЗ ПРЕЗИДЕНТА РЕСПУБЛИКИ БЕЛАРУСЬ от 09.02.2015 № 48 «О МЕРАХ ПО ОБЕСПЕЧЕНИЮ ГОСУДАРСТВЕННОГО КОНТРОЛЯ (НАДЗОРА) ЗА СОБЛЮДЕНИЕМ ТРЕБОВАНИЙ ТЕХНИЧЕСКИХ РЕГЛАМЕНТОВ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Объект 1"/>
          <p:cNvSpPr/>
          <p:nvPr/>
        </p:nvSpPr>
        <p:spPr>
          <a:xfrm>
            <a:off x="179280" y="1916280"/>
            <a:ext cx="8209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Принят в целя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повышения эффективности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щиты отечественного рынка от небезопасной и некачественной продукц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создания условий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облюдению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      </a:t>
            </a:r>
            <a:r>
              <a:rPr b="1" i="1" lang="ru-RU" sz="1900" spc="-1" strike="noStrike" u="sng">
                <a:solidFill>
                  <a:srgbClr val="2b2e4b"/>
                </a:solidFill>
                <a:uFillTx/>
                <a:latin typeface="Calibri"/>
              </a:rPr>
              <a:t>Основные положен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усиливает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 административную 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ответственность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изготовителей/продавцов</a:t>
            </a: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за нарушения требований технических регламентов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504d"/>
                </a:solidFill>
                <a:latin typeface="Calibri"/>
                <a:ea typeface="Arial"/>
              </a:rPr>
              <a:t>вводит ответственность органов </a:t>
            </a:r>
            <a:r>
              <a:rPr b="1" lang="ru-RU" sz="1900" spc="-1" strike="noStrike">
                <a:solidFill>
                  <a:srgbClr val="2b2e4b"/>
                </a:solidFill>
                <a:latin typeface="Calibri"/>
              </a:rPr>
              <a:t>по сертификации и испытательных лабораторий за неправомерную выдачу документов об оценке соответстви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Прямоугольник 6"/>
          <p:cNvSpPr/>
          <p:nvPr/>
        </p:nvSpPr>
        <p:spPr>
          <a:xfrm>
            <a:off x="6300720" y="1373040"/>
            <a:ext cx="2016360" cy="580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 01.06.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Text Box 2"/>
          <p:cNvGrpSpPr/>
          <p:nvPr/>
        </p:nvGrpSpPr>
        <p:grpSpPr>
          <a:xfrm>
            <a:off x="712800" y="6022800"/>
            <a:ext cx="7151760" cy="688680"/>
            <a:chOff x="712800" y="6022800"/>
            <a:chExt cx="7151760" cy="688680"/>
          </a:xfrm>
        </p:grpSpPr>
        <p:pic>
          <p:nvPicPr>
            <p:cNvPr id="442" name="Text Box 2" descr=""/>
            <p:cNvPicPr/>
            <p:nvPr/>
          </p:nvPicPr>
          <p:blipFill>
            <a:blip r:embed="rId1"/>
            <a:stretch/>
          </p:blipFill>
          <p:spPr>
            <a:xfrm>
              <a:off x="712800" y="6022800"/>
              <a:ext cx="715176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92000" y="6099120"/>
              <a:ext cx="698364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66"/>
                  </a:solidFill>
                  <a:latin typeface="Arial"/>
                </a:rPr>
                <a:t>Утвержден план мероприятий по реализации положений Указа</a:t>
              </a:r>
              <a:endParaRPr b="0" lang="en-US" sz="1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EF21-16E0-447D-AD98-F34DA0F4223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C278-AE1F-42CB-99B9-053D1EC638C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Заголовок 1"/>
          <p:cNvSpPr/>
          <p:nvPr/>
        </p:nvSpPr>
        <p:spPr>
          <a:xfrm>
            <a:off x="-36360" y="1126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ИТОГИ ГОСУДАРСТВЕННОГО НАДЗ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6200" y="2651040"/>
          <a:ext cx="8066160" cy="3137040"/>
        </p:xfrm>
        <a:graphic>
          <a:graphicData uri="http://schemas.openxmlformats.org/drawingml/2006/table">
            <a:tbl>
              <a:tblPr/>
              <a:tblGrid>
                <a:gridCol w="3673800"/>
                <a:gridCol w="2160360"/>
                <a:gridCol w="22320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именование групп прод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верено наимен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з них с нарушен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6a1a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Электротехнические това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987  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Мебельная проду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368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Товары для детей и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105 (9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Игруш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060 (7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Товары легкой промышлен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2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756 (8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bdc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6285a"/>
                          </a:solidFill>
                          <a:latin typeface="Calibri"/>
                          <a:ea typeface="Calibri"/>
                        </a:rPr>
                        <a:t>Пищев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3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Calibri"/>
                          <a:ea typeface="Calibri"/>
                        </a:rPr>
                        <a:t>1974 (8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ee"/>
                    </a:solidFill>
                  </a:tcPr>
                </a:tc>
              </a:tr>
            </a:tbl>
          </a:graphicData>
        </a:graphic>
      </p:graphicFrame>
      <p:sp>
        <p:nvSpPr>
          <p:cNvPr id="448" name="Прямоугольник 4"/>
          <p:cNvSpPr/>
          <p:nvPr/>
        </p:nvSpPr>
        <p:spPr>
          <a:xfrm>
            <a:off x="158760" y="1989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наиболее проблемные группы 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Заголовок 1"/>
          <p:cNvGrpSpPr/>
          <p:nvPr/>
        </p:nvGrpSpPr>
        <p:grpSpPr>
          <a:xfrm>
            <a:off x="158760" y="1128600"/>
            <a:ext cx="7723080" cy="779040"/>
            <a:chOff x="158760" y="1128600"/>
            <a:chExt cx="7723080" cy="779040"/>
          </a:xfrm>
        </p:grpSpPr>
        <p:pic>
          <p:nvPicPr>
            <p:cNvPr id="4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58760" y="1128600"/>
              <a:ext cx="7719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58760" y="1128960"/>
              <a:ext cx="77230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ПРОДУКЦИЯ  ИМПОРТНОГО  ПРОИЗВОДСТВА, </a:t>
              </a:r>
              <a:br>
                <a:rPr sz="1800"/>
              </a:br>
              <a:r>
                <a:rPr b="1" lang="ru-RU" sz="1800" spc="-1" strike="noStrike">
                  <a:solidFill>
                    <a:srgbClr val="800000"/>
                  </a:solidFill>
                  <a:latin typeface="Calibri"/>
                  <a:ea typeface="Calibri"/>
                </a:rPr>
                <a:t>НЕ СООТВЕТСТВУЮЩАЯ  ТРЕБОВАНИЯМ  ТР ТС ПО РЕЗУЛЬТАТАМ НАДЗО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4"/>
          <p:cNvSpPr/>
          <p:nvPr/>
        </p:nvSpPr>
        <p:spPr>
          <a:xfrm>
            <a:off x="813060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2EDA-78E7-4536-9F73-E93B75B705D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441360" y="2589120"/>
            <a:ext cx="76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Calibri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4DBF-BF1B-47C7-B27E-13135AC5CD0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44680" y="333360"/>
            <a:ext cx="7267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c1d22"/>
                </a:solidFill>
                <a:latin typeface="Calibri"/>
              </a:rPr>
              <a:t>ЦЕЛИ ПОДГОТОВКИ ЗАКОНОПРОЕКТОВ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бъект 2"/>
          <p:cNvSpPr/>
          <p:nvPr/>
        </p:nvSpPr>
        <p:spPr>
          <a:xfrm>
            <a:off x="177840" y="1341360"/>
            <a:ext cx="8002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имплементация норм </a:t>
            </a: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Calibri"/>
              </a:rPr>
              <a:t>Договора о ЕАЭС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от 29 мая 2014 год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огласование с иными законодательными актами Республики Белару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совершенствование положений с учетом правоприменительной прак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ts val="2398"/>
              </a:lnSpc>
              <a:spcBef>
                <a:spcPts val="300"/>
              </a:spcBef>
              <a:spcAft>
                <a:spcPts val="24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  <a:ea typeface="Arial"/>
              </a:rPr>
              <a:t>изменение концепции правового регулирования путем перехода от рамочного (базового) к непосредственному, комплексному и системному регулированию отношений в этой сфе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3"/>
          <p:cNvSpPr/>
          <p:nvPr/>
        </p:nvSpPr>
        <p:spPr>
          <a:xfrm>
            <a:off x="0" y="141120"/>
            <a:ext cx="86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ОСНОВНЫЕ ИЗМЕНЕНИЯ </a:t>
            </a:r>
            <a:br>
              <a:rPr sz="2400"/>
            </a:b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ЗАКОНА РЕСПУБЛИКИ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d22"/>
                </a:solidFill>
                <a:latin typeface="Calibri"/>
              </a:rPr>
              <a:t>«О ТЕХНИЧЕСКОМ НОРМИРОВАНИИ И СТАНДАРТИЗАЦИ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2D2-3D13-4FC6-8EB8-EB42B26902C3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179280" y="1557360"/>
            <a:ext cx="82090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риведение в соответствие с нормативно-правовой базой ЕАЭ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уточнение понят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c1d22"/>
                </a:solidFill>
                <a:latin typeface="Calibri"/>
                <a:ea typeface="Calibri"/>
              </a:rPr>
              <a:t>установл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о Национальном институте по стандарт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номочий технических комитетов по стандарт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по формированию и реализации ПГ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, касающихся правил формирования и утверждения Перечней стандартов для технических регламен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требований к общегосударственным классификатора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случаев обязательности соблюдения требований технических кодексов установившейся практики и государственных станда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норм о нормативно-технической и метрологической экспертизе проектов государственных стандарт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требований к надзору за техническими регламента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9c271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b2e4b"/>
                </a:solidFill>
                <a:latin typeface="Calibri"/>
                <a:ea typeface="Calibri"/>
              </a:rPr>
              <a:t>положений по изданию и распространению ТНП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-36360" y="150840"/>
            <a:ext cx="849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РЕСПУБЛИКИ БЕЛАРУС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287280" y="1197000"/>
            <a:ext cx="8101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ТР 2007/003/BY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Единицы измерений, допущенные к применению на территории Республики Белару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8/009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Банковская деятельность. Информационные технологии.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 Информационная совместимость программных и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программно-технических средств платежной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исте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8/012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еавтоматические весоизмерительные приборы. Основные треб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09/013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Здания и сооружения, строительные материалы и изделия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ТР 2010/014/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Минеральные удобрения. 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10/025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рма и кормовые добавки. Безопас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38200" indent="-143820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2013/027/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Информационные технологии. Средства защиты информации. Информационная безопасн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468360" y="765000"/>
            <a:ext cx="280836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Действуют - 7 ТР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BY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B29D-50F8-4158-A1E8-963B2CFF6ED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680760" y="4975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ВЕДЕТСЯ РАЗРАБОТ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179280" y="5335560"/>
            <a:ext cx="4969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Энергоэффективность зд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1d22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c1d22"/>
                </a:solidFill>
                <a:latin typeface="Calibri"/>
              </a:rPr>
              <a:t>BY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редства электросвязи. Безопас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ТР</a:t>
            </a: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 BY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Обслуживание транспортных средств организациями автосервиса. Технические треб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7"/>
          <p:cNvSpPr/>
          <p:nvPr/>
        </p:nvSpPr>
        <p:spPr>
          <a:xfrm>
            <a:off x="4721400" y="53989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ТР </a:t>
            </a:r>
            <a:r>
              <a:rPr b="1" lang="en-US" sz="1600" spc="-1" strike="noStrike">
                <a:solidFill>
                  <a:srgbClr val="953735"/>
                </a:solidFill>
                <a:latin typeface="Calibri"/>
              </a:rPr>
              <a:t>BY</a:t>
            </a:r>
            <a:r>
              <a:rPr b="1" lang="ru-RU" sz="16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  <a:ea typeface="Times New Roman"/>
              </a:rPr>
              <a:t>Требования к энергетической эффективности электрических энергопотребляющих устрой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827600" y="50054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Calibri"/>
              </a:rPr>
              <a:t>ОБСУЖДАЕТСЯ РАЗРАБОТ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5440" y="44280"/>
            <a:ext cx="8562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c1d22"/>
                </a:solidFill>
                <a:latin typeface="Calibri"/>
              </a:rPr>
              <a:t>ТЕХНИЧЕСКИЕ РЕГЛАМЕНТЫ ТАМОЖЕННОГО СОЮ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158760" y="476280"/>
            <a:ext cx="58532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Вступившие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35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 ТС устанавливают требования 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63440" y="793800"/>
            <a:ext cx="8296200" cy="74448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ротехническим изделия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редствам индивидуальной защит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груш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3"/>
          <p:cNvSpPr/>
          <p:nvPr/>
        </p:nvSpPr>
        <p:spPr>
          <a:xfrm>
            <a:off x="163440" y="1773360"/>
            <a:ext cx="8296200" cy="155556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шинам и оборудованию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аппаратам, работающим на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газообразном топли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низковольтному оборудовани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лифт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2"/>
          <p:cNvSpPr/>
          <p:nvPr/>
        </p:nvSpPr>
        <p:spPr>
          <a:xfrm>
            <a:off x="2916360" y="1812960"/>
            <a:ext cx="305424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электромагнитной совместимости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ехнических  средств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 для работы во взрывоопасных средах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ркировке пищевой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20"/>
          <p:cNvSpPr/>
          <p:nvPr/>
        </p:nvSpPr>
        <p:spPr>
          <a:xfrm>
            <a:off x="163440" y="3603600"/>
            <a:ext cx="8296200" cy="143424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ломерным суд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оборудованию, работающе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од избыточным давление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мазочным материал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олоку и молоч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ясу и мяс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TextBox 36"/>
          <p:cNvGrpSpPr/>
          <p:nvPr/>
        </p:nvGrpSpPr>
        <p:grpSpPr>
          <a:xfrm>
            <a:off x="6692760" y="463680"/>
            <a:ext cx="1451160" cy="547560"/>
            <a:chOff x="6692760" y="463680"/>
            <a:chExt cx="1451160" cy="547560"/>
          </a:xfrm>
        </p:grpSpPr>
        <p:pic>
          <p:nvPicPr>
            <p:cNvPr id="175" name="TextBox 36" descr=""/>
            <p:cNvPicPr/>
            <p:nvPr/>
          </p:nvPicPr>
          <p:blipFill>
            <a:blip r:embed="rId1"/>
            <a:stretch/>
          </p:blipFill>
          <p:spPr>
            <a:xfrm>
              <a:off x="6692760" y="463680"/>
              <a:ext cx="14511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756480" y="519120"/>
              <a:ext cx="1330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2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TextBox 37"/>
          <p:cNvGrpSpPr/>
          <p:nvPr/>
        </p:nvGrpSpPr>
        <p:grpSpPr>
          <a:xfrm>
            <a:off x="6205680" y="1500120"/>
            <a:ext cx="1450800" cy="547920"/>
            <a:chOff x="6205680" y="1500120"/>
            <a:chExt cx="1450800" cy="547920"/>
          </a:xfrm>
        </p:grpSpPr>
        <p:pic>
          <p:nvPicPr>
            <p:cNvPr id="178" name="TextBox 37" descr=""/>
            <p:cNvPicPr/>
            <p:nvPr/>
          </p:nvPicPr>
          <p:blipFill>
            <a:blip r:embed="rId2"/>
            <a:stretch/>
          </p:blipFill>
          <p:spPr>
            <a:xfrm>
              <a:off x="6205680" y="1500120"/>
              <a:ext cx="145080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267600" y="1557360"/>
              <a:ext cx="1328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3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TextBox 38"/>
          <p:cNvGrpSpPr/>
          <p:nvPr/>
        </p:nvGrpSpPr>
        <p:grpSpPr>
          <a:xfrm>
            <a:off x="5772240" y="3230640"/>
            <a:ext cx="1450800" cy="542880"/>
            <a:chOff x="5772240" y="3230640"/>
            <a:chExt cx="1450800" cy="542880"/>
          </a:xfrm>
        </p:grpSpPr>
        <p:pic>
          <p:nvPicPr>
            <p:cNvPr id="181" name="TextBox 38" descr=""/>
            <p:cNvPicPr/>
            <p:nvPr/>
          </p:nvPicPr>
          <p:blipFill>
            <a:blip r:embed="rId3"/>
            <a:stretch/>
          </p:blipFill>
          <p:spPr>
            <a:xfrm>
              <a:off x="5772240" y="3230640"/>
              <a:ext cx="1450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35600" y="328464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4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Прямоугольник 30"/>
          <p:cNvSpPr/>
          <p:nvPr/>
        </p:nvSpPr>
        <p:spPr>
          <a:xfrm>
            <a:off x="6012000" y="1846440"/>
            <a:ext cx="2457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пищевым добавка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пециализированной пище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сок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масложиров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зерн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0"/>
          <p:cNvSpPr/>
          <p:nvPr/>
        </p:nvSpPr>
        <p:spPr>
          <a:xfrm>
            <a:off x="3132000" y="793800"/>
            <a:ext cx="351972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для детей и подростко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арфюмерно-косметическ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родукции легкой промышленнос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1"/>
          <p:cNvSpPr/>
          <p:nvPr/>
        </p:nvSpPr>
        <p:spPr>
          <a:xfrm>
            <a:off x="6588000" y="793800"/>
            <a:ext cx="186228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упаковк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бензину и други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идам топли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2"/>
          <p:cNvSpPr/>
          <p:nvPr/>
        </p:nvSpPr>
        <p:spPr>
          <a:xfrm>
            <a:off x="3220920" y="3645000"/>
            <a:ext cx="2359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взрывчатым веществам и изделиям на их основ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мебельной продукци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железнодорож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движному состав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5580000" y="3700440"/>
            <a:ext cx="29894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высокоскоростному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му транспорт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инфраструктуре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железнодорожного 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Calibri"/>
                <a:ea typeface="Arial"/>
              </a:rPr>
              <a:t>транспорт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131760" y="5300640"/>
            <a:ext cx="8315280" cy="57636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6"/>
          <p:cNvSpPr/>
          <p:nvPr/>
        </p:nvSpPr>
        <p:spPr>
          <a:xfrm>
            <a:off x="4365720" y="5327640"/>
            <a:ext cx="39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сельскохозяйственным и лесохозяйственным тракторам и прицепам к ни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TextBox 46"/>
          <p:cNvGrpSpPr/>
          <p:nvPr/>
        </p:nvGrpSpPr>
        <p:grpSpPr>
          <a:xfrm>
            <a:off x="5052960" y="4998960"/>
            <a:ext cx="1451160" cy="547920"/>
            <a:chOff x="5052960" y="4998960"/>
            <a:chExt cx="1451160" cy="547920"/>
          </a:xfrm>
        </p:grpSpPr>
        <p:pic>
          <p:nvPicPr>
            <p:cNvPr id="191" name="TextBox 46" descr=""/>
            <p:cNvPicPr/>
            <p:nvPr/>
          </p:nvPicPr>
          <p:blipFill>
            <a:blip r:embed="rId4"/>
            <a:stretch/>
          </p:blipFill>
          <p:spPr>
            <a:xfrm>
              <a:off x="5052960" y="4998960"/>
              <a:ext cx="14511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14880" y="505620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5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Прямоугольник 1"/>
          <p:cNvSpPr/>
          <p:nvPr/>
        </p:nvSpPr>
        <p:spPr>
          <a:xfrm>
            <a:off x="324000" y="556884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автомобильным дорог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1"/>
          <p:cNvSpPr/>
          <p:nvPr/>
        </p:nvSpPr>
        <p:spPr>
          <a:xfrm>
            <a:off x="328680" y="535464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колесным транспортным средст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F99F-35AC-4335-9357-DF7455DC8AA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131760" y="6165720"/>
            <a:ext cx="8315280" cy="433440"/>
          </a:xfrm>
          <a:prstGeom prst="rect">
            <a:avLst/>
          </a:prstGeom>
          <a:solidFill>
            <a:srgbClr val="e0ebf6"/>
          </a:solidFill>
          <a:ln w="28440">
            <a:solidFill>
              <a:srgbClr val="1735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0" tIns="46440" bIns="46440" anchor="t">
            <a:noAutofit/>
          </a:bodyPr>
          <a:p>
            <a:pPr marL="285840" indent="-285840">
              <a:spcBef>
                <a:spcPts val="2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TextBox 25"/>
          <p:cNvGrpSpPr/>
          <p:nvPr/>
        </p:nvGrpSpPr>
        <p:grpSpPr>
          <a:xfrm>
            <a:off x="3724200" y="5821200"/>
            <a:ext cx="1451160" cy="549360"/>
            <a:chOff x="3724200" y="5821200"/>
            <a:chExt cx="1451160" cy="549360"/>
          </a:xfrm>
        </p:grpSpPr>
        <p:pic>
          <p:nvPicPr>
            <p:cNvPr id="198" name="TextBox 25" descr=""/>
            <p:cNvPicPr/>
            <p:nvPr/>
          </p:nvPicPr>
          <p:blipFill>
            <a:blip r:embed="rId5"/>
            <a:stretch/>
          </p:blipFill>
          <p:spPr>
            <a:xfrm>
              <a:off x="3724200" y="5821200"/>
              <a:ext cx="14511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786120" y="5877000"/>
              <a:ext cx="13287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520" rIns="9252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6 го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Прямоугольник 1"/>
          <p:cNvSpPr/>
          <p:nvPr/>
        </p:nvSpPr>
        <p:spPr>
          <a:xfrm>
            <a:off x="363600" y="623880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табачной продук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611280" y="5013360"/>
            <a:ext cx="7273800" cy="15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47760" y="992160"/>
            <a:ext cx="8040600" cy="1069560"/>
          </a:xfrm>
          <a:prstGeom prst="rect">
            <a:avLst/>
          </a:prstGeom>
          <a:solidFill>
            <a:srgbClr val="fff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5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государственных стандартов Беларуси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СТБ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олее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21 00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ежгосударственных стандартов –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ГОСТ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около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140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авил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ЕЭК О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79280" y="189000"/>
            <a:ext cx="8112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ФОНД СТАНДАРТОВ  РЕСПУБЛИКИ </a:t>
            </a:r>
            <a:r>
              <a:rPr b="1" lang="en-US" sz="3200" spc="-1" strike="noStrike">
                <a:solidFill>
                  <a:srgbClr val="9c1d22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484360" y="500364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c1d22"/>
                </a:solidFill>
                <a:latin typeface="Calibri"/>
                <a:ea typeface="Arial"/>
              </a:rPr>
              <a:t>Эффективная поддерж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55640" y="5321160"/>
            <a:ext cx="4103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экспортного потенци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временного технического уров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оздания новых производств 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одук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312840" y="1987560"/>
            <a:ext cx="8004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ГАРМОНИЗАЦИЯ  ГОСУДАРСТВЕННЫХ  СТАНДАРТОВ  СТБ </a:t>
            </a:r>
            <a:br>
              <a:rPr sz="1900"/>
            </a:br>
            <a:r>
              <a:rPr b="1" lang="ru-RU" sz="1900" spc="-1" strike="noStrike">
                <a:solidFill>
                  <a:srgbClr val="800000"/>
                </a:solidFill>
                <a:latin typeface="Calibri"/>
              </a:rPr>
              <a:t>С  МЕЖДУНАРОДНЫМИ  И  ЕВРОПЕЙСКИМИ  СТАНДАРТА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28720" y="2793960"/>
          <a:ext cx="6983280" cy="2003400"/>
        </p:xfrm>
        <a:graphic>
          <a:graphicData uri="http://schemas.openxmlformats.org/drawingml/2006/table">
            <a:tbl>
              <a:tblPr/>
              <a:tblGrid>
                <a:gridCol w="4895640"/>
                <a:gridCol w="208764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Машино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Электротехника, радиоэлектроника и связ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7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Химическая и нефтехимическая проду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троительные материалы и изде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Лесная и деревообрабатывающая промыш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6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Сельское хозяйство и продоволь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9c1d22"/>
                          </a:solidFill>
                          <a:latin typeface="Arial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bff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8"/>
          <p:cNvSpPr/>
          <p:nvPr/>
        </p:nvSpPr>
        <p:spPr>
          <a:xfrm>
            <a:off x="423360" y="581040"/>
            <a:ext cx="5371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c1d22"/>
                </a:solidFill>
                <a:latin typeface="Calibri"/>
                <a:ea typeface="Arial"/>
              </a:rPr>
              <a:t>Действует всего около 27 000, в том чис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932360" y="5518080"/>
            <a:ext cx="28083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недрения иннова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300"/>
              </a:spcBef>
              <a:buClr>
                <a:srgbClr val="8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щиты интересов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14788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EA3-CFD4-4B2F-B32A-42AE809A8B1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44280"/>
            <a:ext cx="84596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ГОСУДАРСТВЕННЫЕ  СТАНДА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c1d22"/>
                </a:solidFill>
                <a:latin typeface="Calibri"/>
              </a:rPr>
              <a:t>РЕСПУБЛИКИ  БЕЛАРУ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8193240" y="5649840"/>
            <a:ext cx="131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F436-3586-4D24-90A2-2A165F975A1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130320" y="1557360"/>
            <a:ext cx="8258040" cy="703800"/>
          </a:xfrm>
          <a:prstGeom prst="rect">
            <a:avLst/>
          </a:prstGeom>
          <a:solidFill>
            <a:srgbClr val="d2edee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5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а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601 тема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252 межгосударственных станд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98280" y="2422440"/>
            <a:ext cx="82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В</a:t>
            </a: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Calibri"/>
                <a:ea typeface="Calibri"/>
              </a:rPr>
              <a:t>2015 году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было утверждено и введено в действие </a:t>
            </a:r>
            <a:r>
              <a:rPr b="1" i="1" lang="ru-RU" sz="1800" spc="-1" strike="noStrike">
                <a:solidFill>
                  <a:srgbClr val="800000"/>
                </a:solidFill>
                <a:latin typeface="Calibri"/>
                <a:ea typeface="Calibri"/>
              </a:rPr>
              <a:t>2068 государственных стандартов (СТБ и ГОС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12"/>
          <p:cNvSpPr/>
          <p:nvPr/>
        </p:nvSpPr>
        <p:spPr>
          <a:xfrm>
            <a:off x="2138400" y="98100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7e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Итоги 2015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Скругленный прямоугольник 7"/>
          <p:cNvSpPr/>
          <p:nvPr/>
        </p:nvSpPr>
        <p:spPr>
          <a:xfrm>
            <a:off x="2274840" y="316548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6f6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лан на 2016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179280" y="3728880"/>
            <a:ext cx="8209080" cy="703800"/>
          </a:xfrm>
          <a:prstGeom prst="rect">
            <a:avLst/>
          </a:prstGeom>
          <a:solidFill>
            <a:srgbClr val="deded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6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о 408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 тем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24 межгосударственных станда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2274840" y="4838760"/>
            <a:ext cx="4103640" cy="407880"/>
          </a:xfrm>
          <a:prstGeom prst="roundRect">
            <a:avLst>
              <a:gd name="adj" fmla="val 16667"/>
            </a:avLst>
          </a:prstGeom>
          <a:solidFill>
            <a:srgbClr val="484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оект плана на 2017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8"/>
          <p:cNvSpPr/>
          <p:nvPr/>
        </p:nvSpPr>
        <p:spPr>
          <a:xfrm>
            <a:off x="201600" y="5384880"/>
            <a:ext cx="8209080" cy="703800"/>
          </a:xfrm>
          <a:prstGeom prst="rect">
            <a:avLst/>
          </a:prstGeom>
          <a:solidFill>
            <a:srgbClr val="c1c2c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 проект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ПГС 2017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включено 344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 темы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,  в том числе </a:t>
            </a: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Calibri"/>
              </a:rPr>
              <a:t>155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41:51Z</dcterms:created>
  <dc:creator>client906_10</dc:creator>
  <dc:description/>
  <dc:language>en-US</dc:language>
  <cp:lastModifiedBy>client906_3</cp:lastModifiedBy>
  <cp:lastPrinted>2016-06-22T15:05:02Z</cp:lastPrinted>
  <dcterms:modified xsi:type="dcterms:W3CDTF">2016-06-24T11:17:54Z</dcterms:modified>
  <cp:revision>380</cp:revision>
  <dc:subject/>
  <dc:title>Презентация PowerPoint</dc:title>
</cp:coreProperties>
</file>