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364B-D3B0-418F-91EB-B840F6C0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7DB9-A4B4-4FFA-B3DF-8082188D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4E47-D347-45C7-878C-3A4E2C4B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D865-85EB-40A0-A051-23D339DE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934A-8455-4377-835E-0E041F99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0645-7090-41FA-8A04-A1AEB4BA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3935-7270-41D8-A833-FEC48577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8813-EB7D-4A7D-9C50-9DFAB309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113A-7ED9-436B-A754-13246527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6BD6-0597-42C5-A8A2-AAE5ADA3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5C8E-337D-4B2B-8631-3F2A1C79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9A02-CC3C-43A3-8EC8-4E382F13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9CE9-749D-4B9D-B126-BC54684B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0FD6-72BD-4F07-871F-F87153A3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DFA4-D0E7-4D1C-83F5-AF275232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35BA-B080-411B-9DD6-F1C35488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D7F8-BD97-4FEA-99CC-F644C15D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8B0C-2A29-46ED-943B-8899DB25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0802-033D-4016-9DA7-C5011576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5E0B-5575-48A3-9D57-E7954489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B8FF-A5D2-4B39-9077-6C4CE077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E79-9B36-472F-89F1-57F3023F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2B3F-D90F-46FA-9BBE-78A61EEF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2454-BE88-4C88-93F1-D2A31BD5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_"/>
          <p:cNvPicPr/>
          <p:nvPr/>
        </p:nvPicPr>
        <p:blipFill>
          <a:blip r:embed="rId2"/>
          <a:stretch/>
        </p:blipFill>
        <p:spPr>
          <a:xfrm>
            <a:off x="-4680" y="-3240"/>
            <a:ext cx="991692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0AF6-7035-491E-AA35-895B494A9D1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6054-3600-4717-8709-48BD28A289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276B-CA70-4FAB-AEA1-828BFA5F1EF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B878-9FDC-4FC7-94F4-90137CB90F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s-etalon.ru/DB/com/index.htm?RU,MGS_EIU" TargetMode="External"/><Relationship Id="rId2" Type="http://schemas.openxmlformats.org/officeDocument/2006/relationships/hyperlink" Target="http://www.gos-etalon.ru/DB/com/index.htm?RU,MGS_EIU" TargetMode="External"/><Relationship Id="rId3" Type="http://schemas.openxmlformats.org/officeDocument/2006/relationships/hyperlink" Target="http://www.gos-etalon.ru/DB/com/index.htm?RU,MGS_EIU" TargetMode="External"/><Relationship Id="rId4" Type="http://schemas.openxmlformats.org/officeDocument/2006/relationships/hyperlink" Target="http://www.gos-etalon.ru/DB/com/index.htm?RU,MGS_EIU" TargetMode="External"/><Relationship Id="rId5" Type="http://schemas.openxmlformats.org/officeDocument/2006/relationships/hyperlink" Target="http://www.gos-etalon.ru/DB/com/index.htm?RU,MGS_EIU" TargetMode="External"/><Relationship Id="rId6" Type="http://schemas.openxmlformats.org/officeDocument/2006/relationships/hyperlink" Target="http://www.gos-etalon.ru/DB/com/index.htm?RU,MGS_EIU" TargetMode="External"/><Relationship Id="rId7" Type="http://schemas.openxmlformats.org/officeDocument/2006/relationships/hyperlink" Target="http://www.gos-etalon.ru/DB/com/index.htm?RU,MGS_EIU" TargetMode="External"/><Relationship Id="rId8" Type="http://schemas.openxmlformats.org/officeDocument/2006/relationships/hyperlink" Target="http://www.gos-etalon.ru/DB/com/index.htm?RU,MGS_EIU" TargetMode="External"/><Relationship Id="rId9" Type="http://schemas.openxmlformats.org/officeDocument/2006/relationships/hyperlink" Target="http://www.gos-etalon.ru/DB/com/index.htm?RU,MGS_EIU" TargetMode="External"/><Relationship Id="rId10" Type="http://schemas.openxmlformats.org/officeDocument/2006/relationships/hyperlink" Target="http://www.gos-etalon.ru/DB/com/index.htm?RU,MGS_EIU" TargetMode="External"/><Relationship Id="rId11" Type="http://schemas.openxmlformats.org/officeDocument/2006/relationships/hyperlink" Target="http://www.gos-etalon.ru/DB/com/index.htm?RU,MGS_EIU" TargetMode="External"/><Relationship Id="rId12" Type="http://schemas.openxmlformats.org/officeDocument/2006/relationships/hyperlink" Target="http://www.gos-etalon.ru/DB/com/index.htm?RU,MGS_EIU" TargetMode="External"/><Relationship Id="rId13" Type="http://schemas.openxmlformats.org/officeDocument/2006/relationships/hyperlink" Target="http://www.gos-etalon.ru/DB/com/index.htm?RU,MGS_EIU" TargetMode="External"/><Relationship Id="rId14" Type="http://schemas.openxmlformats.org/officeDocument/2006/relationships/hyperlink" Target="http://www.gos-etalon.ru/DB/com/index.htm?RU,MGS_EIU" TargetMode="External"/><Relationship Id="rId15" Type="http://schemas.openxmlformats.org/officeDocument/2006/relationships/hyperlink" Target="http://www.gos-etalon.ru/DB/com/index.htm?RU,MGS_EIU" TargetMode="External"/><Relationship Id="rId16" Type="http://schemas.openxmlformats.org/officeDocument/2006/relationships/hyperlink" Target="http://www.gos-etalon.ru/DB/com/index.htm?RU,MGS_EIU" TargetMode="External"/><Relationship Id="rId17" Type="http://schemas.openxmlformats.org/officeDocument/2006/relationships/hyperlink" Target="http://www.gos-etalon.ru/DB/com/index.htm?RU,MGS_EIU" TargetMode="External"/><Relationship Id="rId18" Type="http://schemas.openxmlformats.org/officeDocument/2006/relationships/hyperlink" Target="http://www.gos-etalon.ru/DB/com/index.htm?RU,MGS_EIU" TargetMode="External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23079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uuu1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20"/>
          <p:cNvSpPr/>
          <p:nvPr/>
        </p:nvSpPr>
        <p:spPr>
          <a:xfrm>
            <a:off x="3243240" y="1465200"/>
            <a:ext cx="61549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ru-RU" sz="17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ФГУП «Всероссийский научно-исследовательский институт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ru-RU" sz="17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физико-технических  и радиотехнических измерений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"/>
          <p:cNvPicPr/>
          <p:nvPr/>
        </p:nvPicPr>
        <p:blipFill>
          <a:blip r:embed="rId2"/>
          <a:stretch/>
        </p:blipFill>
        <p:spPr>
          <a:xfrm>
            <a:off x="8272440" y="210960"/>
            <a:ext cx="995400" cy="949680"/>
          </a:xfrm>
          <a:prstGeom prst="rect">
            <a:avLst/>
          </a:prstGeom>
          <a:ln w="0">
            <a:noFill/>
          </a:ln>
        </p:spPr>
      </p:pic>
      <p:sp>
        <p:nvSpPr>
          <p:cNvPr id="88" name="TextBox 21"/>
          <p:cNvSpPr/>
          <p:nvPr/>
        </p:nvSpPr>
        <p:spPr>
          <a:xfrm>
            <a:off x="5052960" y="351000"/>
            <a:ext cx="29559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lvl="1" marL="419040" algn="r">
              <a:lnSpc>
                <a:spcPts val="1562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ru-RU" sz="17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ГОСУДАРСТВЕННЫЙ</a:t>
            </a:r>
            <a:br>
              <a:rPr sz="1700"/>
            </a:br>
            <a:r>
              <a:rPr b="1" lang="ru-RU" sz="17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аучный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19040" algn="r">
              <a:lnSpc>
                <a:spcPts val="1562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ru-RU" sz="17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Цент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19040" algn="r">
              <a:lnSpc>
                <a:spcPts val="1562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ru-RU" sz="17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РФ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1"/>
          <p:cNvSpPr/>
          <p:nvPr/>
        </p:nvSpPr>
        <p:spPr>
          <a:xfrm>
            <a:off x="704880" y="2550960"/>
            <a:ext cx="820908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кущее состояние БД  по государственным эталонам стран членов МГС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чет за период  2014-2015 г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 состоянию на 10.04.2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.Ю. Бугае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CF19-2EFA-4CD9-A1EA-CF8D49B6F9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000160" y="15840"/>
            <a:ext cx="548640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9C36-95E7-4704-AA84-76F8E13C24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649600" y="115920"/>
            <a:ext cx="5460840" cy="4654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2505240" y="5229360"/>
            <a:ext cx="6222960" cy="79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ямой адреса доступа к БД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A0F1-FAF4-4DD8-B553-70AAC367BB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344520" y="3105000"/>
            <a:ext cx="90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gos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-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etalon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.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ru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 /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DB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/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com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/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index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.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htm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?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U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GS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_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I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за данных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“Реестр государственных эталонов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ан-членов МГС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97FC-5DD9-493F-A4CE-D475CB5148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073240" y="1790640"/>
            <a:ext cx="622296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Интерфейс доступа к Б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Номер слайда 2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4A10-9393-4708-8169-399619D2D0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639800" y="1341360"/>
            <a:ext cx="66261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ример документа в Интернете доступ к Б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омер слайда 2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928F-499F-4A0A-AB6D-1C97E1BE97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000160" y="1270080"/>
            <a:ext cx="438156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88520" y="3330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0379-B87E-44CE-AE36-950F8E76A2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09:28:24Z</dcterms:created>
  <dc:creator>User</dc:creator>
  <dc:description/>
  <dc:language>en-US</dc:language>
  <cp:lastModifiedBy>Пользаватель</cp:lastModifiedBy>
  <dcterms:modified xsi:type="dcterms:W3CDTF">2015-04-21T11:15:39Z</dcterms:modified>
  <cp:revision>58</cp:revision>
  <dc:subject/>
  <dc:title>Слайд 1</dc:title>
</cp:coreProperties>
</file>