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D1C-53FE-4421-95CC-8E300DA0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0AA-E277-4A9F-B1CC-4C7D094B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3D6FE-DE95-4863-8A56-1AFEB8A4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BE6C8-1668-45F0-BC3B-3B9C609C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3DEB7-F134-45A5-802C-0F93FD19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EC46B-51C7-4987-89C3-24A8A7A6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C4651-DA0B-46A4-A732-6EFC2827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DEFB8-E9A1-4015-9357-77DC371C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93B0A-C8C8-4E54-B752-5270F164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36387-31D7-4275-BF0D-68E3CBC6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B25BE-629B-4F15-A7AF-A113BB70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1FCE7-11CD-43D4-855D-8F8CEEE7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340D-332B-43B2-BE9E-4601EBCD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EA50E-223B-447E-A2AE-F4C6D044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DC567-5C9C-49E9-B01D-820DB03B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ADFA4-D5C5-4DA0-B3C3-D1FA3B80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5990D-BB59-4033-8ED8-C537ADFF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EB36A-C027-4972-9F66-63602970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BC55F-6D5E-48F3-95DD-9F150A9F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BA7EF-AEC2-440C-82AA-8BC76467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85D79-5BCA-45D2-9BE3-4A1EF588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ED62D-870A-4AA5-B467-449A59FD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A0A28-ABB4-414B-8C13-53F75BF3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3A7C-4DF6-4B7D-98B2-3FF948C6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B0FAB-13C5-4422-9160-9EC40C83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E9985-EACE-4829-A0F7-B35EF75F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F15C6-C263-4FB9-A0B5-A0C2158E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8F47E-E4A8-4662-92BE-C50E23B9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2760C-00F5-4289-8D27-642C9755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561FF-5EC4-46C6-B110-CC7AE7E9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73FFF-CD53-45CC-8BA5-9A485AE0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1A3A3-573D-4848-84B0-9D989E9D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17E75-D020-424A-AC44-F369F6C5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CB07C-7F9B-46B5-858E-321B1B0A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675C-B243-40CD-B76B-E1E345BE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20FB3-4C2A-4F11-81DE-76368EC6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58FEE-88B3-4000-B934-104FBD58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8499B-6558-4F75-9AE2-F590797E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9405A-B923-40C6-AA89-26919DA6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A2C15-D6B5-4662-BF9C-ABF7B691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B9482-7E43-4881-B0D3-8C0BCC89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3B405-A5AD-4BB5-819C-D4E8B268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941E5-31F0-4E88-8C17-BBA9F930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4BD00-66C6-41BE-AE92-427B93B7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144D4-735F-4D00-AD14-57E02215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F1F8-764C-44C6-8E2C-3CD3373D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63992-AB05-4304-8D5B-486AFAFD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9A469-661A-40BA-B620-C981BB99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518F2-83CA-4C75-8B7A-85270E1F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DC48D-30C4-4A45-AEFB-0B3C9427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9119B-611F-4ECE-8E13-ABE358F3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DB174-57C3-41B1-A8C3-02D21567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0392F-A20D-485D-8E69-BEC18409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29948-C2C9-4A77-B7E6-CAB0C2A9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254B7-EC74-4039-8B56-39EB2EE2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E0CA9-32B3-4603-8BA3-EFA835D5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CAB5-E533-4335-BE7E-2FB2EDAD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E49BB-F640-42D0-9775-40E3F0E3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55905-C604-48E9-80E0-0CE94BE8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88F30F-91ED-44FA-8AD4-0B97C178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53B3E0-19CA-44A8-94E7-B321EB3B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D5A4F-540A-43A4-B16E-0BA6953F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57E6C-E7CB-4982-B59D-3A24D866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F562A-D462-428F-A5E4-C232B44B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89C13-53FB-40FD-95A4-36C02C4E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EDB3CF-C975-4C11-AD25-85E45B97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DCF25F-86E0-4C57-8520-00DD1E63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D63F-A30A-46E2-BFAE-C45FD56A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3DC966-9CE8-4CEC-BD28-5ABC710A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726725-AA47-4914-94AE-3452FC45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F38F6B-4457-418A-9DF6-2513556A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B2F09-0A52-4444-AC55-F02A09B3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FDFFE-3E98-4530-95D1-AE951953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107F8-6DE2-4C4D-907B-D71CEEC7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34988-3BD0-4B11-A39C-162904E7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B146A-2206-41FB-AD37-B1B30EAF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77CFA-15D8-4383-B16B-D05099D1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B47E5-4714-4B7E-9C9C-4F0BEBEC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6A00-6A4E-4EE7-959A-461BC3F6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CE0D61-B787-4AEC-A258-664B94A5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B3063C-9F50-4931-AAB6-E75C854F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04BBC3-2248-490F-B278-1017E4C6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D12171-316F-4BBB-B857-E25CE6BC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B0D835-4A76-43EF-A5C8-3E4CE6E3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1948A7-3AC3-4F90-A8FB-5C19D4DE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BFA661-4F2B-42F0-9EF0-7F468AE1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4B6EA1-7F63-4FA9-8F79-DBABF3C8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D09C16-BEA7-44DB-84D3-2DD81510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8656AC-2430-4684-AEBD-36BDA66E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ECFE-301C-42F1-A8BD-3C303B95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DAABB9-17DC-4D47-B76A-CC1035C2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8FA91B-F015-488B-A1C3-C25BD7A5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9BC4C2-FF7B-4E17-AF69-C1F32F31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4945D2-3225-458B-AEF9-9DB20CFA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D1FD2-CFD7-4024-B16B-21EE65E7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2C66EF-F27D-4362-B02D-87388087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6C19CC-6708-4393-8557-99277F71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8876D3-7F22-4B70-90BC-CBE13EE8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0C3D61-4578-4C11-8AA1-00439013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DECF48-695B-4C3C-B2E0-0D79CC78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08FA-73E1-4616-875C-96C44A41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0D01F1-0CAE-48AC-9C44-B5582E2E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9AE0EB-64F2-4EC6-80CD-CADF3E6C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E77DD7-F3D7-4A8C-B254-704458FF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4773-B648-43DB-AE30-75D4CDA9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8B7B-656C-452C-857B-8267DA01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43A6-373C-4B16-8813-4E0DCB18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59C9-89AB-4751-8B7E-0F07BF92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A071-1839-443F-BCA1-2D45A301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0609-0C68-4256-B8C8-4FCE906D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C7F21-D099-464F-87EE-904BA400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A8AEB-CA02-4B8D-A27D-A5FD0227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0296A-DAD5-4EA6-B9BE-D2E6332F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3A0B1-E31D-4AA4-BFE2-88585C49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2C58C-002C-48C5-9324-61203B0A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347F-5FD5-4191-BE26-84547534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95A42-FB5D-41EF-A1F9-4C9A56F7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BAAC3-AEAA-4E71-A9D6-AEECC1E5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12323-AA97-4017-8262-64F53D49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8BBEA-5266-4CA8-AA57-E934CD20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8D604-9933-45D5-B64A-E91E3BE3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DF949-81FF-4AE5-99B2-A23B618D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080C3-1F3D-4840-8499-792D537F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87F46-D564-4F9B-AE87-F32653A1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A3001-7290-489C-8922-ECB9B785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3808E-2BEC-4483-9E91-3BAEC18A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FC5-B3BA-4E1A-82F9-92FE58FE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8E549-62EF-43CD-BE58-D99909E6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1EDAA-B950-415F-8819-E1D63340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A3BF5-5B3E-47C2-86C5-D20052EC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DAAA1-F3E8-43BA-804F-833FF028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B9132-8842-434B-92F9-DBD35A9C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70215-866D-4A01-9692-6A11E050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B97B1-0EA7-4D12-9D39-71CE9DD1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B122F-2AFE-4056-B065-2CA6D126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BC052-8C0D-491A-9916-F6C4B042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6A15C-8DD5-4875-BC61-7B15231E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C0ED-BA92-4B69-817A-1C5C155C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6D198-ED6C-4D9F-B894-476EA50D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6BE0E-2AF9-4007-9A5D-E233D94D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0B49D-E359-4DCA-A673-91AE8343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05B0C-88CD-4E39-B2BF-C894D56A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85B59-9455-4648-983F-0193DB95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DEFCF-D90E-4D85-80EA-41AD554D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E9438-9C32-4BBC-A9A0-933B06DD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9342B-798A-462A-836F-B99D4F62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42B4D-9308-4E3E-9E3E-73B76184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92967-F722-4A2A-A9FF-84953BA1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E096-FD79-4574-BF92-D0CF1319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48F69-0D74-4678-8022-D3D21EA4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AEC88-EA55-4CAC-A244-F5F9424D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621CC-063F-4AE9-9562-2876B85E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9309B-3CD8-4B3E-9798-99A1B375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FDE1D-861C-46A8-9D57-34DE1F54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39466-F440-48B2-8C08-F36295D7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4FAA2-53B8-45AC-93E1-31967FBB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13F09-D296-4D7B-B466-330EFF41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1EE46-6061-458F-A352-45C41352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4B4E8-7A21-4169-936E-C56A7E6D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7E7-5AE3-4A4F-A900-CB82EC94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3D360-FBD0-4932-92B5-8E2BE645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0268C-C4A3-4BD0-BA48-5A65C896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BB92D-26E8-4144-9AE2-759E1C59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876EF-9FCE-40B3-8530-03981D5D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47C08-1F7A-4C9A-B1B6-B436E09F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12FAC-50D1-40E2-B8F1-7EB33CDE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D40EE-908D-4CC5-B056-CEFF990C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C95D4-478C-4B43-9B61-1EA554F2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D18EB-1BCD-4B81-B4C1-4C420BF2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16BC3-33B9-4129-BBAD-B6A15CEC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CE9-71F3-4768-975D-D896DA2B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A4C22-233D-4D29-9A15-B6E0700F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83057-A2B2-4B88-861F-09B9EEA9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CAC39-970A-498F-A935-F50FEC3E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49CDF-2A18-4C99-90D3-1118FF45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8E6BA-26B3-4539-A7BF-63497625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4B370-BBBE-4070-BCA4-3ABC3CD8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23B9D-1C08-438C-884C-DF39062A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50FDB-3706-4916-8A32-59F147FF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11295-DE32-4B74-933E-A01018E6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A7CF8-3C72-4AF5-9D4B-CB732C36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D4B3-4F46-4E92-B2A7-1E5859C3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93116-1F56-46C8-8CFE-F32D0F99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85113-C05A-4A43-8E2E-1457BC14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B3F34-D200-422C-A9AF-CF0F19CA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84584-4413-424D-B504-100664B1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84F24-B589-4089-89FA-293FFCF2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63F04-437A-4F6E-8522-3A4FAC71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97411-466B-4815-AC0E-73B51ACC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CCECC-E59F-4532-879C-A0564BEC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E5CD6-66AD-4A3B-BFC1-313EEA19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2D6BC-9D48-4EF6-968C-4C96F477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95DB-A785-4A07-BEED-89BC1C4D99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C795-CD93-4D64-A591-45EE3D887B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E47E-67CA-4E80-A6B2-15C90B6B76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6146-C795-4ECE-A4CA-42B9F1D48C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5CA6-45B1-4200-8440-4DBED54829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4819-3676-44DE-B125-9E19502E55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BD9E-FFD1-42C4-8D2E-957F696810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BFEB-7F40-4B4D-8868-C196937350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0F09-3FA8-43DE-8378-9F5C6B9D0E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C5C7-E2AA-4786-B173-8A5C2F9687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DE2E-E97C-4B95-A90E-AA69889D6F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B115-69F7-41CD-979A-F7507B8F0F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AFF2-03CF-455A-A62E-904A31A470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3849-135C-4A30-9C55-39BF85EF31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A458-F9A2-41C6-A1AF-D03E622CC6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395B-57FB-477C-A8EE-FBCC8BF6FE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7018-7506-4E05-8AAF-B7447C9BACE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452520" y="208080"/>
            <a:ext cx="81518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380880" y="2133720"/>
            <a:ext cx="829476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проек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Ы ПО СОЗДАНИЮ И ПРИМЕНЕНИЮ МЕЖГОСУДАРСТВЕННЫХ СТАНДАРТ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ЦОВ СОСТАВА И СВОЙСТВ ВЕЩЕСТВ И МАТЕРИАЛ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2016-2020 Г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9" name="Picture 70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148200" cy="85392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3"/>
          <p:cNvSpPr/>
          <p:nvPr/>
        </p:nvSpPr>
        <p:spPr>
          <a:xfrm>
            <a:off x="730080" y="1341360"/>
            <a:ext cx="81518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1-е заседание НТКМет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8-29 апреля 2015 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700200" y="5084640"/>
            <a:ext cx="815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филатова О.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дел ГССО ФГУП «УНИИМ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сстандар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80CD-85F3-4A19-97AD-143CB415755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Прямоугольник 4"/>
          <p:cNvSpPr/>
          <p:nvPr/>
        </p:nvSpPr>
        <p:spPr>
          <a:xfrm>
            <a:off x="555480" y="1341360"/>
            <a:ext cx="84265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 соответствии с поручением 46-го заседания МГС (п.15.2.2 протокола) Росстандартом (ФГУП «УНИИМ») подготовлен 1-й проект Программы по созданию и применению межгосударственных стандартных образцов состава и свойств веществ и материалов на 2016-2020 год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Основная цель Программы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- повышение метрологического уровня и качества измерений в приоритетных направлениях сотрудничества государств СНГ при добыче и переработке углеводородного сырья, при испытаниях в области энергосбережений и в области наноиндустрии, при испытаниях сельскохозяйственной продукции, объектов окружающей природной среды (почва, воздух, питьевая и сточная воды), стратегически важных объектов (горных пород и материалов, промышленного сырья) и др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433E-D8C4-4BC8-93F6-9E52D6E138C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Прямоугольник 4"/>
          <p:cNvSpPr/>
          <p:nvPr/>
        </p:nvSpPr>
        <p:spPr>
          <a:xfrm>
            <a:off x="574560" y="981000"/>
            <a:ext cx="842508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Программа разработана в целях координации деятельности национальных органов по реализации межправительственных Соглашений и решений  МГС, относящихся к вопросам метрологического обеспечения единства измерений в государствах - участниках Соглашения, при этом все государства - участники Со-глашения в равной мере воспользуются результатами работ по данной Программ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Учитывая опыт формирования аналогичных Программ по созданию и применению межгосударственных стандартных образцов состава и свойств веществ и материалов с 2002 года,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стоящая Программа традиционно сформирована сроком на 5 ле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 1-й проект Программы на 2016–2020 годы включен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- подтвержденные авторами невыполненные позиции из Программы на 2011-2015 год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- предложения, полученные  от Госстандарта Республики Казахстан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- предложения от организаций – разработчиков СО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B4A2-790D-4C0C-ACFC-4760C0578BB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250920" y="279360"/>
            <a:ext cx="87850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Программы по состоянию на 08.04.2015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ает в себя  13 разделов  (57 заданий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них 56 позиций – Российская Федерация и 1 позиция – Республика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захст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272880" y="1413000"/>
          <a:ext cx="8577360" cy="4630680"/>
        </p:xfrm>
        <a:graphic>
          <a:graphicData uri="http://schemas.openxmlformats.org/drawingml/2006/table">
            <a:tbl>
              <a:tblPr/>
              <a:tblGrid>
                <a:gridCol w="432000"/>
                <a:gridCol w="6769080"/>
                <a:gridCol w="1376280"/>
              </a:tblGrid>
              <a:tr h="457200">
                <a:tc>
                  <a:txBody>
                    <a:bodyPr lIns="58680" rIns="58680" tIns="0" bIns="0" anchor="ctr">
                      <a:noAutofit/>
                    </a:bodyPr>
                    <a:p>
                      <a:pPr marL="144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marL="20520" indent="-205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разделов ПРОГРАМ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уемое количество типов МС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и свойств углеводородного сырь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для обеспечения единства измерений в области энергосбереж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51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для обеспечения единства измерений в области атомной энергетики и атомной промышл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для обеспечения единства измерений в сфере наноиндустр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сельскохозяйственной продукции и материалов естественного происхо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для обеспечения единства измерений в пищевой промышл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4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поч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газов и газовых смес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растворов ионов металлов и неметаллов, органических веществ и их раствор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КАЗ) + 3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минерального сырья, горных пород, руд и продуктов их перерабо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4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металлов и сплав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войств веществ и материал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32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для обеспечения единства измерений в сфере здравоохранения и клинической 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FEB4-3D27-466F-94B5-77186A5815E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Прямоугольник 4"/>
          <p:cNvSpPr/>
          <p:nvPr/>
        </p:nvSpPr>
        <p:spPr>
          <a:xfrm>
            <a:off x="395280" y="765000"/>
            <a:ext cx="8424720" cy="81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 выполнении заданий Программы предполагается участие ведущих научно-исследовательских организаций и предприятий государств - участников Программ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Республика Казахста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осточно-Казахстанский филиал РГП «КазИнМетр»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г. Усть-Каменогорс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Российская Федерация: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УП «ВНИИМС», г. Москв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УП «ВНИИМ им. Д.И. Менделеева», Санкт-Петербург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УП «УНИИМ», Екатеринбург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УП «ВИАМ», Москв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С филиал ФГУП «ВНИИФТРИ», Иркутск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БНУ «ВНИИПД», Санкт-Петербург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ОАО «НИЦПВ», Москв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ОАО «Красцветмет», Красноярск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ОАО «ЕЗ ОЦМ», Екатеринбург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ЗАО «Сибтехнология», Тюмен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АО «УЭХК», Новоуральск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УНПП«Геологоразведка», г. Санкт-Петербур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036C-EB5E-4615-A486-527039B784F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Прямоугольник 4"/>
          <p:cNvSpPr/>
          <p:nvPr/>
        </p:nvSpPr>
        <p:spPr>
          <a:xfrm>
            <a:off x="574560" y="981000"/>
            <a:ext cx="788508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Разработка и применение  МСО позволит  обеспечить развитие ряда  Соглашений  СНГ;  будет способствовать устранению технических барьеров и качественному выполнению торгово-расчетных операций; обеспечит достоверный анализ ценовых и качественных параметров экспортируемых и импортируемых товаров (сырья, продуктов питания, нефтяной и химической продукции и т.п.); обеспечит качественный уровень оценки экологической обстановки; повышение качества продуктов питания и продовольственного сырья, обеспечит единство измерений в области энергосбережения, атомной промышленности, в сфере производства и потребления нанопродукции и в сфере здравоохранения и клинической диагности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F8A5-EEA5-4AC8-80F9-64D0CF6F428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Прямоугольник 4"/>
          <p:cNvSpPr/>
          <p:nvPr/>
        </p:nvSpPr>
        <p:spPr>
          <a:xfrm>
            <a:off x="755640" y="2637000"/>
            <a:ext cx="788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8:38:26Z</dcterms:created>
  <dc:creator>Лаб.253</dc:creator>
  <dc:description/>
  <dc:language>en-US</dc:language>
  <cp:lastModifiedBy>Salim</cp:lastModifiedBy>
  <cp:lastPrinted>2015-04-27T12:58:33Z</cp:lastPrinted>
  <dcterms:modified xsi:type="dcterms:W3CDTF">2015-04-29T05:12:06Z</dcterms:modified>
  <cp:revision>157</cp:revision>
  <dc:subject/>
  <dc:title>Государственная система обеспечения единства измерений ТЕРМИНЫ И ОПРЕДЕЛЕНИЯ, ИСПОЛЬЗУЕМЫЕ В ОБЛАСТИ СТАНДАРТНЫХ ОБРАЗЦОВ ISO Guide 30:1992 Terms and definitions used in connection with reference materials  (MOD)  ГОСТ  Руководство ИСО 30:1992, Изменение 1:2008 (проект, RU, первая редакция)</dc:title>
</cp:coreProperties>
</file>