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D448-1952-453B-AB38-BC96F929A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61DB-308A-4FE8-9A87-BCC3C86C7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08D6-38E8-4E7E-9EEE-907B378A0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1CD2-FA1B-47FE-88AF-8709FB795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A7751-AA6E-4D0C-A668-633376A99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AA84A-A00F-4853-AB0E-6DEB4255C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636A6-67AF-46FD-8B4C-B0CAE7017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AF3FC-39E2-4026-96B9-D25EDD3DB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A4698-A34A-42C0-A2A5-A79FE7DDE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1E36F-8EBA-4A69-A362-096CA7D90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D1B70-54FD-4BF8-ACDD-4618844B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DCF1-3698-4770-BEC7-ABA4E8463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3671F-9DD8-4602-9C9D-BEF4984A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C1729-11FE-4847-A243-9DD9156D2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C5FE9-BDCB-49B1-B0D8-402137DD1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37D2C-8908-446D-9AF7-B402A4E7E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11D95-D563-4E42-809E-543002E1E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3C67-A5EF-49A8-A93E-55F7A1A46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472F-D802-47C1-8E89-CB845E646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8767-9018-4F8A-920B-CB5651196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DAD5-3970-4946-B7D3-C617F3C54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E611-5D4E-4E19-B5DC-7E13C12C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A15C-76AC-4005-9585-120115D5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B0E1-9EB8-4250-A22D-D781B219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back_"/>
          <p:cNvPicPr/>
          <p:nvPr/>
        </p:nvPicPr>
        <p:blipFill>
          <a:blip r:embed="rId2"/>
          <a:stretch/>
        </p:blipFill>
        <p:spPr>
          <a:xfrm>
            <a:off x="-4680" y="-3240"/>
            <a:ext cx="9916920" cy="6865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32BB1-F2CF-40DF-9844-33B5B167EC1E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F2C33-60BF-4EF1-B5EE-8B5BAC2FCBC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93DEE-D6D1-4337-BA39-BCEEA38A86F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1BE3C-A140-4981-92FB-35B6942FE8A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os-etalon.ru/DB/com/index.htm?RU,MGS_EIU" TargetMode="External"/><Relationship Id="rId2" Type="http://schemas.openxmlformats.org/officeDocument/2006/relationships/hyperlink" Target="http://www.gos-etalon.ru/DB/com/index.htm?RU,MGS_EIU" TargetMode="External"/><Relationship Id="rId3" Type="http://schemas.openxmlformats.org/officeDocument/2006/relationships/hyperlink" Target="http://www.gos-etalon.ru/DB/com/index.htm?RU,MGS_EIU" TargetMode="External"/><Relationship Id="rId4" Type="http://schemas.openxmlformats.org/officeDocument/2006/relationships/hyperlink" Target="http://www.gos-etalon.ru/DB/com/index.htm?RU,MGS_EIU" TargetMode="External"/><Relationship Id="rId5" Type="http://schemas.openxmlformats.org/officeDocument/2006/relationships/hyperlink" Target="http://www.gos-etalon.ru/DB/com/index.htm?RU,MGS_EIU" TargetMode="External"/><Relationship Id="rId6" Type="http://schemas.openxmlformats.org/officeDocument/2006/relationships/hyperlink" Target="http://www.gos-etalon.ru/DB/com/index.htm?RU,MGS_EIU" TargetMode="External"/><Relationship Id="rId7" Type="http://schemas.openxmlformats.org/officeDocument/2006/relationships/hyperlink" Target="http://www.gos-etalon.ru/DB/com/index.htm?RU,MGS_EIU" TargetMode="External"/><Relationship Id="rId8" Type="http://schemas.openxmlformats.org/officeDocument/2006/relationships/hyperlink" Target="http://www.gos-etalon.ru/DB/com/index.htm?RU,MGS_EIU" TargetMode="External"/><Relationship Id="rId9" Type="http://schemas.openxmlformats.org/officeDocument/2006/relationships/hyperlink" Target="http://www.gos-etalon.ru/DB/com/index.htm?RU,MGS_EIU" TargetMode="External"/><Relationship Id="rId10" Type="http://schemas.openxmlformats.org/officeDocument/2006/relationships/hyperlink" Target="http://www.gos-etalon.ru/DB/com/index.htm?RU,MGS_EIU" TargetMode="External"/><Relationship Id="rId11" Type="http://schemas.openxmlformats.org/officeDocument/2006/relationships/hyperlink" Target="http://www.gos-etalon.ru/DB/com/index.htm?RU,MGS_EIU" TargetMode="External"/><Relationship Id="rId12" Type="http://schemas.openxmlformats.org/officeDocument/2006/relationships/hyperlink" Target="http://www.gos-etalon.ru/DB/com/index.htm?RU,MGS_EIU" TargetMode="External"/><Relationship Id="rId13" Type="http://schemas.openxmlformats.org/officeDocument/2006/relationships/hyperlink" Target="http://www.gos-etalon.ru/DB/com/index.htm?RU,MGS_EIU" TargetMode="External"/><Relationship Id="rId14" Type="http://schemas.openxmlformats.org/officeDocument/2006/relationships/hyperlink" Target="http://www.gos-etalon.ru/DB/com/index.htm?RU,MGS_EIU" TargetMode="External"/><Relationship Id="rId15" Type="http://schemas.openxmlformats.org/officeDocument/2006/relationships/hyperlink" Target="http://www.gos-etalon.ru/DB/com/index.htm?RU,MGS_EIU" TargetMode="External"/><Relationship Id="rId16" Type="http://schemas.openxmlformats.org/officeDocument/2006/relationships/hyperlink" Target="http://www.gos-etalon.ru/DB/com/index.htm?RU,MGS_EIU" TargetMode="External"/><Relationship Id="rId17" Type="http://schemas.openxmlformats.org/officeDocument/2006/relationships/hyperlink" Target="http://www.gos-etalon.ru/DB/com/index.htm?RU,MGS_EIU" TargetMode="External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2680" y="230796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uuu1"/>
          <p:cNvPicPr/>
          <p:nvPr/>
        </p:nvPicPr>
        <p:blipFill>
          <a:blip r:embed="rId1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20"/>
          <p:cNvSpPr/>
          <p:nvPr/>
        </p:nvSpPr>
        <p:spPr>
          <a:xfrm>
            <a:off x="3243240" y="1465200"/>
            <a:ext cx="615492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ru-RU" sz="17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ФГУП «Всероссийский научно-исследовательский институт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ru-RU" sz="17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физико-технических  и радиотехнических измерений»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9" descr=""/>
          <p:cNvPicPr/>
          <p:nvPr/>
        </p:nvPicPr>
        <p:blipFill>
          <a:blip r:embed="rId2"/>
          <a:stretch/>
        </p:blipFill>
        <p:spPr>
          <a:xfrm>
            <a:off x="8272440" y="210960"/>
            <a:ext cx="995400" cy="949680"/>
          </a:xfrm>
          <a:prstGeom prst="rect">
            <a:avLst/>
          </a:prstGeom>
          <a:ln w="0">
            <a:noFill/>
          </a:ln>
        </p:spPr>
      </p:pic>
      <p:sp>
        <p:nvSpPr>
          <p:cNvPr id="88" name="TextBox 21"/>
          <p:cNvSpPr/>
          <p:nvPr/>
        </p:nvSpPr>
        <p:spPr>
          <a:xfrm>
            <a:off x="5052960" y="351000"/>
            <a:ext cx="295596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120" bIns="42120" anchor="t">
            <a:spAutoFit/>
          </a:bodyPr>
          <a:p>
            <a:pPr lvl="1" marL="419040" algn="r">
              <a:lnSpc>
                <a:spcPts val="1562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ru-RU" sz="17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ГОСУДАРСТВЕННЫЙ</a:t>
            </a:r>
            <a:br>
              <a:rPr sz="1700"/>
            </a:br>
            <a:r>
              <a:rPr b="1" lang="ru-RU" sz="17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Научный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19040" algn="r">
              <a:lnSpc>
                <a:spcPts val="1562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ru-RU" sz="17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Центр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419040" algn="r">
              <a:lnSpc>
                <a:spcPts val="1562"/>
              </a:lnSpc>
              <a:tabLst>
                <a:tab algn="l" pos="0"/>
                <a:tab algn="l" pos="839880"/>
                <a:tab algn="l" pos="1679400"/>
                <a:tab algn="l" pos="2519280"/>
                <a:tab algn="l" pos="3359160"/>
                <a:tab algn="l" pos="4199040"/>
                <a:tab algn="l" pos="5038560"/>
                <a:tab algn="l" pos="5878440"/>
                <a:tab algn="l" pos="6718320"/>
                <a:tab algn="l" pos="7558200"/>
                <a:tab algn="l" pos="8397720"/>
                <a:tab algn="l" pos="9237600"/>
                <a:tab algn="l" pos="10077480"/>
                <a:tab algn="l" pos="10917360"/>
              </a:tabLst>
            </a:pPr>
            <a:r>
              <a:rPr b="1" lang="ru-RU" sz="17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РФ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Прямоугольник 1"/>
          <p:cNvSpPr/>
          <p:nvPr/>
        </p:nvSpPr>
        <p:spPr>
          <a:xfrm>
            <a:off x="704880" y="2550960"/>
            <a:ext cx="8209080" cy="24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кущее состояние БД  по государственным эталонам стран членов МГС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тчет за период  2014-2015 г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 состоянию на 20.10.20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.Ю. Бугае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88520" y="33300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</a:rPr>
              <a:t>Спасибо за внимани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Номер слайда 3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A1B8C-9D32-4B31-8B67-275FA6506DB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Номер слайда 3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329E3-1D16-4500-BFDC-61AA70236E5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2205000" y="14400"/>
            <a:ext cx="549612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Номер слайда 1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54937-2924-4323-8056-21FB6A8C272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2505240" y="5229360"/>
            <a:ext cx="6222960" cy="793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"/>
          <p:cNvPicPr/>
          <p:nvPr/>
        </p:nvPicPr>
        <p:blipFill>
          <a:blip r:embed="rId2"/>
          <a:stretch/>
        </p:blipFill>
        <p:spPr>
          <a:xfrm>
            <a:off x="2576520" y="189000"/>
            <a:ext cx="5460840" cy="46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Прямой адреса доступа к БД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Номер слайда 1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1C2C1-4E3B-4BC5-91EC-7504F45403C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Прямоугольник 4"/>
          <p:cNvSpPr/>
          <p:nvPr/>
        </p:nvSpPr>
        <p:spPr>
          <a:xfrm>
            <a:off x="344520" y="3105000"/>
            <a:ext cx="907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http</a:t>
            </a:r>
            <a:r>
              <a:rPr b="0" lang="ru-RU" sz="4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://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www</a:t>
            </a:r>
            <a:r>
              <a:rPr b="0" lang="ru-RU" sz="4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.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/>
              </a:rPr>
              <a:t>gos</a:t>
            </a:r>
            <a:r>
              <a:rPr b="0" lang="ru-RU" sz="4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6"/>
              </a:rPr>
              <a:t>-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7"/>
              </a:rPr>
              <a:t>etalon</a:t>
            </a:r>
            <a:r>
              <a:rPr b="0" lang="ru-RU" sz="4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8"/>
              </a:rPr>
              <a:t>.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9"/>
              </a:rPr>
              <a:t>ru</a:t>
            </a:r>
            <a:r>
              <a:rPr b="0" lang="ru-RU" sz="4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0"/>
              </a:rPr>
              <a:t> /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1"/>
              </a:rPr>
              <a:t>DB</a:t>
            </a:r>
            <a:r>
              <a:rPr b="0" lang="ru-RU" sz="4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2"/>
              </a:rPr>
              <a:t>/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3"/>
              </a:rPr>
              <a:t>com</a:t>
            </a:r>
            <a:r>
              <a:rPr b="0" lang="ru-RU" sz="4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4"/>
              </a:rPr>
              <a:t>/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5"/>
              </a:rPr>
              <a:t>index</a:t>
            </a:r>
            <a:r>
              <a:rPr b="0" lang="ru-RU" sz="4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6"/>
              </a:rPr>
              <a:t>.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7"/>
              </a:rPr>
              <a:t>htm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?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U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,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GS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IU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аза данных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“Реестр государственных эталонов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ран-членов МГС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Номер слайда 1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07766-4A1C-4FFD-8545-4DB4DE4BB51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920880" y="1773360"/>
            <a:ext cx="81356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Динамика эталонной базы по годам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Номер слайда 2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3BC1A-4CA0-454F-83B9-00BD9596371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415800" y="1484280"/>
            <a:ext cx="90010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</a:rPr>
              <a:t>Распределение эталонов по странам и годам представл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Номер слайда 2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A4E88-9EAD-4BCE-9C23-0DFE0260557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Диаграмма 4" descr=""/>
          <p:cNvPicPr/>
          <p:nvPr/>
        </p:nvPicPr>
        <p:blipFill>
          <a:blip r:embed="rId1"/>
          <a:stretch/>
        </p:blipFill>
        <p:spPr>
          <a:xfrm>
            <a:off x="487440" y="1487520"/>
            <a:ext cx="893124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Интерфейс доступа к Б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Номер слайда 2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4C9DE-9650-4D37-BB59-CBA6489152E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1928880" y="1197000"/>
            <a:ext cx="62164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Пример документа в Интернете доступ к Б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Номер слайда 2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F9FE9-99E3-4407-9921-D204FFFC294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1712880" y="1123920"/>
            <a:ext cx="6222960" cy="57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8T09:28:24Z</dcterms:created>
  <dc:creator>User</dc:creator>
  <dc:description/>
  <dc:language>en-US</dc:language>
  <cp:lastModifiedBy>Пользаватель</cp:lastModifiedBy>
  <cp:lastPrinted>2015-10-23T12:01:44Z</cp:lastPrinted>
  <dcterms:modified xsi:type="dcterms:W3CDTF">2015-10-23T12:06:59Z</dcterms:modified>
  <cp:revision>61</cp:revision>
  <dc:subject/>
  <dc:title>Слайд 1</dc:title>
</cp:coreProperties>
</file>