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076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15" descr="Рисунок4"/>
          <p:cNvPicPr/>
          <p:nvPr/>
        </p:nvPicPr>
        <p:blipFill>
          <a:blip r:embed="rId1"/>
          <a:stretch/>
        </p:blipFill>
        <p:spPr>
          <a:xfrm>
            <a:off x="3876840" y="303120"/>
            <a:ext cx="12571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0"/>
          <p:cNvSpPr/>
          <p:nvPr/>
        </p:nvSpPr>
        <p:spPr>
          <a:xfrm>
            <a:off x="-289080" y="479520"/>
            <a:ext cx="993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В РАМКАХ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7751880" y="990720"/>
            <a:ext cx="1162080" cy="24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предложе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722680" y="4387680"/>
            <a:ext cx="3646440" cy="98928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Сертификация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декларирован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на соответствие требованиям ГОСТ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39920" y="1930320"/>
            <a:ext cx="6411960" cy="505080"/>
          </a:xfrm>
          <a:prstGeom prst="rect">
            <a:avLst/>
          </a:prstGeom>
          <a:noFill/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Объекты, для которых необходимо снижение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технических барьеров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951280" y="5411880"/>
            <a:ext cx="325116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Знак допуска на рынок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63560" y="2455920"/>
            <a:ext cx="5764320" cy="4460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еречень ГОСТ, обязательных для примене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285840" y="602928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Свободное обращение продукции 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4367160" y="4132440"/>
            <a:ext cx="344520" cy="23796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AutoShape 9"/>
          <p:cNvSpPr/>
          <p:nvPr/>
        </p:nvSpPr>
        <p:spPr>
          <a:xfrm rot="5400000">
            <a:off x="4474800" y="5759280"/>
            <a:ext cx="258840" cy="519120"/>
          </a:xfrm>
          <a:custGeom>
            <a:avLst/>
            <a:gdLst>
              <a:gd name="textAreaLeft" fmla="*/ 40320 w 258840"/>
              <a:gd name="textAreaRight" fmla="*/ 226800 w 258840"/>
              <a:gd name="textAreaTop" fmla="*/ 129600 h 519120"/>
              <a:gd name="textAreaBottom" fmla="*/ 38952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14360" y="1204920"/>
            <a:ext cx="826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c1d22"/>
                </a:solidFill>
                <a:latin typeface="Arial"/>
                <a:ea typeface="Arial"/>
              </a:rPr>
              <a:t>Разработка Соглашения об устранении технических барьеров в торговле в рамках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3517920" y="2906640"/>
            <a:ext cx="1995480" cy="30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Преимуществ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54200" y="3419640"/>
            <a:ext cx="2523960" cy="67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Не создаем новых видо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документов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940280" y="3422520"/>
            <a:ext cx="3392640" cy="71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Усиление рол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межгосударственной стандартизации</a:t>
            </a:r>
            <a:r>
              <a:rPr b="1" lang="en-US" sz="1200" spc="-1" strike="noStrike">
                <a:solidFill>
                  <a:srgbClr val="003a6b"/>
                </a:solidFill>
                <a:latin typeface="Arial"/>
                <a:ea typeface="Arial"/>
              </a:rPr>
              <a:t> --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сосредоточение усил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на разработке ГОСТ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Стрелка вниз 16"/>
          <p:cNvSpPr/>
          <p:nvPr/>
        </p:nvSpPr>
        <p:spPr>
          <a:xfrm flipH="1" rot="2925600">
            <a:off x="3317040" y="3205440"/>
            <a:ext cx="235080" cy="21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Стрелка вниз 17"/>
          <p:cNvSpPr/>
          <p:nvPr/>
        </p:nvSpPr>
        <p:spPr>
          <a:xfrm flipH="1" rot="19104600">
            <a:off x="5506200" y="3200400"/>
            <a:ext cx="222480" cy="225000"/>
          </a:xfrm>
          <a:prstGeom prst="downArrow">
            <a:avLst>
              <a:gd name="adj1" fmla="val 50000"/>
              <a:gd name="adj2" fmla="val 49854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C96-57D9-4B2F-A793-C236DAC0425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27200" y="654120"/>
            <a:ext cx="77724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ГЛАШЕНИЕ ОБ УСТРАН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ТЕХНИЧЕСКИХ БАРЬЕРОВ В ТОРГОВЛ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196920" y="1521000"/>
            <a:ext cx="87598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статуса межгосударственных стандартов для устранения технических барьеров в торговл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в межгосударственных стандартах обязательных требо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дание обязательности выполнения требований отдельных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единых правил подтверждения соответств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основных условий аккредита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механизма признания подтверждения соответств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Единый знак допуска на рынок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500-44DD-4F65-80D8-B1F105D9806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441360" y="2589120"/>
            <a:ext cx="836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47296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3701-3FDB-43DF-BD82-4D07628B0E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06520" y="498600"/>
            <a:ext cx="8461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 БАРЬЕРЫ  В 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 СОДРУЖЕСТВЕ  НЕЗАВИСИМЫХ 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44600" y="4768920"/>
            <a:ext cx="78357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личный научно-технический уровень национальных экономи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зация национальных экономик в определенных отраслях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народного хозяй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мер по ограничению допуска на рынки продукци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зарубежны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508120" y="4265640"/>
            <a:ext cx="41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Создание  дополнительных  технических барьеров в торговл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Правая фигурная скобка 6"/>
          <p:cNvSpPr/>
          <p:nvPr/>
        </p:nvSpPr>
        <p:spPr>
          <a:xfrm rot="5400000">
            <a:off x="4371480" y="1293480"/>
            <a:ext cx="333360" cy="5651640"/>
          </a:xfrm>
          <a:custGeom>
            <a:avLst/>
            <a:gdLst>
              <a:gd name="textAreaLeft" fmla="*/ 0 w 333360"/>
              <a:gd name="textAreaRight" fmla="*/ 120240 w 333360"/>
              <a:gd name="textAreaTop" fmla="*/ 43920 h 5651640"/>
              <a:gd name="textAreaBottom" fmla="*/ 560772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415800" y="2816280"/>
            <a:ext cx="25196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объекты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ого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егулирования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319800" y="2816280"/>
            <a:ext cx="229860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формы оценки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соответствия объект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511440" y="2816280"/>
            <a:ext cx="23018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требования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к объекта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Стрелка вниз 10"/>
          <p:cNvSpPr/>
          <p:nvPr/>
        </p:nvSpPr>
        <p:spPr>
          <a:xfrm flipH="1" rot="2925600">
            <a:off x="2035800" y="2217960"/>
            <a:ext cx="466920" cy="43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Стрелка вниз 11"/>
          <p:cNvSpPr/>
          <p:nvPr/>
        </p:nvSpPr>
        <p:spPr>
          <a:xfrm flipH="1">
            <a:off x="4448160" y="2262240"/>
            <a:ext cx="455760" cy="419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Стрелка вниз 12"/>
          <p:cNvSpPr/>
          <p:nvPr/>
        </p:nvSpPr>
        <p:spPr>
          <a:xfrm flipH="1" rot="19104600">
            <a:off x="7074000" y="2231640"/>
            <a:ext cx="444240" cy="45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7" name="TextBox 13"/>
          <p:cNvGrpSpPr/>
          <p:nvPr/>
        </p:nvGrpSpPr>
        <p:grpSpPr>
          <a:xfrm>
            <a:off x="2152800" y="1511280"/>
            <a:ext cx="5083200" cy="793800"/>
            <a:chOff x="2152800" y="1511280"/>
            <a:chExt cx="5083200" cy="793800"/>
          </a:xfrm>
        </p:grpSpPr>
        <p:pic>
          <p:nvPicPr>
            <p:cNvPr id="58" name="TextBox 13" descr=""/>
            <p:cNvPicPr/>
            <p:nvPr/>
          </p:nvPicPr>
          <p:blipFill>
            <a:blip r:embed="rId1"/>
            <a:stretch/>
          </p:blipFill>
          <p:spPr>
            <a:xfrm>
              <a:off x="2152800" y="1511280"/>
              <a:ext cx="50832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212920" y="1563840"/>
              <a:ext cx="49611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  <a:ea typeface="Arial"/>
                </a:rPr>
                <a:t>Формирование национальных систем технического регулирован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137-D869-47D9-A9AB-2F561C3D69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882880"/>
            <a:ext cx="911556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менение стандартов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"ГОСТ" в качестве межгосударственны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нятие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бщих правил проведения работ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стандартизации, метрологи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и сертифик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становление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диных обязательных требований к продукции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(услугам)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еспечивающих их безопасность для жизни и здоровья человека, охрану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окружающей среды, совместимость и взаимозаменяемость, а также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диных методов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ка,  издание и распространение межгосударственных стандартов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 других нормативных документов по стандартизации, метрологии и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ртификации, представляющих межгосударственный интере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-28440" y="614520"/>
            <a:ext cx="91440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ОГЛАШЕНИЕ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о проведении согласованной политики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в области стандартизации, метрологии и сертификац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Arial"/>
              </a:rPr>
              <a:t>(г. Москва, 13 марта 1992 года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8520" y="202104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ель: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общих правил проведения работ по стандартизации,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метрологии, сертификации и аккредитации, представляющих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межгосударственный интере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9D3A-F8B0-4639-BE22-4D46249F2E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0"/>
          <p:cNvSpPr/>
          <p:nvPr/>
        </p:nvSpPr>
        <p:spPr>
          <a:xfrm>
            <a:off x="212760" y="647640"/>
            <a:ext cx="8793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ТРАТЕГИЯ РАЗВИТИЯ МГС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А ПЕРИОД ДО 2020 Г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08000" y="1830240"/>
            <a:ext cx="87138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технических регламентов государств-участников СНГ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роли межгосударственной стандартизации в мировом экономическом пространств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межгосударственной стандартизации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одействие применению межгосударственных стандартов в качестве доказательной базы выполнения национальных технических регламентов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устойчивого финансирования межгосударственной стандартиза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9CDC-C83F-402D-8B3A-252D2713FBF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762280" y="1111320"/>
            <a:ext cx="35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Arial"/>
              </a:rPr>
              <a:t>Стратегические цел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08000" y="4808520"/>
            <a:ext cx="8773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законодательства государств-участников СНГ в области подтверждения соответствия в соответствии с международными подходам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идентичности правил и процедур подтверждения соответствия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качества и конкурентно способности производимой в государствах-участниках СНГ продукции и услу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12760" y="143028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Техническое нормирование и стандартизац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212760" y="444672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Подтверждение соответств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0"/>
          <p:cNvSpPr/>
          <p:nvPr/>
        </p:nvSpPr>
        <p:spPr>
          <a:xfrm>
            <a:off x="212760" y="617400"/>
            <a:ext cx="8793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ТРАТЕГИЯ РАЗВИТИЯ МГС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А ПЕРИОД ДО 2020 Г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68120" y="1773360"/>
            <a:ext cx="88822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и гармонизация нормативно-правовых актов в области метролог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межгосударственной системы испытаний и утверждения типа средств измерен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межгосударственной системы признания методик выполнения измерен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и повышение качества эталон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системы обеспечения единства измерений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эффективности метрологического контрол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D1F-EB0C-4D89-B2D2-A9AF7ED39C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832120" y="1081080"/>
            <a:ext cx="35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Arial"/>
              </a:rPr>
              <a:t>Стратегические цел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12760" y="145404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Обеспечение единства измерений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212760" y="4443480"/>
            <a:ext cx="863928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здание механизма взаимного признания результатов работ по аккредитации государствами-участниками СНГ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здание региональной организации по аккредитации государств-участников СНГ, признанной международными организациями по аккредитаци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241200" y="4132440"/>
            <a:ext cx="2138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Аккредитац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241200" y="6091200"/>
            <a:ext cx="777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системы надзора и контрол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236520" y="5784840"/>
            <a:ext cx="547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Государственный надзор (контроль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088240" y="2489040"/>
            <a:ext cx="3087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национальных стандарт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4494240" y="3498840"/>
            <a:ext cx="4516560" cy="2607480"/>
            <a:chOff x="4494240" y="3498840"/>
            <a:chExt cx="4516560" cy="2607480"/>
          </a:xfrm>
        </p:grpSpPr>
        <p:sp>
          <p:nvSpPr>
            <p:cNvPr id="83" name="Овал 10"/>
            <p:cNvSpPr/>
            <p:nvPr/>
          </p:nvSpPr>
          <p:spPr>
            <a:xfrm>
              <a:off x="4917960" y="3743280"/>
              <a:ext cx="3583080" cy="2175120"/>
            </a:xfrm>
            <a:prstGeom prst="ellipse">
              <a:avLst/>
            </a:prstGeom>
            <a:noFill/>
            <a:ln w="12600">
              <a:solidFill>
                <a:srgbClr val="4672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" name="TextBox 5"/>
            <p:cNvSpPr/>
            <p:nvPr/>
          </p:nvSpPr>
          <p:spPr>
            <a:xfrm>
              <a:off x="6208920" y="3498840"/>
              <a:ext cx="84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9916 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TextBox 6"/>
            <p:cNvSpPr/>
            <p:nvPr/>
          </p:nvSpPr>
          <p:spPr>
            <a:xfrm>
              <a:off x="4494240" y="451296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963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Б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" name="TextBox 7"/>
            <p:cNvSpPr/>
            <p:nvPr/>
          </p:nvSpPr>
          <p:spPr>
            <a:xfrm>
              <a:off x="5505480" y="552564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4896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ДСТУ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" name="TextBox 8"/>
            <p:cNvSpPr/>
            <p:nvPr/>
          </p:nvSpPr>
          <p:spPr>
            <a:xfrm>
              <a:off x="6794640" y="5525640"/>
              <a:ext cx="84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787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 РК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" name="TextBox 9"/>
            <p:cNvSpPr/>
            <p:nvPr/>
          </p:nvSpPr>
          <p:spPr>
            <a:xfrm>
              <a:off x="7993440" y="4512960"/>
              <a:ext cx="10173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7934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 Р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" name="Rectangle 4"/>
          <p:cNvSpPr/>
          <p:nvPr/>
        </p:nvSpPr>
        <p:spPr>
          <a:xfrm>
            <a:off x="326880" y="2359080"/>
            <a:ext cx="3818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национальных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х регламентов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68160" y="3000240"/>
          <a:ext cx="3316320" cy="3378240"/>
        </p:xfrm>
        <a:graphic>
          <a:graphicData uri="http://schemas.openxmlformats.org/drawingml/2006/table">
            <a:tbl>
              <a:tblPr/>
              <a:tblGrid>
                <a:gridCol w="1665360"/>
                <a:gridCol w="1650960"/>
              </a:tblGrid>
              <a:tr h="974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 СН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4320">
                      <a:solidFill>
                        <a:srgbClr val="297fd5"/>
                      </a:solidFill>
                    </a:lnL>
                    <a:lnR>
                      <a:noFill/>
                    </a:lnR>
                    <a:lnT w="4320">
                      <a:solidFill>
                        <a:srgbClr val="297fd5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-во национальных технических регламен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297fd5"/>
                      </a:solidFill>
                    </a:lnR>
                    <a:lnT w="4320">
                      <a:solidFill>
                        <a:srgbClr val="297fd5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7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FE1-DD33-4503-B449-C92CA38EFF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14320" y="5414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барьеры в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Содружестве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98680" y="1415880"/>
            <a:ext cx="673236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СОЗДАНА ДОГОВОРНО-ПРАВОВАЯ БАЗА,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в том числ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условия признания результатов оценки (подтверждения) соответств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применение межгосударственных стандарто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3867480" y="2181240"/>
            <a:ext cx="172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Arial"/>
                <a:ea typeface="Arial"/>
              </a:rPr>
              <a:t>В ТО ЖЕ ВРЕМ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427040" y="4210200"/>
            <a:ext cx="679788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альнейшая модернизация экономик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конкурентоспособности продукции и услу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недрение инновационных технологи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ффективное использование ресурсов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ращивание объемов взаимной торгов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54040" y="1751040"/>
            <a:ext cx="8074080" cy="580680"/>
          </a:xfrm>
          <a:prstGeom prst="rect">
            <a:avLst/>
          </a:prstGeom>
          <a:solidFill>
            <a:srgbClr val="d4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елен на активизацию торгово-экономического сотрудничества на прозрачной и понятной для всех стран основ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351000" y="558720"/>
            <a:ext cx="833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ДОГОВОР О ЗОНЕ СВОБОДНОЙ ТОРГОВ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94B-7DA6-4F6D-A082-23B0EDD7B63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6053040" y="1216080"/>
            <a:ext cx="2575080" cy="335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т 18 октября 201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13" descr="Армения"/>
          <p:cNvPicPr/>
          <p:nvPr/>
        </p:nvPicPr>
        <p:blipFill>
          <a:blip r:embed="rId1"/>
          <a:stretch/>
        </p:blipFill>
        <p:spPr>
          <a:xfrm>
            <a:off x="2147484240" y="-26007840"/>
            <a:ext cx="128592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Армения"/>
          <p:cNvPicPr/>
          <p:nvPr/>
        </p:nvPicPr>
        <p:blipFill>
          <a:blip r:embed="rId2"/>
          <a:stretch/>
        </p:blipFill>
        <p:spPr>
          <a:xfrm>
            <a:off x="2147484240" y="-25855560"/>
            <a:ext cx="128592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Армения"/>
          <p:cNvPicPr/>
          <p:nvPr/>
        </p:nvPicPr>
        <p:blipFill>
          <a:blip r:embed="rId3"/>
          <a:stretch/>
        </p:blipFill>
        <p:spPr>
          <a:xfrm>
            <a:off x="2147484240" y="-25855560"/>
            <a:ext cx="128592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47840" y="2500200"/>
            <a:ext cx="840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Статья 11</a:t>
            </a:r>
            <a:br>
              <a:rPr sz="1400"/>
            </a:b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Технические барьеры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тороны во взаимной торговле применяют технические меры, включая технические регламенты, 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стандарты и процедуры оценки соответствия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, руководствуясь 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правилами и принципами Соглашения ВТО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 технических барьерах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0"/>
          <p:cNvSpPr/>
          <p:nvPr/>
        </p:nvSpPr>
        <p:spPr>
          <a:xfrm>
            <a:off x="-407880" y="86688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03440" y="3731040"/>
            <a:ext cx="4659120" cy="13136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Соглашение о межгосударственных технических регламентах государств-участников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117880" y="5049720"/>
            <a:ext cx="3498840" cy="6746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едусматривает разработку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их регламент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698400" y="2078640"/>
            <a:ext cx="4572000" cy="7038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Договор о зоне свободной торговл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117880" y="2784600"/>
            <a:ext cx="3498840" cy="4381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Имеет рамочный характер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ая фигурная скобка 7"/>
          <p:cNvSpPr/>
          <p:nvPr/>
        </p:nvSpPr>
        <p:spPr>
          <a:xfrm>
            <a:off x="6146640" y="1992240"/>
            <a:ext cx="223920" cy="4173480"/>
          </a:xfrm>
          <a:custGeom>
            <a:avLst/>
            <a:gdLst>
              <a:gd name="textAreaLeft" fmla="*/ 0 w 223920"/>
              <a:gd name="textAreaRight" fmla="*/ 80640 w 223920"/>
              <a:gd name="textAreaTop" fmla="*/ 33840 h 4173480"/>
              <a:gd name="textAreaBottom" fmla="*/ 4139640 h 417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3"/>
                  <a:pt x="10800" y="565"/>
                </a:cubicBezTo>
                <a:lnTo>
                  <a:pt x="10800" y="10235"/>
                </a:lnTo>
                <a:cubicBezTo>
                  <a:pt x="10800" y="10518"/>
                  <a:pt x="16200" y="10800"/>
                  <a:pt x="21600" y="10800"/>
                </a:cubicBezTo>
                <a:cubicBezTo>
                  <a:pt x="16200" y="10800"/>
                  <a:pt x="10800" y="11083"/>
                  <a:pt x="10800" y="11365"/>
                </a:cubicBezTo>
                <a:lnTo>
                  <a:pt x="10800" y="21035"/>
                </a:lnTo>
                <a:cubicBezTo>
                  <a:pt x="10800" y="2131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451560" y="3189240"/>
            <a:ext cx="221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е имеют механизма практической реализ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575080" y="5702400"/>
            <a:ext cx="329400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Длительный процесс, требующ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согласования всеми странами СНГ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68F-06BB-4A2A-AC28-40E0888327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7"/>
          <p:cNvSpPr/>
          <p:nvPr/>
        </p:nvSpPr>
        <p:spPr>
          <a:xfrm>
            <a:off x="3279600" y="2681280"/>
            <a:ext cx="2590920" cy="194004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  <a:ea typeface="Arial"/>
              </a:rPr>
              <a:t>ГОСТ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502240" y="1822320"/>
            <a:ext cx="34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Установление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аксимально высоких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ебований с учетом международных и европейских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745240" y="3067200"/>
            <a:ext cx="32479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Обеспечение соответствия продукции перспективным требованиям, конкурентоспособности проду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82520" y="1822320"/>
            <a:ext cx="397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Установление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оптимальных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ебований для обеспечения необходимого уровня безопасност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187960" y="4772160"/>
            <a:ext cx="3805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Модернизация и реконструирование промышленности,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внедрение иннов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1280" y="3243240"/>
            <a:ext cx="328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Исключение излишнего регулирования и снижение нагрузки на бизнес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46240" y="4727520"/>
            <a:ext cx="3498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Оптимальные правила допуска продукции на единую таможенную территор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1247760" y="5865840"/>
            <a:ext cx="69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беспечение безопасности и создание конкурентоспособной продукции, выпускаемой по единым документам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1608120" y="2752560"/>
            <a:ext cx="34920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1820880" y="434808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7012080" y="268128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6721560" y="443700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927080" y="5576760"/>
            <a:ext cx="34956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6330960" y="5576760"/>
            <a:ext cx="34920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4255920" y="2011320"/>
            <a:ext cx="487440" cy="447840"/>
          </a:xfrm>
          <a:prstGeom prst="leftRightArrow">
            <a:avLst>
              <a:gd name="adj1" fmla="val 45389"/>
              <a:gd name="adj2" fmla="val 37581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89CB-70C5-42B6-A1F5-AFDFE782181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-388800" y="80820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client807_1</cp:lastModifiedBy>
  <cp:lastPrinted>2014-09-24T11:03:08Z</cp:lastPrinted>
  <dcterms:modified xsi:type="dcterms:W3CDTF">2014-09-24T11:11:34Z</dcterms:modified>
  <cp:revision>669</cp:revision>
  <dc:subject/>
  <dc:title>Таможенный союз</dc:title>
</cp:coreProperties>
</file>