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2852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C4BB-EA52-4617-AE96-F34F753A3A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4D3C-F620-4CF2-BB06-900EB6B7DF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B794-A507-4202-BED8-C07F6F4CCF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292B-8307-4272-9039-1BF2EEC7CC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E3BE-8818-4EBE-A293-2F91BEF3BE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D1F3-BD49-44C5-B472-ECEDE4194D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19A1-01EA-4A1B-86CC-8821DA7B97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20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 «Лучший менеджер по качеству» 2010 г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2"/>
          <p:cNvSpPr/>
          <p:nvPr/>
        </p:nvSpPr>
        <p:spPr>
          <a:xfrm>
            <a:off x="0" y="0"/>
            <a:ext cx="9144000" cy="598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0" y="6583320"/>
            <a:ext cx="9144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682560" y="509760"/>
            <a:ext cx="84614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" name="Picture 15" descr="Рисунок4"/>
          <p:cNvPicPr/>
          <p:nvPr/>
        </p:nvPicPr>
        <p:blipFill>
          <a:blip r:embed="rId2"/>
          <a:stretch/>
        </p:blipFill>
        <p:spPr>
          <a:xfrm>
            <a:off x="47520" y="55440"/>
            <a:ext cx="690840" cy="48276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0" y="6578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 О С У Д А Р С Т В Е Н Н Ы Й    К О М И Т Е Т    П О   С Т А Н Д А Р Т И З А Ц И И    Р Е С П У Б Л И К И    Б Е Л А Р У С Ь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Line 17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0" y="0"/>
            <a:ext cx="9144000" cy="4705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98680"/>
            <a:ext cx="9144000" cy="28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новные направления и механизмы устранения технических барьеров в торговле</a:t>
            </a:r>
            <a:endParaRPr b="0" lang="en-US" sz="36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0760" y="4827240"/>
            <a:ext cx="8453520" cy="15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Arial"/>
              </a:rPr>
              <a:t>Осмола И.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Директор Научно-производственного республиканского унитарного предприятия «Белорусский государственный институт стандартизации и сертификации»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3" name="Picture 15" descr="Рисунок4"/>
          <p:cNvPicPr/>
          <p:nvPr/>
        </p:nvPicPr>
        <p:blipFill>
          <a:blip r:embed="rId1"/>
          <a:stretch/>
        </p:blipFill>
        <p:spPr>
          <a:xfrm>
            <a:off x="3876840" y="303120"/>
            <a:ext cx="125712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7"/>
          <p:cNvSpPr/>
          <p:nvPr/>
        </p:nvSpPr>
        <p:spPr>
          <a:xfrm>
            <a:off x="3452760" y="3784680"/>
            <a:ext cx="2111400" cy="749160"/>
          </a:xfrm>
          <a:prstGeom prst="ellipse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Услов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2805120" y="1703520"/>
            <a:ext cx="3549600" cy="82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гармонизированные принципы надзора за безопасностью взаимопоставляемой продукци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5494320" y="5064120"/>
            <a:ext cx="3357720" cy="1067400"/>
          </a:xfrm>
          <a:prstGeom prst="rect">
            <a:avLst/>
          </a:prstGeom>
          <a:solidFill>
            <a:srgbClr val="ffffff"/>
          </a:solidFill>
          <a:ln w="1908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применение единых или гармонизированных процедур оценки (подтверждения) соответств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5"/>
          <p:cNvSpPr/>
          <p:nvPr/>
        </p:nvSpPr>
        <p:spPr>
          <a:xfrm>
            <a:off x="290520" y="3281400"/>
            <a:ext cx="2387520" cy="82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4a66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применение единых межгосударственных стандартов (ГОСТ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330960" y="2730600"/>
            <a:ext cx="2662200" cy="82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4a66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согласованные принципы обеспечения единства измерений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AutoShape 21"/>
          <p:cNvSpPr/>
          <p:nvPr/>
        </p:nvSpPr>
        <p:spPr>
          <a:xfrm rot="6275400">
            <a:off x="3007440" y="3231000"/>
            <a:ext cx="212760" cy="804960"/>
          </a:xfrm>
          <a:prstGeom prst="downArrow">
            <a:avLst>
              <a:gd name="adj1" fmla="val 56361"/>
              <a:gd name="adj2" fmla="val 72218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03A8-FEED-4FF2-8A15-6D7F2744FB0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Text Box 40"/>
          <p:cNvSpPr/>
          <p:nvPr/>
        </p:nvSpPr>
        <p:spPr>
          <a:xfrm>
            <a:off x="-388800" y="808200"/>
            <a:ext cx="99392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УСТРАНЕНИЕ ТЕХНИЧЕСКИХ БАРЬЕРОВ В ТОРГОВЛЕ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В РАМКАХ СН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2" name="Rectangle 7"/>
          <p:cNvGrpSpPr/>
          <p:nvPr/>
        </p:nvGrpSpPr>
        <p:grpSpPr>
          <a:xfrm>
            <a:off x="231840" y="5278320"/>
            <a:ext cx="3925800" cy="1025640"/>
            <a:chOff x="231840" y="5278320"/>
            <a:chExt cx="3925800" cy="1025640"/>
          </a:xfrm>
        </p:grpSpPr>
        <p:pic>
          <p:nvPicPr>
            <p:cNvPr id="63" name="Rectangle 7" descr=""/>
            <p:cNvPicPr/>
            <p:nvPr/>
          </p:nvPicPr>
          <p:blipFill>
            <a:blip r:embed="rId1"/>
            <a:stretch/>
          </p:blipFill>
          <p:spPr>
            <a:xfrm>
              <a:off x="231840" y="5278320"/>
              <a:ext cx="3925800" cy="10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290520" y="5326200"/>
              <a:ext cx="3805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признание результатов работ по аккредитации органов по оценке (подтверждению) соответствия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65" name="AutoShape 21"/>
          <p:cNvSpPr/>
          <p:nvPr/>
        </p:nvSpPr>
        <p:spPr>
          <a:xfrm rot="13880400">
            <a:off x="5838480" y="3099960"/>
            <a:ext cx="212760" cy="806400"/>
          </a:xfrm>
          <a:prstGeom prst="downArrow">
            <a:avLst>
              <a:gd name="adj1" fmla="val 56361"/>
              <a:gd name="adj2" fmla="val 72347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AutoShape 21"/>
          <p:cNvSpPr/>
          <p:nvPr/>
        </p:nvSpPr>
        <p:spPr>
          <a:xfrm rot="18025800">
            <a:off x="5589000" y="4383360"/>
            <a:ext cx="212760" cy="804960"/>
          </a:xfrm>
          <a:prstGeom prst="downArrow">
            <a:avLst>
              <a:gd name="adj1" fmla="val 56361"/>
              <a:gd name="adj2" fmla="val 72218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AutoShape 21"/>
          <p:cNvSpPr/>
          <p:nvPr/>
        </p:nvSpPr>
        <p:spPr>
          <a:xfrm rot="10800000">
            <a:off x="4366800" y="2730240"/>
            <a:ext cx="212760" cy="804600"/>
          </a:xfrm>
          <a:prstGeom prst="downArrow">
            <a:avLst>
              <a:gd name="adj1" fmla="val 56361"/>
              <a:gd name="adj2" fmla="val 72185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AutoShape 21"/>
          <p:cNvSpPr/>
          <p:nvPr/>
        </p:nvSpPr>
        <p:spPr>
          <a:xfrm rot="2996400">
            <a:off x="3423240" y="4472640"/>
            <a:ext cx="212760" cy="804960"/>
          </a:xfrm>
          <a:prstGeom prst="downArrow">
            <a:avLst>
              <a:gd name="adj1" fmla="val 56361"/>
              <a:gd name="adj2" fmla="val 72218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8"/>
          <p:cNvSpPr/>
          <p:nvPr/>
        </p:nvSpPr>
        <p:spPr>
          <a:xfrm>
            <a:off x="442800" y="4286160"/>
            <a:ext cx="8258400" cy="612360"/>
          </a:xfrm>
          <a:prstGeom prst="rect">
            <a:avLst/>
          </a:prstGeom>
          <a:solidFill>
            <a:srgbClr val="e7ebf5"/>
          </a:solidFill>
          <a:ln w="1908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66"/>
                </a:solidFill>
                <a:latin typeface="Arial"/>
                <a:ea typeface="Arial"/>
              </a:rPr>
              <a:t>в странах СНГ ведется информационный реестр аккредитованных в Национальной системе аккредитации органов по оценке соответствия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Rectangle 25"/>
          <p:cNvSpPr/>
          <p:nvPr/>
        </p:nvSpPr>
        <p:spPr>
          <a:xfrm>
            <a:off x="463680" y="3090960"/>
            <a:ext cx="8258040" cy="871560"/>
          </a:xfrm>
          <a:prstGeom prst="rect">
            <a:avLst/>
          </a:prstGeom>
          <a:solidFill>
            <a:srgbClr val="edf0f7"/>
          </a:solidFill>
          <a:ln w="19080">
            <a:solidFill>
              <a:srgbClr val="4a66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66"/>
                </a:solidFill>
                <a:latin typeface="Arial"/>
                <a:ea typeface="Arial"/>
              </a:rPr>
              <a:t>в странах СНГ действуют Национальные системы аккредитации, располагающие правилами и процедурами для осуществления аккредитации в соответствии с требованиями ГОСТ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3680" y="5197320"/>
            <a:ext cx="8258040" cy="1130760"/>
          </a:xfrm>
          <a:prstGeom prst="rect">
            <a:avLst/>
          </a:prstGeom>
          <a:solidFill>
            <a:srgbClr val="dae0ef"/>
          </a:solidFill>
          <a:ln w="19080">
            <a:solidFill>
              <a:srgbClr val="4a66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66"/>
                </a:solidFill>
                <a:latin typeface="Arial"/>
                <a:ea typeface="Arial"/>
              </a:rPr>
              <a:t>Национальные органы по аккредитации осуществляют взаимные оценки в целях соблюдения всех иных условий в части аккредитации,  выступающих основой доверия к результатам оценки соответствия, в том числе в рамках Региональной ассоциации по аккредитации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A17A-46D1-48B1-86FE-B99FD205F46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0" y="808200"/>
            <a:ext cx="9144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Условия признания результатов работ по аккредитации органов по оценке (подтверждению) соответств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463680" y="1820880"/>
            <a:ext cx="8258040" cy="871560"/>
          </a:xfrm>
          <a:prstGeom prst="rect">
            <a:avLst/>
          </a:prstGeom>
          <a:solidFill>
            <a:srgbClr val="ffffff"/>
          </a:solidFill>
          <a:ln w="19080">
            <a:solidFill>
              <a:srgbClr val="4a66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66"/>
                </a:solidFill>
                <a:latin typeface="Arial"/>
                <a:ea typeface="Arial"/>
              </a:rPr>
              <a:t>Национальные органы по аккредитации уполномочены осуществлять аккредитацию органов по оценке соответствия и испытательных лабораторий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727200" y="654120"/>
            <a:ext cx="7772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Механизм 1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Принятие межгосударственных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технических регламент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233280" y="2079720"/>
            <a:ext cx="8759880" cy="40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Arial"/>
              </a:rPr>
              <a:t>Обращение продукции без дополнительных требований и процедур оценки соответствия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Arial"/>
              </a:rPr>
              <a:t>Выдача документа по единой форме, имеющего право прямого хождения на территории государств – участников СНГ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Arial"/>
              </a:rPr>
              <a:t>Ведение Единого реестра выданных документов по оценке соответствия на сайте МГС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Arial"/>
              </a:rPr>
              <a:t>Маркировка продукции единым знаком СНГ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Arial"/>
              </a:rPr>
              <a:t>Аккредитация органов по оценке (подтверждению) соответствия (ОС) и испытательных лабораторий (ИЛ) в Национальных системах аккредитации государств – участников СНГ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Arial"/>
              </a:rPr>
              <a:t>Гармонизация национальных законодательств по проведению государственного надзора за безопасностью продукции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8A03-F542-4A10-BEB9-FD5D842851C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33280" y="569880"/>
            <a:ext cx="875988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Механизм 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Формирование Единого перечня продукции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подлежащей обязательной оценке соответств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Arial"/>
                <a:ea typeface="Arial"/>
              </a:rPr>
              <a:t>(при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Arial"/>
                <a:ea typeface="Arial"/>
              </a:rPr>
              <a:t>применении ГОСТ на требования и методы испытаний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106200" y="3333600"/>
            <a:ext cx="9014040" cy="31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оведение работ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уполномоченными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органами в соответствии с национальным законодательством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оведение оценки соответствия на соответствие требованиям ГОС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ыдача документа по единой форме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едение Единого реестра выданных документов на сайте МГС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аркировка продукции единым знаком СН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Обращение продукции без дополнительных требований и процедур оценки соответствия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Аккредитация ОС и ИЛ в Национальных системах аккредитации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армонизация национальных законодательств по проведению надзор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D0E1-F7A3-45D2-9DE9-45F3FFC175E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233280" y="1992240"/>
            <a:ext cx="8506080" cy="135432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6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При этом Единый перечень должен содержать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наименование продукци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формы оценки соответств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бозначение ГОСТ на требован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бозначение ГОСТ на методы контрол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233280" y="569880"/>
            <a:ext cx="875988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Механизм 3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Формирование Единого перечня продукции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подлежащей обязательной оценке соответств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Arial"/>
                <a:ea typeface="Arial"/>
              </a:rPr>
              <a:t>(при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Arial"/>
                <a:ea typeface="Arial"/>
              </a:rPr>
              <a:t>применении ГОСТ на требования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106200" y="3103560"/>
            <a:ext cx="901404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оведение работ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уполномоченными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органами в соответствии с национальным законодательством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оведение оценки соответствия на соответствие требованиям ГОС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Обеспечение сопоставимости методов испытаний (за счет их валидации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ыдача документа по единой форме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едение Единого реестра выданных документов на сайте МГС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аркировка продукции единым знаком СН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Обращение продукции без дополнительных требований и процедур оценки соответствия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Аккредитация ОС и ИЛ в Национальных системах аккредитации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армонизация национальных законодательств по проведению надзор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48D2-87B9-4949-BD29-85C13E7E30D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233280" y="2019240"/>
            <a:ext cx="8759880" cy="108432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6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При этом Единый перечень должен содержать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наименование продукци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формы оценки соответств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бозначение ГОСТ на требован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33280" y="569880"/>
            <a:ext cx="87598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Механизм 4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Взаимное признание национальных сертификат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соответствия на продукцию, производимую в СН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106200" y="2612880"/>
            <a:ext cx="90140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озможность установления требований к продукции и методов испытаний в национальных документах, признанных на уровне СНГ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оведение процедуры признания путем сравнительного анализа требований в национальном документе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оведение работ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уполномоченными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органами в соответствии с национальным законодательством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Аккредитация ОС на соответствие ГОСТ 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ISO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/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IEC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 17065-2013, ИЛ на соответствие ГОСТ ИСО/МЭК 17025-200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Формирование информационного перечня уполномоченных органо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ыдача национального сертификата соответствия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аркировка продукции национальным знаком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ыпуск продукции в обращение - после проведения процедур признан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5A2A-1806-4F19-A32A-05CB75B5E40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33280" y="1693800"/>
            <a:ext cx="8759880" cy="84780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6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При этом </a:t>
            </a:r>
            <a:r>
              <a:rPr b="1" lang="ru-RU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не признаются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национальные декларации о соответстви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национальные сертификаты соответствия на продукцию из третьих стран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33280" y="569880"/>
            <a:ext cx="87598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Механизм 5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Признание протоколов испытаний продукции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производимой в государствах - участниках СН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130320" y="3292560"/>
            <a:ext cx="9013680" cy="32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ыдача национального документа об оценке (подтверждении)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аркировка продукции национальным знаком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Аккредитация ОС и ИЛ в Национальных системах аккредитации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ыпуск продукции в обращение - после проведения процедур оценки соответствия (с учетом признания протоколов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армонизация национальных законодательств по проведению государственного надзора за безопасностью продукци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59B1-F6DD-47F6-9063-3B40322C70E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33280" y="1790640"/>
            <a:ext cx="8359920" cy="150192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6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При этом должны соблюдаться условия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методы испытаний должны быть валидированы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испытательные лаборатории должны быть аккредитованы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на соответствие ГОСТ ИСО/МЭК 17025-200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рок действия протоколов испытаний должен быть не более 1 год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33400" y="3998880"/>
            <a:ext cx="7759800" cy="60336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6040" indent="-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 национальные документы вписываются протоколы испытаний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испытательных лабораторий государств – участников СНГ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33280" y="569880"/>
            <a:ext cx="87598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Механизм 6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Признание работ по оценке соответствия, основанное</a:t>
            </a:r>
            <a:br>
              <a:rPr sz="2400"/>
            </a:b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на заключении двусторонних соглашений между ОС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106200" y="2271600"/>
            <a:ext cx="901404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одписание органами по сертификации двусторонних Соглашени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Аккредитация ОС на соответствие ГОСТ 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ISO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/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IEC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 17065-2013, ИЛ на соответствие ГОСТ ИСО/МЭК 17025-200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оведение взаимных оценок и сличительных испытани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изнание протоколов испытаний ИЛ государств – участников СН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ыдача национального документа об оценке (подтверждении) соответствия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аркировка продукции национальным знаком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ыпуск в обращение - после проведения процедур оценки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Аккредитация ОС и ИЛ в Национальных системах аккредитации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Осуществление государственного надзора за безопасностью продукции по национальному законодательству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7C06-804B-40FD-ACA9-88DC01388FD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33280" y="1712880"/>
            <a:ext cx="8499600" cy="54756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именяется в отношении продукции, производимой на территории СНГ и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оставляемой из третьих стран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93560" y="2612880"/>
            <a:ext cx="8239320" cy="30348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0000" indent="-17460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 состав ОС должна входить испытательная лаборатор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1:54:20Z</dcterms:created>
  <dc:creator>client906_5</dc:creator>
  <dc:description/>
  <dc:language>en-US</dc:language>
  <cp:lastModifiedBy>ПЛАШКОВА</cp:lastModifiedBy>
  <cp:lastPrinted>2014-09-24T11:03:08Z</cp:lastPrinted>
  <dcterms:modified xsi:type="dcterms:W3CDTF">2014-09-28T19:27:46Z</dcterms:modified>
  <cp:revision>712</cp:revision>
  <dc:subject/>
  <dc:title>Таможенный союз</dc:title>
</cp:coreProperties>
</file>